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FBA-20C2-493D-95E0-F207BF33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1A4-F7D1-45B8-A8C1-D9AEB43F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279-B904-4C79-844C-0210C958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4A2-CCDC-4862-B09D-C7DACD01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AF7-B62E-4B63-AB89-33D1C839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332-E144-4C31-BB1D-C4013BB9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A9D-9699-46CC-B9B7-A130E44F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81B-0F51-488B-9481-E9C2F35E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C1E-6724-433E-9FE3-BBA52384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D55-B82C-466C-8929-4F30BA78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BBB-CB1D-4CBB-BE50-24DD0B6D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D16-208B-4D41-9AC4-4872258D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3D83-6D3B-49E4-8322-564595320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10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wA Co-Chair and Task Lead Strategy Session 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, Tools and Product Evaluation Working Group Status Brief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3657600"/>
            <a:ext cx="815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-Chair(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ael Kass (NIST), Larry Wagoner (N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31,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omated Test Case Generation (TC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ed by D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SAMATE effort to expand SRD to cover as many CWE’s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upon OMG MDA Technology (MOF, UML, XM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formalized CWE definitions (SBV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ctual Formalization that is based on OMG standard, Semantics of Business Vocabulary and Rules (SBVR)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Formalization that is based on OMG standard, Knowledge Discovery Metamodel (KD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72200" y="457200"/>
            <a:ext cx="1828800" cy="175248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1522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mal CWE Definitions (SBVR/KD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209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ol Tests (c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2209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de Analysis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tcg" descr=""/>
          <p:cNvPicPr/>
          <p:nvPr/>
        </p:nvPicPr>
        <p:blipFill>
          <a:blip r:embed="rId2"/>
          <a:stretch/>
        </p:blipFill>
        <p:spPr>
          <a:xfrm>
            <a:off x="7696080" y="838080"/>
            <a:ext cx="1314720" cy="657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>
            <a:off x="67816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6858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172200" y="68544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kdm_analyzer" descr=""/>
          <p:cNvPicPr/>
          <p:nvPr/>
        </p:nvPicPr>
        <p:blipFill>
          <a:blip r:embed="rId3"/>
          <a:stretch/>
        </p:blipFill>
        <p:spPr>
          <a:xfrm>
            <a:off x="5486400" y="914400"/>
            <a:ext cx="762120" cy="60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876920" y="9907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WE Form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Box Definitions : Focus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terns of the inner components and their interactions (that determine certain observable behavi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“compliance points”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 patterns of code (as they can be directly identified in co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discernable properties of patterns of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auto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direct step-by-step comparisons of the decision procedures implemented withi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ATE and CW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iveness Progra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-term goal : To auto-generate tool tests using formal CWE definitions in collaboration with MITRE’s CWE Effectiveness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tests “ad hoc” to tool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rs run tests against their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rs can publish tes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G: Where are we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G Stat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generate tests for 3 CWE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 CWE white-box definitions for “high priority” CWE’s  are complete based upon the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erm, TGC will cover as many CWEs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oding complex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AMATE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tests for web application scann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to existing tests for source code security analy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tool effectiveness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ng binary analy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atic analyzer tool exposition (S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ftware transparency/pedigre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ST will be hosting SwA Forum in October 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y to showcase NIST’s work in S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stworthy System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LAP (CC labs, Crypto Testing, Voting System Testing Laboratory Accredid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ST Special Pubs (FIPS, SP 500 and 800 se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System Testing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066680"/>
            <a:ext cx="8610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Weakness Enumeration (CW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Attack Pattern Enumeration (CAPE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Assurance Metrics and Tool Evaluation (SAMATE)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G Software Assurance Framework and Tool Tes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T&amp;PE Working Group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7560"/>
            <a:ext cx="9144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WE Draft 8 (30 Jan 0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89080" y="773280"/>
            <a:ext cx="5180040" cy="5713200"/>
            <a:chOff x="1189080" y="773280"/>
            <a:chExt cx="5180040" cy="57132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189080" y="773280"/>
              <a:ext cx="5180040" cy="57132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49" name=""/>
            <p:cNvSpPr/>
            <p:nvPr/>
          </p:nvSpPr>
          <p:spPr>
            <a:xfrm>
              <a:off x="1189080" y="773280"/>
              <a:ext cx="5180040" cy="5713200"/>
            </a:xfrm>
            <a:custGeom>
              <a:avLst/>
              <a:gdLst>
                <a:gd name="textAreaLeft" fmla="*/ 360 w 5180040"/>
                <a:gd name="textAreaRight" fmla="*/ 5179680 w 5180040"/>
                <a:gd name="textAreaTop" fmla="*/ 360 h 5713200"/>
                <a:gd name="textAreaBottom" fmla="*/ 5712840 h 5713200"/>
              </a:gdLst>
              <a:ahLst/>
              <a:rect l="textAreaLeft" t="textAreaTop" r="textAreaRight" b="textAreaBottom"/>
              <a:pathLst>
                <a:path w="21600" h="23823">
                  <a:moveTo>
                    <a:pt x="6" y="0"/>
                  </a:moveTo>
                  <a:arcTo wR="6" hR="6" stAng="16200000" swAng="-5400000"/>
                  <a:lnTo>
                    <a:pt x="0" y="23817"/>
                  </a:lnTo>
                  <a:arcTo wR="6" hR="6" stAng="10800000" swAng="-5400000"/>
                  <a:lnTo>
                    <a:pt x="21594" y="23823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306600" y="1913040"/>
            <a:ext cx="5459400" cy="4794120"/>
            <a:chOff x="3306600" y="1913040"/>
            <a:chExt cx="5459400" cy="479412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3306600" y="1913040"/>
              <a:ext cx="5459400" cy="4794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52" name=""/>
            <p:cNvSpPr/>
            <p:nvPr/>
          </p:nvSpPr>
          <p:spPr>
            <a:xfrm>
              <a:off x="3306600" y="1913040"/>
              <a:ext cx="5459400" cy="4794120"/>
            </a:xfrm>
            <a:prstGeom prst="roundRect">
              <a:avLst>
                <a:gd name="adj" fmla="val 32"/>
              </a:avLst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477840" y="1106640"/>
            <a:ext cx="2516040" cy="434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ded 22 C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168720" y="2390760"/>
            <a:ext cx="4635000" cy="3669840"/>
            <a:chOff x="3168720" y="2390760"/>
            <a:chExt cx="4635000" cy="3669840"/>
          </a:xfrm>
        </p:grpSpPr>
        <p:sp>
          <p:nvSpPr>
            <p:cNvPr id="55" name=""/>
            <p:cNvSpPr/>
            <p:nvPr/>
          </p:nvSpPr>
          <p:spPr>
            <a:xfrm>
              <a:off x="3168720" y="2390760"/>
              <a:ext cx="4608000" cy="538200"/>
            </a:xfrm>
            <a:custGeom>
              <a:avLst/>
              <a:gdLst/>
              <a:ahLst/>
              <a:rect l="l" t="t" r="r" b="b"/>
              <a:pathLst>
                <a:path w="13615" h="1513">
                  <a:moveTo>
                    <a:pt x="6760" y="96"/>
                  </a:moveTo>
                  <a:cubicBezTo>
                    <a:pt x="5142" y="30"/>
                    <a:pt x="3951" y="33"/>
                    <a:pt x="2953" y="51"/>
                  </a:cubicBezTo>
                  <a:cubicBezTo>
                    <a:pt x="1955" y="70"/>
                    <a:pt x="1158" y="0"/>
                    <a:pt x="778" y="210"/>
                  </a:cubicBezTo>
                  <a:cubicBezTo>
                    <a:pt x="398" y="420"/>
                    <a:pt x="0" y="1114"/>
                    <a:pt x="660" y="1313"/>
                  </a:cubicBezTo>
                  <a:cubicBezTo>
                    <a:pt x="1321" y="1512"/>
                    <a:pt x="3075" y="1386"/>
                    <a:pt x="4729" y="1405"/>
                  </a:cubicBezTo>
                  <a:cubicBezTo>
                    <a:pt x="6385" y="1423"/>
                    <a:pt x="9306" y="1449"/>
                    <a:pt x="10594" y="1427"/>
                  </a:cubicBezTo>
                  <a:cubicBezTo>
                    <a:pt x="11884" y="1405"/>
                    <a:pt x="12113" y="1431"/>
                    <a:pt x="12456" y="1268"/>
                  </a:cubicBezTo>
                  <a:cubicBezTo>
                    <a:pt x="12798" y="1107"/>
                    <a:pt x="13614" y="649"/>
                    <a:pt x="12658" y="457"/>
                  </a:cubicBezTo>
                  <a:cubicBezTo>
                    <a:pt x="11701" y="266"/>
                    <a:pt x="8377" y="162"/>
                    <a:pt x="6760" y="96"/>
                  </a:cubicBezTo>
                  <a:lnTo>
                    <a:pt x="676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95360" y="5142240"/>
              <a:ext cx="4608360" cy="918360"/>
            </a:xfrm>
            <a:custGeom>
              <a:avLst/>
              <a:gdLst/>
              <a:ahLst/>
              <a:rect l="l" t="t" r="r" b="b"/>
              <a:pathLst>
                <a:path w="13615" h="2581">
                  <a:moveTo>
                    <a:pt x="6760" y="2417"/>
                  </a:moveTo>
                  <a:cubicBezTo>
                    <a:pt x="5142" y="2530"/>
                    <a:pt x="3951" y="2524"/>
                    <a:pt x="2953" y="2493"/>
                  </a:cubicBezTo>
                  <a:cubicBezTo>
                    <a:pt x="1955" y="2461"/>
                    <a:pt x="1157" y="2580"/>
                    <a:pt x="778" y="2222"/>
                  </a:cubicBezTo>
                  <a:cubicBezTo>
                    <a:pt x="397" y="1863"/>
                    <a:pt x="0" y="681"/>
                    <a:pt x="660" y="341"/>
                  </a:cubicBezTo>
                  <a:cubicBezTo>
                    <a:pt x="1321" y="0"/>
                    <a:pt x="3075" y="215"/>
                    <a:pt x="4729" y="183"/>
                  </a:cubicBezTo>
                  <a:cubicBezTo>
                    <a:pt x="6384" y="152"/>
                    <a:pt x="9306" y="108"/>
                    <a:pt x="10594" y="146"/>
                  </a:cubicBezTo>
                  <a:cubicBezTo>
                    <a:pt x="11884" y="183"/>
                    <a:pt x="12113" y="140"/>
                    <a:pt x="12455" y="416"/>
                  </a:cubicBezTo>
                  <a:cubicBezTo>
                    <a:pt x="12798" y="693"/>
                    <a:pt x="13614" y="1473"/>
                    <a:pt x="12657" y="1800"/>
                  </a:cubicBezTo>
                  <a:cubicBezTo>
                    <a:pt x="11701" y="2128"/>
                    <a:pt x="8377" y="2304"/>
                    <a:pt x="6760" y="2417"/>
                  </a:cubicBezTo>
                  <a:lnTo>
                    <a:pt x="6760" y="24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41400"/>
            <a:ext cx="9144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lizing a Schema for Weakn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4440" y="765000"/>
            <a:ext cx="8458200" cy="51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dentify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W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scrib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xtended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ternate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monstrative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bserved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ext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urce Tax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Whitebox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lackbox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a2a2a2"/>
                </a:solidFill>
                <a:latin typeface="Times New Roman"/>
              </a:rPr>
              <a:t>Formal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371840" y="779400"/>
            <a:ext cx="4673880" cy="5835240"/>
            <a:chOff x="4371840" y="779400"/>
            <a:chExt cx="4673880" cy="5835240"/>
          </a:xfrm>
        </p:grpSpPr>
        <p:sp>
          <p:nvSpPr>
            <p:cNvPr id="60" name=""/>
            <p:cNvSpPr/>
            <p:nvPr/>
          </p:nvSpPr>
          <p:spPr>
            <a:xfrm>
              <a:off x="4371840" y="779400"/>
              <a:ext cx="4673880" cy="5222880"/>
            </a:xfrm>
            <a:custGeom>
              <a:avLst/>
              <a:gdLst>
                <a:gd name="textAreaLeft" fmla="*/ 360 w 4673880"/>
                <a:gd name="textAreaRight" fmla="*/ 4673520 w 4673880"/>
                <a:gd name="textAreaTop" fmla="*/ 360 h 5222880"/>
                <a:gd name="textAreaBottom" fmla="*/ 5222520 h 5222880"/>
              </a:gdLst>
              <a:ahLst/>
              <a:rect l="textAreaLeft" t="textAreaTop" r="textAreaRight" b="textAreaBottom"/>
              <a:pathLst>
                <a:path w="21600" h="24137">
                  <a:moveTo>
                    <a:pt x="7" y="0"/>
                  </a:moveTo>
                  <a:arcTo wR="7" hR="7" stAng="16200000" swAng="-5400000"/>
                  <a:lnTo>
                    <a:pt x="0" y="24130"/>
                  </a:lnTo>
                  <a:arcTo wR="7" hR="7" stAng="10800000" swAng="-5400000"/>
                  <a:lnTo>
                    <a:pt x="21593" y="24137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71840" y="779400"/>
              <a:ext cx="4673880" cy="58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oping &amp; Delimiting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unctional Ar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kelihood of Explo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mmon Consequ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nabling Factors for Exploi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mmon Methods of Exploi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pplicable Platfor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me of Introduction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rescribing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otential Mitig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nhancing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Weakness Ordin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usal N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ffected Re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Related Atta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Detection Fac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Node Relationshi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esearch Ga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-15480"/>
            <a:ext cx="9144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partment of Homeland Security’s National Vulnerability Database (NVD) tags Vulnerabilities with C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2506680"/>
            <a:ext cx="5830920" cy="4349880"/>
            <a:chOff x="0" y="2506680"/>
            <a:chExt cx="5830920" cy="434988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2506680"/>
              <a:ext cx="5830920" cy="4349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65" name=""/>
            <p:cNvSpPr/>
            <p:nvPr/>
          </p:nvSpPr>
          <p:spPr>
            <a:xfrm>
              <a:off x="0" y="2506680"/>
              <a:ext cx="5830920" cy="4349880"/>
            </a:xfrm>
            <a:prstGeom prst="roundRect">
              <a:avLst>
                <a:gd name="adj" fmla="val 32"/>
              </a:avLst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097080" y="812880"/>
            <a:ext cx="6045480" cy="4533840"/>
            <a:chOff x="3097080" y="812880"/>
            <a:chExt cx="6045480" cy="453384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3097080" y="812880"/>
              <a:ext cx="6045480" cy="4533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68" name=""/>
            <p:cNvSpPr/>
            <p:nvPr/>
          </p:nvSpPr>
          <p:spPr>
            <a:xfrm>
              <a:off x="3097080" y="812880"/>
              <a:ext cx="6045480" cy="4533840"/>
            </a:xfrm>
            <a:prstGeom prst="roundRect">
              <a:avLst>
                <a:gd name="adj" fmla="val 32"/>
              </a:avLst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1768320" y="3449520"/>
            <a:ext cx="776520" cy="198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282680" y="2995560"/>
            <a:ext cx="3060720" cy="411120"/>
            <a:chOff x="1282680" y="2995560"/>
            <a:chExt cx="3060720" cy="411120"/>
          </a:xfrm>
        </p:grpSpPr>
        <p:sp>
          <p:nvSpPr>
            <p:cNvPr id="71" name=""/>
            <p:cNvSpPr/>
            <p:nvPr/>
          </p:nvSpPr>
          <p:spPr>
            <a:xfrm>
              <a:off x="1282680" y="2995560"/>
              <a:ext cx="3060720" cy="411120"/>
            </a:xfrm>
            <a:prstGeom prst="roundRect">
              <a:avLst>
                <a:gd name="adj" fmla="val 384"/>
              </a:avLst>
            </a:prstGeom>
            <a:solidFill>
              <a:srgbClr val="f6f0d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82680" y="2995560"/>
              <a:ext cx="30607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Arial"/>
                </a:rPr>
                <a:t>NVD Now Maps to CWE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 flipV="1">
            <a:off x="2836800" y="1723680"/>
            <a:ext cx="1603440" cy="13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71040" y="5757840"/>
            <a:ext cx="2273760" cy="49140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vd.nist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apec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90720" y="0"/>
            <a:ext cx="67816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EC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ttp://capec.mitr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360"/>
            <a:ext cx="807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CAPEC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7080" y="1055520"/>
            <a:ext cx="7628040" cy="57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ack Pattern multi-level abstraction ta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t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 current authored patterns (101) as well as all potential patterns in the attack taxonomy have been tag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PEC description initial schema form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rgeted to support security test case iden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pdated schema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25 of the authored patterns have been fleshed-out to the new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amate_page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0"/>
            <a:ext cx="70102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AMATE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ttp://samate.nist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th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ATE Reference Dataset (S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repository of tool te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sands of source code samples containing examples of CW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 tests – developed by NIST, contributed by tool developers, academia and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s are based upon interpretation of a particular weakness definition (currently no formal white-box defini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s are freely available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ttp://samate.nist.gov/S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rd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800600" cy="228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20:43:03Z</dcterms:created>
  <dc:creator> Michael Kass</dc:creator>
  <dc:description/>
  <dc:language>en-US</dc:language>
  <cp:lastModifiedBy> Michael Kass</cp:lastModifiedBy>
  <dcterms:modified xsi:type="dcterms:W3CDTF">2008-03-31T18:28:37Z</dcterms:modified>
  <cp:revision>189</cp:revision>
  <dc:subject/>
  <dc:title>PowerPoint Presentation</dc:title>
</cp:coreProperties>
</file>