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04A-6B1A-4415-894D-B38E248E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2C9-6477-4346-8089-5320815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9D3-8242-4B14-B280-31BAF53E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63E-EEA6-4925-8909-65FE8BD4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6C9-583F-4757-919E-9BCB7E58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439-107C-4A85-9F04-813F39A2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691-D116-4DF4-A5BE-AF0E75A6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3E1-0691-4A29-9BA0-E24655B1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898-13A4-49AE-8A0C-B897462B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BD2-98CA-4AEB-A49C-931AE1D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F37-2632-4FA2-84A1-1659553E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85F-D2BD-4C1C-866E-31EE5155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C195-52F4-4034-80F4-F424F536E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ST SAMATE Project and O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K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 Information Technology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samate.nist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11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ST SAMAT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the T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Test Cas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WE Form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ATE and CWE Effective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G: Where are we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AMAT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AT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Assurance Metrics and Tool Evalua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sponsored by DH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ests and tool specifications for software assurance (SwA) tool e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metrics for measuring SwA tool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gaps in current SwA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recommendations to DHS for areas of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h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ATE Reference Dataset (S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repository of tool t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of source code samples containing examples of CW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tests – developed by NIST, contributed by tool developers, academia and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s are based upon interpretation of a particular weakness definition (currently no formal white-box defin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s are freely availabl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samate.nist.gov/S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  <p:pic>
        <p:nvPicPr>
          <p:cNvPr id="53" name="srd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800600" cy="228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mated Test Case Generation (TC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ed by D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SAMATE effort to expand SRD to cover as many CWE’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upon OMG MDA Technology (MOF, UML, X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formalized CWE definitions (SBV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ual Formalization that is based on OMG standard, Semantics of Business Vocabulary and Rules (SBVR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Formalization that is based on OMG standard, Knowledge Discovery Metamodel (K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72200" y="457200"/>
            <a:ext cx="1828800" cy="175248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522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al CWE Definitions (SBVR/KD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2209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ol Tests (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209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de Analysis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cg" descr=""/>
          <p:cNvPicPr/>
          <p:nvPr/>
        </p:nvPicPr>
        <p:blipFill>
          <a:blip r:embed="rId2"/>
          <a:stretch/>
        </p:blipFill>
        <p:spPr>
          <a:xfrm>
            <a:off x="7696080" y="838080"/>
            <a:ext cx="1314720" cy="65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67816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6858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72200" y="68544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kdm_analyzer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762120" cy="600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6920" y="990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WE Form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Box Definitions : Focu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terns of the inner components and their interactions (that determine certain observable behavi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“compliance points”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 patterns of code (as they can be directly identified in c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discernable properties of patterns of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direct step-by-step comparisons of the decision procedures implemented withi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ATE and CW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iveness Progra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goal : To auto-generate tool tests using formal CWE definitions in collaboration with MITRE’s CWE Effectivenes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ests “ad hoc” to tool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run tests against their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can publish tes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G: Where are w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G St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nerate tests for 3 CWE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erm, NIST will expand formal CWE definitions to 25 “high priority” CWE’s  based upon the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gnized by tools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, TGC will cover as many CWEs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coding complex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AMAT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tests for web application scan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to existing tests for source code security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ool effectiveness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g binary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atic analyzer tool exposition (S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transparency/pedigre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lware research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3:24:14Z</dcterms:created>
  <dc:creator> Michael Kass</dc:creator>
  <dc:description/>
  <dc:language>en-US</dc:language>
  <cp:lastModifiedBy> Michael Kass</cp:lastModifiedBy>
  <dcterms:modified xsi:type="dcterms:W3CDTF">2008-03-11T19:46:25Z</dcterms:modified>
  <cp:revision>38</cp:revision>
  <dc:subject/>
  <dc:title>NIST SAMATE Project: Current Work</dc:title>
</cp:coreProperties>
</file>