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211E-BF66-4EB8-B777-1BC33030D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B2E8-0298-4314-99CC-94BC94BEF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4D99-7B94-49BA-849D-BE278C987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1BD6-7275-4D65-AA91-BD5B43710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6159-260E-41AA-AB3C-476EA51F1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BE55-61EE-4BF3-87C9-99DEC63D4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A34A-EBD7-417C-B4F9-07AE6B228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AF8C-A18E-4E57-8F1B-515A67BCF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544D-11F9-4DF1-A3F7-624A80A45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CD54-802F-4136-927D-5F1478B4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3BA1-FA99-4095-8ED0-9C979BEC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DA7C-012F-45EC-B832-69ABDFD1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E1D51-1091-453E-9561-364275C15E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IST SAMATE Project and OM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hael K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ST Information Technology Labora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ttp://samate.nist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h 11, 20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14600" cy="5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ST SAMATE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ing the Too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ed Test Case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WE Form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ATE and CWE Effectiveness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G: Where are we now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SAMATE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14600" cy="5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ATE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Assurance Metrics and Tool Evaluation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-sponsored by DHS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tests and tool specifications for software assurance (SwA) tool eval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 metrics for measuring SwA tool effective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gaps in current SwA 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recommendations to DHS for areas of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14600" cy="5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4343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ing the 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ATE Reference Dataset (SR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ine repository of tool tes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ousands of source code samples containing examples of CWE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rete tests – developed by NIST, contributed by tool developers, academia and pub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s are based upon interpretation of a particular weakness definition (currently no formal white-box definiti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s are freely available a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ttp://samate.nist.gov/S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14600" cy="538200"/>
          </a:xfrm>
          <a:prstGeom prst="rect">
            <a:avLst/>
          </a:prstGeom>
          <a:ln w="0">
            <a:noFill/>
          </a:ln>
        </p:spPr>
      </p:pic>
      <p:pic>
        <p:nvPicPr>
          <p:cNvPr id="53" name="srd" descr=""/>
          <p:cNvPicPr/>
          <p:nvPr/>
        </p:nvPicPr>
        <p:blipFill>
          <a:blip r:embed="rId2"/>
          <a:stretch/>
        </p:blipFill>
        <p:spPr>
          <a:xfrm>
            <a:off x="4191120" y="304920"/>
            <a:ext cx="4800600" cy="2288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utomated Test Case Generation (TCG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ded by D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of SAMATE effort to expand SRD to cover as many CWE’s as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upon OMG MDA Technology (MOF, UML, XM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formalized CWE definitions (SBV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actual Formalization that is based on OMG standard, Semantics of Business Vocabulary and Rules (SBVR)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Formalization that is based on OMG standard, Knowledge Discovery Metamodel (KD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14600" cy="53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172200" y="457200"/>
            <a:ext cx="1828800" cy="175248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86400" y="15228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ormal CWE Definitions (SBVR/KD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391520" y="220968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ool Tests (cod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952880" y="220968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de Analysis T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tcg" descr=""/>
          <p:cNvPicPr/>
          <p:nvPr/>
        </p:nvPicPr>
        <p:blipFill>
          <a:blip r:embed="rId2"/>
          <a:stretch/>
        </p:blipFill>
        <p:spPr>
          <a:xfrm>
            <a:off x="7696080" y="838080"/>
            <a:ext cx="1314720" cy="657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H="1">
            <a:off x="6781680" y="2362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391520" y="685800"/>
            <a:ext cx="6094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172200" y="685440"/>
            <a:ext cx="6094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kdm_analyzer" descr=""/>
          <p:cNvPicPr/>
          <p:nvPr/>
        </p:nvPicPr>
        <p:blipFill>
          <a:blip r:embed="rId3"/>
          <a:stretch/>
        </p:blipFill>
        <p:spPr>
          <a:xfrm>
            <a:off x="5486400" y="914400"/>
            <a:ext cx="762120" cy="6001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876920" y="99072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WE Formaliz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Box Definitions : Focus on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tterns of the inner components and their interactions (that determine certain observable behavior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 “compliance points”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cribe patterns of code (as they can be directly identified in co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y discernable properties of patterns of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able auto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able direct step-by-step comparisons of the decision procedures implemented within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14600" cy="5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MATE and CW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iveness Program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-term goal : To auto-generate tool tests using formal CWE definitions in collaboration with MITRE’s CWE Effectiveness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tests “ad hoc” to tool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ers run tests against their t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ers can publish test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14600" cy="5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CG: Where are we n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G Statu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generate tests for 3 CWE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term, NIST will expand formal CWE definitions to 25 “high priority” CWE’s  based upon thei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ccur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ognized by tools to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 term, TGC will cover as many CWEs as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coding complex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14600" cy="5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SAMATE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going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 tests for web application scann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ng to existing tests for source code security analyz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ing tool effectiveness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ar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sting binary analyz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tatic analyzer tool exposition (S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ftware transparency/pedigree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lware research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14600" cy="5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23:24:14Z</dcterms:created>
  <dc:creator> Michael Kass</dc:creator>
  <dc:description/>
  <dc:language>en-US</dc:language>
  <cp:lastModifiedBy> Michael Kass</cp:lastModifiedBy>
  <dcterms:modified xsi:type="dcterms:W3CDTF">2008-03-11T19:46:25Z</dcterms:modified>
  <cp:revision>38</cp:revision>
  <dc:subject/>
  <dc:title>NIST SAMATE Project: Current Work</dc:title>
</cp:coreProperties>
</file>