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0EE-E0CD-403E-8397-29924DA2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4E3-4CC7-4DF7-96B1-F0692357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D4E-6E74-4518-A1A3-9E059573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8DB-F408-4C22-AF3E-CB3062A5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1ED-E467-48A3-9213-D95DE968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713-30D5-4BB5-B6ED-877B8A89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E53-C03A-40CC-AE86-3A6BD0A5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FCE-C205-4A17-84FE-F4E437E8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2F8-2229-475F-9817-F25703D5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372-F735-42CA-8854-FF745D28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E42-903E-4840-8108-8A7F9B2A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58D-AB55-4ACC-B8A9-5D322947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9BC12-D2EC-4664-97E2-2C2D8212D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655200"/>
            <a:ext cx="907092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nt Logs</a:t>
            </a:r>
            <a:br>
              <a:rPr sz="4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so known as</a:t>
            </a:r>
            <a:br>
              <a:rPr sz="22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dit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2514600"/>
            <a:ext cx="90709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in 1990 VSS and all subseq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ly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ly very 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e audits for 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election foren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ame as "audit trail" as in VV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8510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nt Log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2514600"/>
            <a:ext cx="90709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mi-Dade County, iVo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e post-election au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y Audit and Management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 10 machines not plugged in on election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reported seri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correction of  2 software/firmware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8510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Event Log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2514600"/>
            <a:ext cx="90709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re enough voting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re too many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re the polls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 the last vote 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was the line at clos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8510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rriers to Event Log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2514600"/>
            <a:ext cx="90709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gner has studied this for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's response was a best practices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8510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2514600"/>
            <a:ext cx="90709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ould recommend that the EAC promulgate best practices for log retention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VSG 2.0 should set a standard export format for logs, something as simple as CS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VSG 2.0 should require public documentation of what is logged, where and 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uglas Jones</dc:creator>
  <dc:description/>
  <dc:language>en-US</dc:language>
  <cp:lastModifiedBy>Douglas Jones</cp:lastModifiedBy>
  <cp:revision>0</cp:revision>
  <dc:subject/>
  <dc:title/>
</cp:coreProperties>
</file>