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795-E451-42E5-BE36-CAD757A9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777-AEE6-48DD-BE7C-4BAA8896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4E8-247E-4E79-833B-31744154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81B2-C91A-4C34-8C48-4C3ACE48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DA5-B1C0-4403-AD9A-6EC33079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0BC-A4F6-49E0-9B54-84C5CCBE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F44-22D2-45E8-BB64-BB8D0CDE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461-317D-43A5-AE86-A1B878BA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B07-301F-4BAD-90A3-0C082E8C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9B5-0F15-4BD9-BE3D-14C64C1E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373-50A8-4458-AE8B-DFBA29D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CB42-0F9D-4E12-AD40-8F467088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8D0CB-6754-4283-A2BB-B94F92E81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655200"/>
            <a:ext cx="907092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 Logs</a:t>
            </a:r>
            <a:br>
              <a:rPr sz="4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known as</a:t>
            </a:r>
            <a:br>
              <a:rPr sz="22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dit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in 1990 VSS and all subsequ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ly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ly very valu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e audits for 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election foren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ame as "audit trail" as in VV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8510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nt Log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-Dade County, iVo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ine post-election aud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y Audit and Management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in 10 machines not plugged in on election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reported seri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correction of  2 software/firmware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8510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Event Log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re enough voting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re too many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re the polls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as the last vote 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was the line at clos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8510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rriers to Event Log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gner has studied this for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fornia's response was a best practices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8510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2514600"/>
            <a:ext cx="90709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 recommend that the EAC promulgate best practices for log retention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SG 2.0 should set a standard export format for logs, something as simple as CS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SG 2.0 should require public documentation of what is logged, where and 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uglas Jones</dc:creator>
  <dc:description/>
  <dc:language>en-US</dc:language>
  <cp:lastModifiedBy>Douglas Jones</cp:lastModifiedBy>
  <cp:revision>0</cp:revision>
  <dc:subject/>
  <dc:title/>
</cp:coreProperties>
</file>