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C87C-AB29-4380-A649-49DDD1F10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98FE-0B7A-43DD-8586-4CF80C70F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will draft this as a statement from the TGDC to the EAC to ensure that the EAC’s Management Guidelines and Quick Start Guides are aligned with the 1.1 and 2.0 standar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will draft this as a statement from the TGDC to the EAC to ensure that the EAC’s Management Guidelines and Quick Start Guides are aligned with the 1.1 and 2.0 standar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ed and to be handled as part of the 2.0 update, and to be discussed further at the next TGDC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ed and to be handled as part of the 2.0 update, and to be discussed further at the next TGDC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LAP and EAC will coordinate so that appropriate manuals are updated to permit labs to contract for these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lso to determine the skills and qualifications to be used in obtaining contractual support for non-core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LAP and EAC will coordinate so that appropriate manuals are updated to permit labs to contract for these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lso to determine the skills and qualifications to be used in obtaining contractual support for non-core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ork is already ongoing; NIST to continue working with both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ork is already ongoing; NIST to continue working with both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C975-0FF9-4BBA-B79D-8A1421A94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3591-953C-43B0-B279-D229628C2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A4BC-7045-41D2-AF70-5F8A66A05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832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224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832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2224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2928-194F-43BC-BFDB-743EBE1120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CB0C-B6C1-47D9-8A11-09668D6B56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EB76-B874-4D5A-BDA7-766785451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443A-66B5-49CA-8AC1-8E348C2F9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0DFC-B072-4B41-A8CA-79C81A4C4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54FC-50A9-4CF4-94DB-8AEC8ACBA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6CAB-4364-4B8B-901F-9D08DF43C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B4B3-6B53-4D63-A531-1344DB123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B874-356A-4241-8DD0-49917F226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votebannernew"/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C86A9347-ABA5-46E6-A727-C9F84484F0E0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80880" y="638172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GDC Meeting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4288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Report on Other Resolutions from       Dec 2009 TGDC Mee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38095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hn W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400800" y="5425920"/>
            <a:ext cx="26226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6E94BC35-E77B-4684-B305-04AE3EB20DF9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ments to the TGDC - Jenki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tasking for the TGDC to collect and report comments to the EAC regarding the "Election Management Guidelines and Quick Start guides"; specifically regarding technical guidelines and observations that have a strong implication to and perhaps are better addressed in the Elections Management Guideli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51D7BC06-BF07-46D1-8E45-A1C06177DB7D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ments to the TGDC - Jenki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t of this resolution is to ensure that EAC guides are aligned and consistent with VVSG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ST will draft this as a statement from the TGDC to the EAC to ensure that the EAC’s Management Guidelines and Quick Start Guides are aligned with the 1.1 and 2.0 standard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3296C4F2-C22B-4595-8D19-8F52AE24121B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pollbook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regard to epollbook tasking [as part of the charge from the EAC]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write requirements for voter registration datab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a light touch on existing requirements, update only a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A642812B-A740-48E3-95C6-3B2115149BB9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pollbook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ST has viewed this as being of lower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GDC recommendation is to make minimal changes only if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w status at this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81A97E4C-6A34-46AB-9C80-9BF7C66DEB3C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oting System Test Lab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GDC to recommend that VSTLs be able to contract for usability, accessibility, and security testing, and that NVLAP and the EAC's lab manuals be updated to support such contrac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4541248B-008A-421B-94F9-E7085DDEC47D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oting System Test Lab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 and NVLAP met to discuss updating NVLAP and the EAC manuals to permit voting system testing labs to contract the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ST is working on qualifications to be used to judge capabilities of labs that would be contra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steps 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view qualifications and associated test methods that would be used to judge capabilities of contract and lab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EAC and NVLAP manuals according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E564E09C-B8D5-4770-BB4E-68FD34D71880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mon Data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GDC to request NIST to work with IEEE P1622 and/or OASIS EML on a common data format as a near-term priority, especially to support applications such as voter registration and ballot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6DCD26B4-C0B6-4D82-A550-002232F6BB5F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mon Data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ST has become active in the IEEE P. 16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ST/EAC have met with P. 1622 management to discuss prior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te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ice interoper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llot definition and ball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ST to work with FVAP to identify specific needs in support of electronic ballot distributio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ST working on white paper with further recommend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3:55:36Z</dcterms:created>
  <dc:creator>Andrew Regenscheid</dc:creator>
  <dc:description/>
  <dc:language>en-US</dc:language>
  <cp:lastModifiedBy>traveluser</cp:lastModifiedBy>
  <dcterms:modified xsi:type="dcterms:W3CDTF">2010-07-07T13:45:10Z</dcterms:modified>
  <cp:revision>1536</cp:revision>
  <dc:subject>TGDC Meeting 12/9/09-12/10/09</dc:subject>
  <dc:title>NIST Research on UOCAVA Voting</dc:title>
</cp:coreProperties>
</file>