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7A4D-7E9B-48E7-8AE6-9456740C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F157-D604-4B24-8963-C3B4522A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ed and to be handled as part of the 2.0 update, and to be discussed further at the next TGDC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ed and to be handled as part of the 2.0 update, and to be discussed further at the next TGDC mee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LAP and EAC will coordinate so that appropriate manuals are updated to permit labs to contract for thes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lso to determine the skills and qualifications to be used in obtaining contractual support for non-cor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LAP and EAC will coordinate so that appropriate manuals are updated to permit labs to contract for thes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lso to determine the skills and qualifications to be used in obtaining contractual support for non-core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rk is already ongoing; NIST to continue working with both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T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ork is already ongoing; NIST to continue working with both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1478-6D58-428B-A8B4-3A7EA2C85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B33C-85CE-4D2E-96C8-9BF193AA6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F99E-8A46-490F-A771-ADC7EED5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85B0-94C8-4B54-99DE-70D74B1AF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A112-BBB7-45E4-89FC-836970F59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653C-A453-49D3-92B8-BADC58E99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473DE-0C03-407F-9089-05A2B49FF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85D7-E33D-44DF-B0DA-D7A7E5A42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D7B6-3D9C-4691-99C2-234CB4880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61E9-E220-499B-9CE7-0AC1D1704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B7F1-3D6B-4E49-AAE8-A592DC20B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243D-160E-4AFB-BA88-9F2D6B085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E5EA3B9-07C1-4D43-ABD3-DCF374B97CC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port on Other Resolutions from       Dec 2009 TGDC Me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hn W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347C0CF-990D-43B9-88DC-20C8F2EB674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ents to the TGDC - Jenki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tasking for the TGDC to collect and report comments to the EAC regarding the "Election Management Guidelines and Quick Start guides"; specifically regarding technical guidelines and observations that have a strong implication to and perhaps are better addressed in the Elections Management Guideli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0EC76DB-D363-4C92-849F-64B8EFB1B2F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ents to the TGDC - Jenki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 of this resolution is to ensure that EAC guides are aligned and consistent with VVSG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will draft this as a statement from the TGDC to the EAC to ensure that the EAC’s Management Guidelines and Quick Start Guides are aligned with the 1.1 and 2.0 standard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8F87EF6-12D3-4E92-8559-D88EFA351D7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pollboo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regard to epollbook tasking [as part of the charge from the EAC]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write requirements for voter registration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 a light touch on existing requirements, update only a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E7BB143-1DB9-4CEA-A7BE-732EB3B9644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pollbook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has viewed this as being of lower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recommendation is to make minimal changes only if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w status at this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523107E-02ED-4121-80CA-D16390E8965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System Test Lab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to recommend that VSTLs be able to contract for usability, accessibility, and security testing, and that NVLAP and the EAC's lab manuals be updated to support such contrac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FD6ED3C-9818-4D8B-955B-C12D78E1DFFA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oting System Test Lab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 and NVLAP met to discuss updating NVLAP and the EAC manuals to permit voting system testing labs to contract th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is working on qualifications to be used to judge capabilities of labs that would be contra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steps 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review qualifications and associated test methods that would be used to judge capabilities of contract and la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EAC and NVLAP manuals according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168CDAE-04D2-455C-BAE2-07B3E71D72D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on Data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GDC to request NIST to work with IEEE P1622 and/or OASIS EML on a common data format as a near-term priority, especially to support applications such as voter registration and ballot distrib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43008AD-6D8D-4819-BEB1-777B1112510A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mmon Data Forma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has become active in the IEEE P. 16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/EAC have met with P. 1622 management to discuss prior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te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lot definition and ball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to work with FVAP to identify specific needs in support of electronic ballot distribu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ST working on white paper with further 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traveluser</cp:lastModifiedBy>
  <dcterms:modified xsi:type="dcterms:W3CDTF">2010-07-07T13:45:10Z</dcterms:modified>
  <cp:revision>1536</cp:revision>
  <dc:subject>TGDC Meeting 12/9/09-12/10/09</dc:subject>
  <dc:title>NIST Research on UOCAVA Voting</dc:title>
</cp:coreProperties>
</file>