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1482-A490-461C-BA01-C6A3CC742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7DE0-F467-4FB9-8E31-ECDA42BB2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04840" y="696960"/>
            <a:ext cx="4648320" cy="3486240"/>
          </a:xfrm>
          <a:prstGeom prst="rect">
            <a:avLst/>
          </a:prstGeom>
          <a:ln w="0">
            <a:noFill/>
          </a:ln>
        </p:spPr>
      </p:sp>
      <p:sp>
        <p:nvSpPr>
          <p:cNvPr id="67"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04840" y="696960"/>
            <a:ext cx="4648320" cy="3486240"/>
          </a:xfrm>
          <a:prstGeom prst="rect">
            <a:avLst/>
          </a:prstGeom>
          <a:ln w="0">
            <a:noFill/>
          </a:ln>
        </p:spPr>
      </p:sp>
      <p:sp>
        <p:nvSpPr>
          <p:cNvPr id="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was accepted as written.  NIST will report back on the events that are to be logged according to requirements in the VVSG 2.0. It will also add to this the events that are to be logged according to the EAC decision on RFI 2009-04. The TGDC may then wish to comment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38BB6-CC3B-4A6E-BFAA-C67A546F65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9D172C2-4DC7-42E8-A2F3-9B672135C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DFFAB1F-D48A-4FA2-B380-1F2E62196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6C66784-3099-4772-8542-AB6342FF62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6A92497-1714-43FD-960C-9E0DD250AA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48B7097-6977-4824-8FD6-6B7E3B67D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6BD0C4B-FBCD-446B-9E12-64974F4C09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19685BE-5D78-4D36-AC95-8CC273B7DF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6CBD732-0698-4857-80D8-E3FD5A27F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BA92A4F-7157-4309-B84C-DD13811F7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EC862C6-8E78-4C56-BCC3-C7515028D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767BE27-053B-4A17-BB2D-0A31BF78A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A55997B7-15B3-4158-A8C4-B5126A7D8558}"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n Logging Requirements in VVSG 2.0</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lson Hastings</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3DE9387A-C17A-45BA-8BEA-0E3F8B93E51E}"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ndards and Event Logs - Jones</a:t>
            </a:r>
            <a:endParaRPr b="0" lang="en-US" sz="2800" spc="-1" strike="noStrike">
              <a:solidFill>
                <a:srgbClr val="333399"/>
              </a:solidFill>
              <a:latin typeface="Tahoma"/>
            </a:endParaRPr>
          </a:p>
        </p:txBody>
      </p:sp>
      <p:sp>
        <p:nvSpPr>
          <p:cNvPr id="54" name="PlaceHolder 2"/>
          <p:cNvSpPr>
            <a:spLocks noGrp="1"/>
          </p:cNvSpPr>
          <p:nvPr>
            <p:ph/>
          </p:nvPr>
        </p:nvSpPr>
        <p:spPr>
          <a:xfrm>
            <a:off x="685440" y="1981080"/>
            <a:ext cx="7924680" cy="411480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urrent VVSG and all predecessors back to the 1990 VSS have included "audit log" or more properly event log mechanisms, but the requirements for data included in these logs is vague, with a few clarifying exampl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mpts to use event logs in post election audits have had mixed results, demonstrating their utility in some cases (Miami Dade County did some interesting event log analysis from the iVotronic), but also demonstrating that they do not record information that allows diagnosis of serious problems (for example, in Sarasota County, also on the iVotronic).</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should ask NIST to explore the possibility of setting standards for the content of event lo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371600"/>
            <a:ext cx="84582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VSG 2.0 Log Requirements</a:t>
            </a:r>
            <a:endParaRPr b="0" lang="en-US" sz="4400" spc="-1" strike="noStrike">
              <a:solidFill>
                <a:srgbClr val="333399"/>
              </a:solidFill>
              <a:latin typeface="Tahoma"/>
            </a:endParaRPr>
          </a:p>
        </p:txBody>
      </p:sp>
      <p:sp>
        <p:nvSpPr>
          <p:cNvPr id="56"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pe of section 5.7 requirem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to be generated</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protection of the inform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of system event log information</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g information must maintain voter privacy and ballot secre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Log Entry Information</a:t>
            </a:r>
            <a:endParaRPr b="0" lang="en-US" sz="4400" spc="-1" strike="noStrike">
              <a:solidFill>
                <a:srgbClr val="333399"/>
              </a:solidFill>
              <a:latin typeface="Tahoma"/>
            </a:endParaRPr>
          </a:p>
        </p:txBody>
      </p:sp>
      <p:sp>
        <p:nvSpPr>
          <p:cNvPr id="58"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 Identifi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Identifi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Stamp</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 of ev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pplicable, user that triggered event and requested resourc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0"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 system functions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onfigur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startup and shutdow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 and deletion fil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readiness resul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2" name="PlaceHolder 2"/>
          <p:cNvSpPr>
            <a:spLocks noGrp="1"/>
          </p:cNvSpPr>
          <p:nvPr>
            <p:ph/>
          </p:nvPr>
        </p:nvSpPr>
        <p:spPr>
          <a:xfrm>
            <a:off x="914400" y="2361960"/>
            <a:ext cx="7848720" cy="380988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hentication and access control events</a:t>
            </a:r>
            <a:endParaRPr b="0" lang="en-US" sz="32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on attempt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out event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empts to access system resources </a:t>
            </a:r>
            <a:endParaRPr b="0" lang="en-US" sz="28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events</a:t>
            </a:r>
            <a:endParaRPr b="0" lang="en-US" sz="32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ation, upgrades, and patche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onfiguration setting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attempts to datab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4"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yptographic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ryptographic key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ting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ing and closing of pol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 ballo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llot definition and modifi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20:39:34Z</dcterms:created>
  <dc:creator>Andrew Regenscheid</dc:creator>
  <dc:description/>
  <dc:language>en-US</dc:language>
  <cp:lastModifiedBy>wack</cp:lastModifiedBy>
  <dcterms:modified xsi:type="dcterms:W3CDTF">2010-07-07T16:50:44Z</dcterms:modified>
  <cp:revision>1541</cp:revision>
  <dc:subject>TGDC Meeting 12/9/09-12/10/09</dc:subject>
  <dc:title>NIST Research on UOCAVA Voting</dc:title>
</cp:coreProperties>
</file>