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8908-0C4B-4E07-BB7E-E16FC411C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A7D5-4E57-4875-AB69-D0EC06715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CAD0-02E8-495A-B6DE-9973A5437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05B9-FC72-40F2-85E0-70E4D1885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DAF5-9178-499D-A76C-B8232B357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D7B2-3547-42DC-A49A-BCA75D4D1C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F6F7-33D5-43D0-A31C-EA48E907A8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7D06-F9AC-4E50-A932-A794AAD41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24C43-E282-4F72-BBE1-6786A3AAB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CDDA-CBF5-40F2-A0AF-E898B41AF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1058-7822-455C-8080-F54D347C5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0C5C-98B6-4C61-AD5D-6A13720E3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0631-1170-451D-B0A7-6F96AABE6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B934-2DC9-4FE1-9E03-BDE60458A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828531C-44AB-4516-B98D-F19BA521128E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4288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Report of the Marginal Marks Working Group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8095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F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EB9987F-AA86-407D-8788-447020E8DC6F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r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stigate the development of a standard reference set of ballot markings representative of the types of marks that voters make on each common type of optical scan / marksense ball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:  Enable VSTLs and acceptance testers to test and document the responses of scan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goal:  Define what is a valid v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79CF5363-7A91-41B7-8FF2-A5C1A8040A38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liminary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cher, Mascher &amp; Jones, "Ballot Marks from the Humboldt County 2008 General Election [DRAFT]," May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Flater, informal review of ballots retained from previous human factors work at N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data sources had active write-in campaigns (real or simulat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5556E30-570F-4D8D-8545-BE32D754254B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incidental find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frequent anomaly was misuse of write-in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ote in name but did not fill the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Emphasis write-in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Write In" interpreted as instruction to vo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ndancy similar to writing a ch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ions that won't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voters seem to think that the ballot is going to be read by a hum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marks, X's, bleed-through, smu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BEA23C6-1343-427D-B74B-1B9483BA0A69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3" name="Picture 5" descr="Picture2.png"/>
          <p:cNvPicPr/>
          <p:nvPr/>
        </p:nvPicPr>
        <p:blipFill>
          <a:blip r:embed="rId1"/>
          <a:stretch/>
        </p:blipFill>
        <p:spPr>
          <a:xfrm>
            <a:off x="609480" y="2209680"/>
            <a:ext cx="597564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icture 1.png"/>
          <p:cNvPicPr/>
          <p:nvPr/>
        </p:nvPicPr>
        <p:blipFill>
          <a:blip r:embed="rId2"/>
          <a:stretch/>
        </p:blipFill>
        <p:spPr>
          <a:xfrm>
            <a:off x="685800" y="4038480"/>
            <a:ext cx="2879640" cy="2141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6566400" y="289548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out 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marked write-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685680" y="4952880"/>
            <a:ext cx="50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cellaneous checks, X's, lines through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498D71B-1E50-494C-9D7A-8CC342978923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evelopment of Standard Reference Set of Ballot Markings," https://www.fbo.gov/, solicitation number SB1341-10-RQ-04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t ballots (square targets) from Clark County, 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&amp;S ballots (oval targets) from Spokane County, 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oia ballots (arrows) from Snohomish County, W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and classification of 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cation of test set of 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validation of standard reference 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3:55:36Z</dcterms:created>
  <dc:creator>Andrew Regenscheid</dc:creator>
  <dc:description/>
  <dc:language>en-US</dc:language>
  <cp:lastModifiedBy>John P. Wack</cp:lastModifiedBy>
  <dcterms:modified xsi:type="dcterms:W3CDTF">2010-07-07T12:55:00Z</dcterms:modified>
  <cp:revision>1178</cp:revision>
  <dc:subject>TGDC Meeting 12/9/09-12/10/09</dc:subject>
  <dc:title>NIST Research on UOCAVA Voting</dc:title>
</cp:coreProperties>
</file>