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F33F-4DF1-4E79-A57E-75673F586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B154-882A-4331-8800-1F44B6A5E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FF72-2731-4C7C-81BB-6ADBC4232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40E5-2342-4D71-9083-4AE97C1C9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D6A0-BCE9-4D8A-96C2-E5ED9FE3D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832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2224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832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2224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DEBB-79BE-4DF5-A9E6-B5F212B47F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C618-8C28-47DA-8E5C-597F6A7B1D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FF43-7616-4188-9219-8DA7CAFD4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C4FF-D3A9-4407-9EEB-917CF0E60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6080-3DAA-4667-9875-7F53C3303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9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3F31-3C3A-4B0B-9C36-27B2E257C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7751-7C36-4461-8559-2F1C5FA53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1F05-6C56-4D05-903C-CC75B4EC0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08CC-41E0-4F21-B3AC-42FB18EA3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votebannernew"/>
          <p:cNvPicPr/>
          <p:nvPr/>
        </p:nvPicPr>
        <p:blipFill>
          <a:blip r:embed="rId2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votebannernew"/>
          <p:cNvPicPr/>
          <p:nvPr/>
        </p:nvPicPr>
        <p:blipFill>
          <a:blip r:embed="rId3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D0EABAAC-43A7-4AEF-BE4F-9F4AE32D7647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80880" y="6381720"/>
            <a:ext cx="373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TGDC Meeting,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ote.nist.gov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4288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Report of the Marginal Marks Working Grou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4920" y="3809520"/>
            <a:ext cx="6629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F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Institute of Standards and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vote.nist.g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9" descr="nistident_flright_300ppi1"/>
          <p:cNvPicPr/>
          <p:nvPr/>
        </p:nvPicPr>
        <p:blipFill>
          <a:blip r:embed="rId2"/>
          <a:stretch/>
        </p:blipFill>
        <p:spPr>
          <a:xfrm>
            <a:off x="6400800" y="5425920"/>
            <a:ext cx="26226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7F5ACBCC-2B12-4DF3-91DE-DB16D12B89A5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r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stigate the development of a standard reference set of ballot markings representative of the types of marks that voters make on each common type of optical scan / marksense ball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:  Enable VSTLs and acceptance testers to test and document the responses of scan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goal:  Define what is a valid v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C435B22B-FA3D-48A6-B5B7-6CC3A154B542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y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cher, Mascher &amp; Jones, "Ballot Marks from the Humboldt County 2008 General Election [DRAFT]," May 2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Flater, informal review of ballots retained from previous human factors work at N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data sources had active write-in campaigns (real or simulat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70296D8D-2846-4F1B-BCC7-DE753625C2C1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incidental find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frequent anomaly was misuse of write-in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ote in name but did not fill the targ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Emphasis write-in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Write In" interpreted as instruction to vo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ndancy similar to writing a che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ions that won't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voters seem to think that the ballot is going to be read by a hum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marks, X's, bleed-through, smu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BE3C63FB-AA10-4498-8853-7F78FA853029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3" name="Picture 5" descr="Picture2.png"/>
          <p:cNvPicPr/>
          <p:nvPr/>
        </p:nvPicPr>
        <p:blipFill>
          <a:blip r:embed="rId1"/>
          <a:stretch/>
        </p:blipFill>
        <p:spPr>
          <a:xfrm>
            <a:off x="609480" y="2209680"/>
            <a:ext cx="597564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icture 1.png"/>
          <p:cNvPicPr/>
          <p:nvPr/>
        </p:nvPicPr>
        <p:blipFill>
          <a:blip r:embed="rId2"/>
          <a:stretch/>
        </p:blipFill>
        <p:spPr>
          <a:xfrm>
            <a:off x="685800" y="4038480"/>
            <a:ext cx="2879640" cy="2141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6566400" y="289548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out 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marked write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685680" y="4952880"/>
            <a:ext cx="50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cellaneous checks, X's, lines through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214F5434-5AE0-46F6-8AE7-32CB4B751752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9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obj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evelopment of Standard Reference Set of Ballot Markings," https://www.fbo.gov/, solicitation number SB1341-10-RQ-045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t ballots (square targets) from Clark County, W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&amp;S ballots (oval targets) from Spokane County, W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oia ballots (arrows) from Snohomish County, W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 and classification of ma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cation of test set of ma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and validation of standard reference ma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3:55:36Z</dcterms:created>
  <dc:creator>Andrew Regenscheid</dc:creator>
  <dc:description/>
  <dc:language>en-US</dc:language>
  <cp:lastModifiedBy>John P. Wack</cp:lastModifiedBy>
  <dcterms:modified xsi:type="dcterms:W3CDTF">2010-07-07T12:55:00Z</dcterms:modified>
  <cp:revision>1178</cp:revision>
  <dc:subject>TGDC Meeting 12/9/09-12/10/09</dc:subject>
  <dc:title>NIST Research on UOCAVA Voting</dc:title>
</cp:coreProperties>
</file>