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92E6-7C84-4FD4-A3B0-9C1DC88D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58B2-182A-497B-85CE-6F1384DAB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04840" y="696960"/>
            <a:ext cx="4648320" cy="3486240"/>
          </a:xfrm>
          <a:prstGeom prst="rect">
            <a:avLst/>
          </a:prstGeom>
          <a:ln w="0">
            <a:noFill/>
          </a:ln>
        </p:spPr>
      </p:sp>
      <p:sp>
        <p:nvSpPr>
          <p:cNvPr id="90"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41D3D-DFF2-4B7A-9802-E400DFC28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127EE78-5CAA-477A-9A81-3D7F87294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39B47C5-6047-4032-AADE-4E9587364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4C569D4-163D-4F70-B043-10929FE5FF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7E4FCE7-AD53-44F3-8D7A-1207FC1029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017889D-4F33-41CF-B537-DC772CE66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9049867-0EB2-43C7-A431-29163FD6F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9A7DD791-8FE8-4A27-85A8-9CCD82B04E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A3E020F-8054-4E25-8535-A81697287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DE098D9-18D9-4330-A5B8-AEA8F4E49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C7C7B2-42B4-4E12-B34A-4B904BBD2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ACE74FF-F347-4754-A0FA-8A67598A6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96FEDD2E-E5F8-4B26-85C1-4E0F7A877F8B}"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f the Auditability Working Group</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vid Flater</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441ADAEE-A559-402D-992C-FC8589B56732}"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609480" y="1294920"/>
            <a:ext cx="77932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ity concerns</a:t>
            </a:r>
            <a:endParaRPr b="0" lang="en-US" sz="4000" spc="-1" strike="noStrike">
              <a:solidFill>
                <a:srgbClr val="333399"/>
              </a:solidFill>
              <a:latin typeface="Tahoma"/>
            </a:endParaRPr>
          </a:p>
        </p:txBody>
      </p:sp>
      <p:sp>
        <p:nvSpPr>
          <p:cNvPr id="78" name="PlaceHolder 2"/>
          <p:cNvSpPr>
            <a:spLocks noGrp="1"/>
          </p:cNvSpPr>
          <p:nvPr>
            <p:ph/>
          </p:nvPr>
        </p:nvSpPr>
        <p:spPr>
          <a:xfrm>
            <a:off x="685440" y="2286000"/>
            <a:ext cx="792468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have been misunderstandings about the impact of VVSG 2.0 on already-deployed system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VSG 2.0 intended to be "forward-looking" for new certifications after some dat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 determines the date once new guidelines are approv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rtificates issued under previous versions of the guidelines will not be revoked automatically when new guidelines are approv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date to retrofit or replace already-deployed system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st" case:  Assuming that a jurisdiction has [voluntarily adopted] a law that deployed systems must comply with </a:t>
            </a:r>
            <a:r>
              <a:rPr b="0" lang="en-US" sz="1800" spc="-1" strike="noStrike" u="sng">
                <a:solidFill>
                  <a:srgbClr val="000000"/>
                </a:solidFill>
                <a:uFillTx/>
                <a:latin typeface="Tahoma"/>
              </a:rPr>
              <a:t>latest</a:t>
            </a:r>
            <a:r>
              <a:rPr b="0" lang="en-US" sz="1800" spc="-1" strike="noStrike">
                <a:solidFill>
                  <a:srgbClr val="000000"/>
                </a:solidFill>
                <a:latin typeface="Tahoma"/>
              </a:rPr>
              <a:t> EAC guidelines to be used in an election—approval of VVSG 2.0 is not imminen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 = Volunta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37BC1366-69B4-4AF2-AD46-E08447E5AD9B}"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1</a:t>
            </a:r>
            <a:endParaRPr b="0" lang="en-US" sz="4400" spc="-1" strike="noStrike">
              <a:solidFill>
                <a:srgbClr val="333399"/>
              </a:solidFill>
              <a:latin typeface="Tahoma"/>
            </a:endParaRPr>
          </a:p>
        </p:txBody>
      </p:sp>
      <p:sp>
        <p:nvSpPr>
          <p:cNvPr id="81" name="PlaceHolder 2"/>
          <p:cNvSpPr>
            <a:spLocks noGrp="1"/>
          </p:cNvSpPr>
          <p:nvPr>
            <p:ph/>
          </p:nvPr>
        </p:nvSpPr>
        <p:spPr>
          <a:xfrm>
            <a:off x="685440" y="2286000"/>
            <a:ext cx="7924680" cy="419112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 one or more of the existing paperless alternatives</a:t>
            </a:r>
            <a:endParaRPr b="0" lang="en-US" sz="2000" spc="-1" strike="noStrike">
              <a:solidFill>
                <a:srgbClr val="000000"/>
              </a:solidFill>
              <a:latin typeface="Tahoma"/>
            </a:endParaRPr>
          </a:p>
          <a:p>
            <a:pPr lvl="1"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alternatives have different implications and consequ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ied policy decisions</a:t>
            </a:r>
            <a:endParaRPr b="0" lang="en-US" sz="20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VD:  reject the rogue programmers threat or accept an incomplete mitigation</a:t>
            </a:r>
            <a:endParaRPr b="0" lang="en-US" sz="16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allel testing:  accept difficult and/or incomplete procedural mitigation that is outside the scope of EAC certification</a:t>
            </a:r>
            <a:endParaRPr b="0" lang="en-US" sz="16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ssurance:  commit to invasive, expensive changes to the development process and all-new systems</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ng a higher-level auditability concept requires relaxing one of the constraints</a:t>
            </a:r>
            <a:endParaRPr b="0" lang="en-US" sz="20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wise auditability = SI</a:t>
            </a:r>
            <a:endParaRPr b="0" lang="en-US" sz="1600" spc="-1" strike="noStrike">
              <a:solidFill>
                <a:srgbClr val="000000"/>
              </a:solidFill>
              <a:latin typeface="Tahoma"/>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C9ADE74D-FF62-4A94-9BA8-C600DDA354D3}"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2</a:t>
            </a:r>
            <a:endParaRPr b="0" lang="en-US" sz="4400" spc="-1" strike="noStrike">
              <a:solidFill>
                <a:srgbClr val="333399"/>
              </a:solidFill>
              <a:latin typeface="Tahoma"/>
            </a:endParaRPr>
          </a:p>
        </p:txBody>
      </p:sp>
      <p:sp>
        <p:nvSpPr>
          <p:cNvPr id="84" name="PlaceHolder 2"/>
          <p:cNvSpPr>
            <a:spLocks noGrp="1"/>
          </p:cNvSpPr>
          <p:nvPr>
            <p:ph/>
          </p:nvPr>
        </p:nvSpPr>
        <p:spPr>
          <a:xfrm>
            <a:off x="685440" y="2133360"/>
            <a:ext cx="7924680" cy="380988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de that it was all a big misunderstanding</a:t>
            </a:r>
            <a:endParaRPr b="0" lang="en-US" sz="24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of SI + no mandate for paper is what we had in 2007</a:t>
            </a:r>
            <a:endParaRPr b="0" lang="en-US" sz="20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ballot accessibility requirements—as intended</a:t>
            </a:r>
            <a:endParaRPr b="0" lang="en-US" sz="20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ual paper ballot handling (Acc-VS)</a:t>
            </a:r>
            <a:endParaRPr b="0" lang="en-US" sz="18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ernative format verification of complete paper ballot print content</a:t>
            </a:r>
            <a:endParaRPr b="0" lang="en-US" sz="18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that an example of a conforming system need not exist yet</a:t>
            </a:r>
            <a:endParaRPr b="0" lang="en-US" sz="20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date to retrofit or replace</a:t>
            </a:r>
            <a:endParaRPr b="0" lang="en-US" sz="18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age Standards Board, Board of Advisors during the process</a:t>
            </a:r>
            <a:endParaRPr b="0" lang="en-US" sz="20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ocus on communication, first impress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D70B1972-0C1A-4F78-B1D1-73ADB8E737EF}"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3</a:t>
            </a:r>
            <a:endParaRPr b="0" lang="en-US" sz="4400" spc="-1" strike="noStrike">
              <a:solidFill>
                <a:srgbClr val="333399"/>
              </a:solidFill>
              <a:latin typeface="Tahoma"/>
            </a:endParaRPr>
          </a:p>
        </p:txBody>
      </p:sp>
      <p:sp>
        <p:nvSpPr>
          <p:cNvPr id="87" name="PlaceHolder 2"/>
          <p:cNvSpPr>
            <a:spLocks noGrp="1"/>
          </p:cNvSpPr>
          <p:nvPr>
            <p:ph/>
          </p:nvPr>
        </p:nvSpPr>
        <p:spPr>
          <a:xfrm>
            <a:off x="685440" y="2209680"/>
            <a:ext cx="7924680" cy="38102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misunderstanding—confirm the previous resul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the SI argument; accept the SI conclus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shifting to opsc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ballot accessibility requirements—as intend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ufacturers reportedly are responding to paper handling and readback requirements</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hting the previous battle?</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80EE07C9-84CB-463D-9B4A-FC85CA6FAE2B}"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line</a:t>
            </a:r>
            <a:endParaRPr b="0" lang="en-US" sz="3600" spc="-1" strike="noStrike">
              <a:solidFill>
                <a:srgbClr val="333399"/>
              </a:solidFill>
              <a:latin typeface="Tahoma"/>
            </a:endParaRPr>
          </a:p>
        </p:txBody>
      </p:sp>
      <p:sp>
        <p:nvSpPr>
          <p:cNvPr id="54" name="PlaceHolder 2"/>
          <p:cNvSpPr>
            <a:spLocks noGrp="1"/>
          </p:cNvSpPr>
          <p:nvPr>
            <p:ph/>
          </p:nvPr>
        </p:nvSpPr>
        <p:spPr>
          <a:xfrm>
            <a:off x="685440" y="2057400"/>
            <a:ext cx="792468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ation</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ge to the working group</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oal of software independence (SI)</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was actually required in the 2007 TGDC draft</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s to SI and their consequenc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voter-verification, and accessibility</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ity concern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options</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ate</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GDC and EAC discussion</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lutions (choose an op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303279EA-E053-4D04-9456-FD23D3638420}"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ge to the working group</a:t>
            </a:r>
            <a:endParaRPr b="0" lang="en-US" sz="4400" spc="-1" strike="noStrike">
              <a:solidFill>
                <a:srgbClr val="333399"/>
              </a:solidFill>
              <a:latin typeface="Tahoma"/>
            </a:endParaRPr>
          </a:p>
        </p:txBody>
      </p:sp>
      <p:sp>
        <p:nvSpPr>
          <p:cNvPr id="57" name="PlaceHolder 2"/>
          <p:cNvSpPr>
            <a:spLocks noGrp="1"/>
          </p:cNvSpPr>
          <p:nvPr>
            <p:ph/>
          </p:nvPr>
        </p:nvSpPr>
        <p:spPr>
          <a:xfrm>
            <a:off x="685440" y="2514240"/>
            <a:ext cx="7924680" cy="3809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lternatives to Software Independence (SI)</a:t>
            </a:r>
            <a:r>
              <a:rPr b="0" lang="en-US" sz="2400" spc="-1" strike="noStrike">
                <a:solidFill>
                  <a:srgbClr val="000000"/>
                </a:solidFill>
                <a:latin typeface="Century Schoolbook"/>
              </a:rPr>
              <a:t> – EAC directs the TGDC to develop draft requirements for audit methods to achieve the goal of Software Independence (SI).  The goal is to develop requirements for the auditability of the election system without requiring a specific technology.  The starting point for these requirements should be the work already completed by NIST on alternatives to SI.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15DF4AC5-7B40-4F67-AECD-0FF61716001C}"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I rationale (abridged)</a:t>
            </a:r>
            <a:endParaRPr b="0" lang="en-US" sz="3600" spc="-1" strike="noStrike">
              <a:solidFill>
                <a:srgbClr val="333399"/>
              </a:solidFill>
              <a:latin typeface="Tahoma"/>
            </a:endParaRPr>
          </a:p>
        </p:txBody>
      </p:sp>
      <p:sp>
        <p:nvSpPr>
          <p:cNvPr id="60" name="PlaceHolder 2"/>
          <p:cNvSpPr>
            <a:spLocks noGrp="1"/>
          </p:cNvSpPr>
          <p:nvPr>
            <p:ph/>
          </p:nvPr>
        </p:nvSpPr>
        <p:spPr>
          <a:xfrm>
            <a:off x="685440" y="2209680"/>
            <a:ext cx="7924680" cy="3810240"/>
          </a:xfrm>
          <a:prstGeom prst="rect">
            <a:avLst/>
          </a:prstGeom>
          <a:noFill/>
          <a:ln w="0">
            <a:noFill/>
          </a:ln>
        </p:spPr>
        <p:txBody>
          <a:bodyPr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ollowing is not the </a:t>
            </a:r>
            <a:r>
              <a:rPr b="0" i="1" lang="en-US" sz="2000" spc="-1" strike="noStrike">
                <a:solidFill>
                  <a:srgbClr val="000000"/>
                </a:solidFill>
                <a:latin typeface="Tahoma"/>
              </a:rPr>
              <a:t>entire</a:t>
            </a:r>
            <a:r>
              <a:rPr b="0" lang="en-US" sz="2000" spc="-1" strike="noStrike">
                <a:solidFill>
                  <a:srgbClr val="000000"/>
                </a:solidFill>
                <a:latin typeface="Tahoma"/>
              </a:rPr>
              <a:t> SI rationale, but it is the acid test that distinguishes SI from other forms of audit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as plausible that there could be one rogue or coerced software engineer in each independent supplier of voting equipment to the jurisdiction</a:t>
            </a:r>
            <a:endParaRPr b="0" lang="en-US" sz="2000" spc="-1" strike="noStrike">
              <a:solidFill>
                <a:srgbClr val="000000"/>
              </a:solidFill>
              <a:latin typeface="Tahoma"/>
            </a:endParaRPr>
          </a:p>
          <a:p>
            <a:pPr lvl="1" marL="698400" indent="-26856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ernately, that each supplier relies on insecure COTS software that a third party can exploit, or that common mode failures exist, or etc.</a:t>
            </a:r>
            <a:endParaRPr b="0" lang="en-US" sz="18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electronic records potentially compromised</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re are no other records, then it is not possible to compare records to audit the result</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goal of SI</a:t>
            </a:r>
            <a:r>
              <a:rPr b="0" lang="en-US" sz="2000" spc="-1" strike="noStrike">
                <a:solidFill>
                  <a:srgbClr val="000000"/>
                </a:solidFill>
                <a:latin typeface="Tahoma"/>
              </a:rPr>
              <a:t>, as abridged:  mitigate this threat (and others that are easier)</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AE972E61-3761-4A09-A6F2-802CB8580C4A}"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itigation:  independent voter-verifiable records</a:t>
            </a:r>
            <a:endParaRPr b="0" lang="en-US" sz="2800" spc="-1" strike="noStrike">
              <a:solidFill>
                <a:srgbClr val="333399"/>
              </a:solidFill>
              <a:latin typeface="Tahoma"/>
            </a:endParaRPr>
          </a:p>
        </p:txBody>
      </p:sp>
      <p:sp>
        <p:nvSpPr>
          <p:cNvPr id="63" name="PlaceHolder 2"/>
          <p:cNvSpPr>
            <a:spLocks noGrp="1"/>
          </p:cNvSpPr>
          <p:nvPr>
            <p:ph/>
          </p:nvPr>
        </p:nvSpPr>
        <p:spPr>
          <a:xfrm>
            <a:off x="685440" y="2285640"/>
            <a:ext cx="7924680" cy="380988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records enable a meaningful aud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ter-verification establishes independent validit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ed records must be protected from modific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records suffice</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rect and indirect verifica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llots dropped into ballot bo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difficult to achieve wholesale compromise of paper records without detec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s that mitigated the threat without using paper were not prohibited in the 2007 TGDC draf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30EEC828-2ADE-404B-8DAE-2099A776B50B}"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VR versus paper</a:t>
            </a:r>
            <a:endParaRPr b="0" lang="en-US" sz="4400" spc="-1" strike="noStrike">
              <a:solidFill>
                <a:srgbClr val="333399"/>
              </a:solidFill>
              <a:latin typeface="Tahoma"/>
            </a:endParaRPr>
          </a:p>
        </p:txBody>
      </p:sp>
      <p:sp>
        <p:nvSpPr>
          <p:cNvPr id="66" name="PlaceHolder 2"/>
          <p:cNvSpPr>
            <a:spLocks noGrp="1"/>
          </p:cNvSpPr>
          <p:nvPr>
            <p:ph/>
          </p:nvPr>
        </p:nvSpPr>
        <p:spPr>
          <a:xfrm>
            <a:off x="685440" y="2361960"/>
            <a:ext cx="7924680" cy="3809880"/>
          </a:xfrm>
          <a:prstGeom prst="rect">
            <a:avLst/>
          </a:prstGeom>
          <a:noFill/>
          <a:ln w="0">
            <a:noFill/>
          </a:ln>
        </p:spPr>
        <p:txBody>
          <a:bodyPr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the 2007 TGDC draft actually required</a:t>
            </a:r>
            <a:endParaRPr b="0" lang="en-US" sz="2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ther independent voter-verifiable records (IVVR), or</a:t>
            </a:r>
            <a:endParaRPr b="0" lang="en-US" sz="18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novation class submission"</a:t>
            </a:r>
            <a:endParaRPr b="0" lang="en-US" sz="18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nt:  the term IVVR was introduced specifically to </a:t>
            </a:r>
            <a:r>
              <a:rPr b="0" i="1" lang="en-US" sz="2000" spc="-1" strike="noStrike">
                <a:solidFill>
                  <a:srgbClr val="000000"/>
                </a:solidFill>
                <a:latin typeface="Tahoma"/>
              </a:rPr>
              <a:t>avoid</a:t>
            </a:r>
            <a:r>
              <a:rPr b="0" lang="en-US" sz="2000" spc="-1" strike="noStrike">
                <a:solidFill>
                  <a:srgbClr val="000000"/>
                </a:solidFill>
                <a:latin typeface="Tahoma"/>
              </a:rPr>
              <a:t> mandating paper</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t:  paperless solutions are still researchy</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bsence of example, cannot conclude:</a:t>
            </a:r>
            <a:endParaRPr b="0" lang="en-US" sz="2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the requirements are more restrictive than necessary to achieve the goal</a:t>
            </a:r>
            <a:endParaRPr b="0" lang="en-US" sz="18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no conforming paperless solution can possibly exist</a:t>
            </a:r>
            <a:endParaRPr b="0" lang="en-US" sz="1800" spc="-1" strike="noStrike">
              <a:solidFill>
                <a:srgbClr val="000000"/>
              </a:solidFill>
              <a:latin typeface="Tahom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not have working group consensus on these asser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195E6190-27BF-433C-8CBF-06E455D0A53F}"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ternatives and consequences</a:t>
            </a:r>
            <a:endParaRPr b="0" lang="en-US" sz="3600" spc="-1" strike="noStrike">
              <a:solidFill>
                <a:srgbClr val="333399"/>
              </a:solidFill>
              <a:latin typeface="Tahoma"/>
            </a:endParaRPr>
          </a:p>
        </p:txBody>
      </p:sp>
      <p:sp>
        <p:nvSpPr>
          <p:cNvPr id="69" name="PlaceHolder 2"/>
          <p:cNvSpPr>
            <a:spLocks noGrp="1"/>
          </p:cNvSpPr>
          <p:nvPr>
            <p:ph/>
          </p:nvPr>
        </p:nvSpPr>
        <p:spPr>
          <a:xfrm>
            <a:off x="685440" y="2133360"/>
            <a:ext cx="7924680" cy="380988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Independent Verification Devices (e.g. VoteGuard)</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best incomplete response to the rogue programmers threat</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testing</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ms race between complexity of testing and complexity of evading detection</a:t>
            </a:r>
            <a:endParaRPr b="0" lang="en-US" sz="18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not be required in the VVSG</a:t>
            </a:r>
            <a:endParaRPr b="0" lang="en-US" sz="18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nts the problem to poll workers</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assurance</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uld require invasive, expensive changes to the development process and all-new systems</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to-end crypto still a research topic</a:t>
            </a:r>
            <a:endParaRPr b="0" lang="en-US" sz="20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known unknowns ("innovation cla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B98C799F-C449-47E9-8728-6F9BC2D2620E}"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ied a different approach</a:t>
            </a:r>
            <a:endParaRPr b="0" lang="en-US" sz="3600" spc="-1" strike="noStrike">
              <a:solidFill>
                <a:srgbClr val="333399"/>
              </a:solidFill>
              <a:latin typeface="Tahoma"/>
            </a:endParaRPr>
          </a:p>
        </p:txBody>
      </p:sp>
      <p:sp>
        <p:nvSpPr>
          <p:cNvPr id="72" name="PlaceHolder 2"/>
          <p:cNvSpPr>
            <a:spLocks noGrp="1"/>
          </p:cNvSpPr>
          <p:nvPr>
            <p:ph/>
          </p:nvPr>
        </p:nvSpPr>
        <p:spPr>
          <a:xfrm>
            <a:off x="685440" y="2209320"/>
            <a:ext cx="7924680" cy="43434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ious state:  auditability = S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ggested new state:  auditability = ability to do an automated, independent recount</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ed, because manual counting is inaccurat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ependent, so that it is a meaningful audi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something comparable to shipping opscan ballots to neighboring county</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ls short of the SI goal if voter-verifiability is not includ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perless approaches = IVD</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best incomplete response to the rogue programmers thre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much does "independent" entai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ing verification off the critical path or making it "rand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9BAF64FE-235A-453F-93BF-04F4B0F8AB3C}"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per, voter-verification, and accessibility</a:t>
            </a:r>
            <a:endParaRPr b="0" lang="en-US" sz="3200" spc="-1" strike="noStrike">
              <a:solidFill>
                <a:srgbClr val="333399"/>
              </a:solidFill>
              <a:latin typeface="Tahoma"/>
            </a:endParaRPr>
          </a:p>
        </p:txBody>
      </p:sp>
      <p:sp>
        <p:nvSpPr>
          <p:cNvPr id="75" name="PlaceHolder 2"/>
          <p:cNvSpPr>
            <a:spLocks noGrp="1"/>
          </p:cNvSpPr>
          <p:nvPr>
            <p:ph/>
          </p:nvPr>
        </p:nvSpPr>
        <p:spPr>
          <a:xfrm>
            <a:off x="685440" y="1905120"/>
            <a:ext cx="7924680" cy="4114800"/>
          </a:xfrm>
          <a:prstGeom prst="rect">
            <a:avLst/>
          </a:prstGeom>
          <a:noFill/>
          <a:ln w="0">
            <a:noFill/>
          </a:ln>
        </p:spPr>
        <p:txBody>
          <a:bodyPr anchor="t">
            <a:normAutofit fontScale="92000"/>
          </a:bodyPr>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have been misunderstandings about what exactly the 2007 TGDC draft required and did not require</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per record accessibility requirements were intended to be more general (i.e. stronger) than in VVSG 1.0</a:t>
            </a:r>
            <a:endParaRPr b="0" lang="en-US" sz="16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independence" maybe conveyed that not allowed to use software for audio readback; that was not the intent</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7 TGDC draft reflected a difficult compromise</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dentical experience for every voter is infeasible</a:t>
            </a:r>
            <a:endParaRPr b="0" lang="en-US" sz="16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hibiting or limiting voter-verification would not be a win</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ence of conforming implementations raised objections</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jecting paper entirely versus requiring paper record accessibility</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re is agreement to pursue some alternative to SI, then agreement on reasons for rejecting SI is not required</a:t>
            </a:r>
            <a:endParaRPr b="0" lang="en-US" sz="18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re is not agreement to pursue some alternative to SI, then a better compromise has not yet been identifi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54:21Z</dcterms:modified>
  <cp:revision>1427</cp:revision>
  <dc:subject>TGDC Meeting 12/9/09-12/10/09</dc:subject>
  <dc:title>NIST Research on UOCAVA Voting</dc:title>
</cp:coreProperties>
</file>