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A5B4D-B6C6-4370-90B7-AC1A964D6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8790-F76A-4847-9A8D-61E106C6F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09543-2AED-4C1C-8CA3-6A79D3CB0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79394-853C-4453-87BB-53B6A7D10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91D95-6A66-4B2E-A60D-195D4AC66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A78F6-FE6B-43E3-BD34-AEC1245E4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924EE-BB82-4D86-881F-090FFC621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8BD5-8804-40B0-8599-30156D7CD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152A9-AC24-41BD-AF5E-49BA72F94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3E438-50B6-4B71-B31E-D9187111D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7CA1-16F7-4871-B919-59DCCC8EA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5A65-149D-46CA-B4DB-121BF0005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D9AA2-05AC-4E74-ACA5-AA8E3A6F3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2FA92-4C22-46F3-98ED-10D664211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37239-837F-4764-81F4-43E20E30B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58FA4-EF61-4C10-91A1-D3339DFCC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7FEA1-7863-470B-A1D1-8F839790D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B945BA-CDA5-4EA8-B1E9-E0449FC8E7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E50443-D7D0-4E79-805B-7D903D346A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930A4D-EA54-43A8-8D2E-4A9DB5997C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9FA312-004A-47BE-87BD-A7342D105B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52038A-EFF6-46B1-8DED-54BA6629B5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A2FE6-D631-43E6-9D45-A4840BE3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606223-277C-4297-8C56-5875C9121B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55EB7B-16BE-4165-A8B9-40B7CFA281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8F4F05-BA94-4787-A1EA-90B20EF572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D2AC5E-18BE-4FEE-98E5-5408C17B72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6E956B-41EB-47CB-B198-B5CA45AFC9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D56E4C-11B9-4A62-AB47-E3493761EA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4736B3-9C94-47EB-848F-30E78EC3B5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4658F03-082A-4DD7-AA8E-25BED65F51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C519EC1-5A2A-4EA2-AB82-884D31DD87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0A2BC53-49A1-4024-BE9C-413315477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30E70-CD1B-4347-BACF-9F462185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AB5DB8E-D790-448E-8282-251F724D20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8E39046-7CE4-4D41-9F9C-DAF14406497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2FBD76B-4770-405D-8202-2C5197F338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777DF0D-742C-4D0D-AB8B-7685BE8E9C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389D792-4344-4959-A57C-CEDF218789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D8669DD-6310-4F82-851D-A353C9847B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0B3E827-D521-4330-97D3-685A5CBF17F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68828BD-6689-46E5-B92D-594A14FA81B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03ECAD0-FCF8-4838-A9EE-82155A6EE3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10036-C0CB-4A9D-8021-DF597CC0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57563-80DC-40C9-AB50-BAC4742E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5EEF-16E2-4CEB-8197-0BAF5E88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8472-7C78-4922-AA8A-A3028B0F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2161-314E-4225-A45E-9AF32F368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19F5-5D06-4797-9CA0-194CC61956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4510-53AD-44A2-A0D1-2A2D60AAC9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8" descr="votebannernew"/>
          <p:cNvPicPr/>
          <p:nvPr/>
        </p:nvPicPr>
        <p:blipFill>
          <a:blip r:embed="rId2"/>
          <a:stretch/>
        </p:blipFill>
        <p:spPr>
          <a:xfrm>
            <a:off x="304920" y="228600"/>
            <a:ext cx="8458200" cy="9907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7"/>
          </p:nvPr>
        </p:nvSpPr>
        <p:spPr>
          <a:xfrm>
            <a:off x="533160" y="6324120"/>
            <a:ext cx="289548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Verdana"/>
              </a:rPr>
              <a:t>TGDC Meeting, July 8-9, 2010</a:t>
            </a:r>
            <a:endParaRPr b="0" lang="en-US" sz="1200" spc="-1" strike="noStrike">
              <a:solidFill>
                <a:srgbClr val="000000"/>
              </a:solidFill>
              <a:latin typeface="Times New Roman"/>
            </a:endParaRPr>
          </a:p>
        </p:txBody>
      </p:sp>
      <p:sp>
        <p:nvSpPr>
          <p:cNvPr id="86"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DA89-D45D-445E-9374-8FDBD0F2AA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8" descr="votebannernew"/>
          <p:cNvPicPr/>
          <p:nvPr/>
        </p:nvPicPr>
        <p:blipFill>
          <a:blip r:embed="rId2"/>
          <a:stretch/>
        </p:blipFill>
        <p:spPr>
          <a:xfrm>
            <a:off x="304920" y="228600"/>
            <a:ext cx="8458200" cy="990720"/>
          </a:xfrm>
          <a:prstGeom prst="rect">
            <a:avLst/>
          </a:prstGeom>
          <a:ln w="0">
            <a:noFill/>
          </a:ln>
        </p:spPr>
      </p:pic>
      <p:sp>
        <p:nvSpPr>
          <p:cNvPr id="124" name="Footer Placeholder 4"/>
          <p:cNvSpPr/>
          <p:nvPr/>
        </p:nvSpPr>
        <p:spPr>
          <a:xfrm>
            <a:off x="1522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Verdana"/>
              </a:rPr>
              <a:t>TGDC Meeting, July 8-9, 2010</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2831-4EB4-4A6C-8131-84982BF0A0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ahoma"/>
                <a:ea typeface="Tahoma"/>
              </a:rPr>
              <a:t>Usability and Accessibility Working Group Report</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1371600" y="40381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on Laskowski, PhD</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ahoma"/>
                <a:hlinkClick r:id="rId1"/>
              </a:rPr>
              <a:t>http://vote.nist.gov</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Footer Placeholder 4"/>
          <p:cNvSpPr/>
          <p:nvPr/>
        </p:nvSpPr>
        <p:spPr>
          <a:xfrm>
            <a:off x="1522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Verdana"/>
              </a:rPr>
              <a:t>TGDC Meeting, July 8-9, 2010</a:t>
            </a:r>
            <a:endParaRPr b="0" lang="en-US" sz="1200" spc="-1" strike="noStrike">
              <a:solidFill>
                <a:srgbClr val="000000"/>
              </a:solidFill>
              <a:latin typeface="Arial"/>
            </a:endParaRPr>
          </a:p>
        </p:txBody>
      </p:sp>
      <p:pic>
        <p:nvPicPr>
          <p:cNvPr id="167" name="Picture 9" descr="nistident_flright_300ppi1"/>
          <p:cNvPicPr/>
          <p:nvPr/>
        </p:nvPicPr>
        <p:blipFill>
          <a:blip r:embed="rId2"/>
          <a:stretch/>
        </p:blipFill>
        <p:spPr>
          <a:xfrm>
            <a:off x="6521400" y="548640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Paper ballots: manual dexterity</a:t>
            </a:r>
            <a:endParaRPr b="0" lang="en-US" sz="3200" spc="-1" strike="noStrike">
              <a:solidFill>
                <a:srgbClr val="000000"/>
              </a:solidFill>
              <a:latin typeface="Calibri"/>
            </a:endParaRPr>
          </a:p>
        </p:txBody>
      </p:sp>
      <p:sp>
        <p:nvSpPr>
          <p:cNvPr id="193" name=""/>
          <p:cNvSpPr txBox="1"/>
          <p:nvPr/>
        </p:nvSpPr>
        <p:spPr>
          <a:xfrm>
            <a:off x="609480" y="18288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VSG 1.0 requirement 3.2.3.e was revised by the EAC “</a:t>
            </a:r>
            <a:r>
              <a:rPr b="0" i="1" lang="en-US" sz="2400" spc="-1" strike="noStrike">
                <a:solidFill>
                  <a:srgbClr val="000000"/>
                </a:solidFill>
                <a:latin typeface="Tahoma"/>
              </a:rPr>
              <a:t>to make the capability to submit the ballot mandatory for voters with dexterity limitations</a:t>
            </a:r>
            <a:r>
              <a:rPr b="0" lang="en-US" sz="2400" spc="-1" strike="noStrike">
                <a:solidFill>
                  <a:srgbClr val="000000"/>
                </a:solidFill>
                <a:latin typeface="Tahoma"/>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VSG 1.0 Req. 3.2.3.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normal procedure is for voters to submit their own ballots, then the accessible voting station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provide features that enable voters who lack fine motor control or the use of their hands to perform this submission.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VSG 1.1 (and 2.0) draft Req 3.3.4.c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Acc-VS supports ballot submission or voter verification for non-disabled voters, then it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also provide features that enable voters who lack fine motor control or the use of their hands to perform these actions.  (Note: all usability reqs apply to the accessible system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330A-C62E-4040-AB5F-AC12412F53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Paper ballots: visual</a:t>
            </a:r>
            <a:endParaRPr b="0" lang="en-US" sz="3200" spc="-1" strike="noStrike">
              <a:solidFill>
                <a:srgbClr val="000000"/>
              </a:solidFill>
              <a:latin typeface="Calibri"/>
            </a:endParaRPr>
          </a:p>
        </p:txBody>
      </p:sp>
      <p:sp>
        <p:nvSpPr>
          <p:cNvPr id="196" name=""/>
          <p:cNvSpPr txBox="1"/>
          <p:nvPr/>
        </p:nvSpPr>
        <p:spPr>
          <a:xfrm>
            <a:off x="152280" y="1752120"/>
            <a:ext cx="8839440" cy="3916440"/>
          </a:xfrm>
          <a:prstGeom prst="rect">
            <a:avLst/>
          </a:prstGeom>
          <a:noFill/>
          <a:ln w="0">
            <a:noFill/>
          </a:ln>
        </p:spPr>
        <p:txBody>
          <a:bodyPr anchor="t">
            <a:normAutofit fontScale="87000"/>
          </a:bodyPr>
          <a:p>
            <a:pPr marL="298440" indent="-2984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VSG 1.0 requirement 7.9.7.b was significantly revised by the EAC “</a:t>
            </a:r>
            <a:r>
              <a:rPr b="0" i="1" lang="en-US" sz="2400" spc="-1" strike="noStrike">
                <a:solidFill>
                  <a:srgbClr val="000000"/>
                </a:solidFill>
                <a:latin typeface="Tahoma"/>
              </a:rPr>
              <a:t>to make it clear that if the paper record either is treated as the official ballot or could be the controlling record used for recount, then visually disabled voters must be able to verify the paper record itself</a:t>
            </a:r>
            <a:r>
              <a:rPr b="0" lang="en-US" sz="2400" spc="-1" strike="noStrike">
                <a:solidFill>
                  <a:srgbClr val="000000"/>
                </a:solidFill>
                <a:latin typeface="Tahoma"/>
              </a:rPr>
              <a:t>”.  </a:t>
            </a:r>
            <a:endParaRPr b="0" lang="en-US" sz="2400" spc="-1" strike="noStrike">
              <a:solidFill>
                <a:srgbClr val="000000"/>
              </a:solidFill>
              <a:latin typeface="Calibri"/>
            </a:endParaRPr>
          </a:p>
          <a:p>
            <a:pPr marL="298440" indent="-2984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VSG 1.0 and VVSG 1.1 (and 2.0) drafts   Req. 7.9.7.b </a:t>
            </a:r>
            <a:endParaRPr b="0" lang="en-US" sz="1400" spc="-1" strike="noStrike">
              <a:solidFill>
                <a:srgbClr val="000000"/>
              </a:solidFill>
              <a:latin typeface="Calibri"/>
            </a:endParaRPr>
          </a:p>
          <a:p>
            <a:pPr marL="298440" indent="-298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normal voting procedure includes VVPAT, the accessible voting equipment </a:t>
            </a:r>
            <a:r>
              <a:rPr b="1" lang="en-US" sz="1400" spc="-1" strike="noStrike">
                <a:solidFill>
                  <a:srgbClr val="000000"/>
                </a:solidFill>
                <a:latin typeface="Tahoma"/>
                <a:ea typeface="Tahoma"/>
              </a:rPr>
              <a:t>should</a:t>
            </a:r>
            <a:r>
              <a:rPr b="0" lang="en-US" sz="1400" spc="-1" strike="noStrike">
                <a:solidFill>
                  <a:srgbClr val="000000"/>
                </a:solidFill>
                <a:latin typeface="Tahoma"/>
                <a:ea typeface="Tahoma"/>
              </a:rPr>
              <a:t> provide features that enable voters who are visually impaired and voters with an unwritten language to perform this verification. If state statute designates the paper record produced by the VVPAT to be the official ballot or the determinative record on a recount, the accessible voting equipment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provide features that enable visually impaired voters and voters with an unwritten language to review the paper record.</a:t>
            </a:r>
            <a:endParaRPr b="0" lang="en-US" sz="1400" spc="-1" strike="noStrike">
              <a:solidFill>
                <a:srgbClr val="000000"/>
              </a:solidFill>
              <a:latin typeface="Calibri"/>
            </a:endParaRPr>
          </a:p>
          <a:p>
            <a:pPr marL="298440" indent="-298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Also,  VVSG 1.1 (and 2.0) draft Req 3.3.1e</a:t>
            </a:r>
            <a:endParaRPr b="0" lang="en-US" sz="1400" spc="-1" strike="noStrike">
              <a:solidFill>
                <a:srgbClr val="000000"/>
              </a:solidFill>
              <a:latin typeface="Calibri"/>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Acc-VS generates a paper record (or some other durable, human-readable record) for the purposes of allowing voters to verify their votes, then the system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provide a means to ensure that the verification record is accessible to all voters with disabilities” (Note: all usability reqs apply to the accessible systems.)</a:t>
            </a:r>
            <a:endParaRPr b="0" lang="en-US" sz="1400" spc="-1" strike="noStrike">
              <a:solidFill>
                <a:srgbClr val="000000"/>
              </a:solidFill>
              <a:latin typeface="Calibri"/>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98440" indent="-298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7" name="Slide Number Placeholder 3"/>
          <p:cNvSpPr/>
          <p:nvPr/>
        </p:nvSpPr>
        <p:spPr>
          <a:xfrm>
            <a:off x="67816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72BF-601B-4A75-A949-B74AE2E9D9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04920" y="2209320"/>
            <a:ext cx="8534160" cy="391644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aper handling mechanisms and systems to allow verification of print in alternative formats have yet to be commercially available and deployed to meet these requirements.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Slide Number Placeholder 3"/>
          <p:cNvSpPr/>
          <p:nvPr/>
        </p:nvSpPr>
        <p:spPr>
          <a:xfrm>
            <a:off x="1371600" y="3505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6A43-FF46-4F0E-BCC5-1A97C78305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U&amp;A Working Group Goals</a:t>
            </a:r>
            <a:endParaRPr b="0" lang="en-US" sz="3200" spc="-1" strike="noStrike">
              <a:solidFill>
                <a:srgbClr val="000000"/>
              </a:solidFill>
              <a:latin typeface="Calibri"/>
            </a:endParaRPr>
          </a:p>
        </p:txBody>
      </p:sp>
      <p:sp>
        <p:nvSpPr>
          <p:cNvPr id="169" name=""/>
          <p:cNvSpPr txBox="1"/>
          <p:nvPr/>
        </p:nvSpPr>
        <p:spPr>
          <a:xfrm>
            <a:off x="457200" y="1905120"/>
            <a:ext cx="8229600" cy="391608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dentify and prioritize issues related to improving the usability and accessibility of voting systems</a:t>
            </a:r>
            <a:endParaRPr b="0" lang="en-US" sz="2800" spc="-1" strike="noStrike">
              <a:solidFill>
                <a:srgbClr val="000000"/>
              </a:solidFill>
              <a:latin typeface="Calibri"/>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ddress these issues through research to be performed by NIST and others* resulting in improved VVSG requirements and test methods and recommendations to the Election Assistance Commission</a:t>
            </a:r>
            <a:endParaRPr b="0" lang="en-US" sz="2800" spc="-1" strike="noStrike">
              <a:solidFill>
                <a:srgbClr val="000000"/>
              </a:solidFill>
              <a:latin typeface="Calibri"/>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ow: Biweekly discussions, collaboration with other WGs, NIST research</a:t>
            </a:r>
            <a:endParaRPr b="0" lang="en-US" sz="2800" spc="-1" strike="noStrike">
              <a:solidFill>
                <a:srgbClr val="000000"/>
              </a:solidFill>
              <a:latin typeface="Calibri"/>
            </a:endParaRPr>
          </a:p>
          <a:p>
            <a:pPr marL="315360" indent="-31536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e.g, EAC grant programs, academia</a:t>
            </a:r>
            <a:r>
              <a:rPr b="0" lang="en-US" sz="2700" spc="-1" strike="noStrike">
                <a:solidFill>
                  <a:srgbClr val="000000"/>
                </a:solidFill>
                <a:latin typeface="Tahoma"/>
                <a:ea typeface="Tahoma"/>
              </a:rPr>
              <a:t> </a:t>
            </a:r>
            <a:endParaRPr b="0" lang="en-US" sz="27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29BD-5205-4592-8AC6-BB0981E26B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Focus has been primarily accessibility</a:t>
            </a:r>
            <a:endParaRPr b="0" lang="en-US" sz="3200" spc="-1" strike="noStrike">
              <a:solidFill>
                <a:srgbClr val="000000"/>
              </a:solidFill>
              <a:latin typeface="Calibri"/>
            </a:endParaRPr>
          </a:p>
        </p:txBody>
      </p:sp>
      <p:sp>
        <p:nvSpPr>
          <p:cNvPr id="172" name=""/>
          <p:cNvSpPr txBox="1"/>
          <p:nvPr/>
        </p:nvSpPr>
        <p:spPr>
          <a:xfrm>
            <a:off x="457200" y="2331720"/>
            <a:ext cx="8229600" cy="3916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Discussions concerning VVSG requirements, interpretation, and testing</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cludes discussions of paper/access barrier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GDC work item for NIST: Examine VVSG 2.0 requirements for accessibility, including voter verification (voter verifiable paper rec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GDC work item for NIST : Report on “Accessibility and usability considerations for remote electronic UOCAVA voting”</a:t>
            </a:r>
            <a:endParaRPr b="0" lang="en-US" sz="28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AA34-13A2-4F85-A75B-58F0926F2A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1426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Understanding the intention of the req’s and testing important for U&amp;A</a:t>
            </a:r>
            <a:endParaRPr b="0" lang="en-US" sz="3200" spc="-1" strike="noStrike">
              <a:solidFill>
                <a:srgbClr val="000000"/>
              </a:solidFill>
              <a:latin typeface="Calibri"/>
            </a:endParaRPr>
          </a:p>
        </p:txBody>
      </p:sp>
      <p:sp>
        <p:nvSpPr>
          <p:cNvPr id="175" name=""/>
          <p:cNvSpPr txBox="1"/>
          <p:nvPr/>
        </p:nvSpPr>
        <p:spPr>
          <a:xfrm>
            <a:off x="457200" y="243792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VVSG 1.1 and 2.0 test method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aft, Validation in progres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ester qualifications documen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aft, Coordinating with NVLAP</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e are in the process of acquiring newer systems for our voting systems lab</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nnounced in the Federal Regist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ow in the process of contacting manufacturer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Under discussion: additional guidance documents for VVSG 1.1 and 2.0 test methods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10AC-50B6-4E1D-A8CD-A463D61A41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21896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Collaboration with other WG’s </a:t>
            </a:r>
            <a:br>
              <a:rPr sz="3200"/>
            </a:br>
            <a:r>
              <a:rPr b="1" lang="en-US" sz="3200" spc="-1" strike="noStrike">
                <a:solidFill>
                  <a:srgbClr val="1f497d"/>
                </a:solidFill>
                <a:latin typeface="Tahoma"/>
                <a:ea typeface="Tahoma"/>
              </a:rPr>
              <a:t>and experts is critical</a:t>
            </a:r>
            <a:endParaRPr b="0" lang="en-US" sz="3200" spc="-1" strike="noStrike">
              <a:solidFill>
                <a:srgbClr val="000000"/>
              </a:solidFill>
              <a:latin typeface="Calibri"/>
            </a:endParaRPr>
          </a:p>
        </p:txBody>
      </p:sp>
      <p:sp>
        <p:nvSpPr>
          <p:cNvPr id="178" name=""/>
          <p:cNvSpPr txBox="1"/>
          <p:nvPr/>
        </p:nvSpPr>
        <p:spPr>
          <a:xfrm>
            <a:off x="457200" y="2514240"/>
            <a:ext cx="8229600" cy="3916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uditabilit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nsistency with accessibility requir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sability of new approaches, method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UOCAV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amp;A for pilot tests, and for deployment, should be engineered from the outse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amp;A considerations document in draf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iscussion is part of UOCAVA WG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B25E-652B-4BD2-951A-8A5BCBE52E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2189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Dexterity research continues to be needed to improve voting systems</a:t>
            </a:r>
            <a:endParaRPr b="0" lang="en-US" sz="3200" spc="-1" strike="noStrike">
              <a:solidFill>
                <a:srgbClr val="000000"/>
              </a:solidFill>
              <a:latin typeface="Calibri"/>
            </a:endParaRPr>
          </a:p>
        </p:txBody>
      </p:sp>
      <p:sp>
        <p:nvSpPr>
          <p:cNvPr id="181" name=""/>
          <p:cNvSpPr txBox="1"/>
          <p:nvPr/>
        </p:nvSpPr>
        <p:spPr>
          <a:xfrm>
            <a:off x="533520" y="2362320"/>
            <a:ext cx="8229600" cy="391608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al design can accommodate many disabilities, but not all.</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 example, there is a wide range of dexterity disabilities that are accommodated with personal assistive technology (PAT), e.g, sip and puff, jelly, head switches</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AT is not addressed in VVSG 2.0</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lutions include:</a:t>
            </a:r>
            <a:endParaRPr b="0" lang="en-US" sz="24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quirements to allow voters to use their own PAT and requirements setting standard scanning of the ballot to support switches</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New approaches such as sound activation rather than physical switches</a:t>
            </a:r>
            <a:endParaRPr b="0" lang="en-US" sz="20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665F-CF51-4422-AC5D-BB6FE2D8F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1066320"/>
            <a:ext cx="899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ahoma"/>
                <a:ea typeface="Tahoma"/>
              </a:rPr>
              <a:t>Requirements for low vision and considerations for aging population could be improved</a:t>
            </a:r>
            <a:endParaRPr b="0" lang="en-US" sz="2800" spc="-1" strike="noStrike">
              <a:solidFill>
                <a:srgbClr val="000000"/>
              </a:solidFill>
              <a:latin typeface="Calibri"/>
            </a:endParaRPr>
          </a:p>
        </p:txBody>
      </p:sp>
      <p:sp>
        <p:nvSpPr>
          <p:cNvPr id="184" name=""/>
          <p:cNvSpPr txBox="1"/>
          <p:nvPr/>
        </p:nvSpPr>
        <p:spPr>
          <a:xfrm>
            <a:off x="457200" y="2209320"/>
            <a:ext cx="8229600" cy="391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pproach to accommodate low vision i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gn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udio read ba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 paper, this is not optimal</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udio alone or manual magnification can be difficult for older voters or those with cognitive disabilit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esting with older populations may uncover additional or improved requiremen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urther research is needed</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26D4-39A3-4AEC-938C-286A49649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NIST Research on performance-based usability testing continues</a:t>
            </a:r>
            <a:endParaRPr b="0" lang="en-US" sz="3200" spc="-1" strike="noStrike">
              <a:solidFill>
                <a:srgbClr val="000000"/>
              </a:solidFill>
              <a:latin typeface="Calibri"/>
            </a:endParaRPr>
          </a:p>
        </p:txBody>
      </p:sp>
      <p:sp>
        <p:nvSpPr>
          <p:cNvPr id="187" name=""/>
          <p:cNvSpPr txBox="1"/>
          <p:nvPr/>
        </p:nvSpPr>
        <p:spPr>
          <a:xfrm>
            <a:off x="457200" y="2057040"/>
            <a:ext cx="8229600" cy="44197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Usability benchmarks validation in progres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enchmarks set the bar for the accuracy of the voter voting as intended and for successfully casting the ballot</a:t>
            </a:r>
            <a:r>
              <a:rPr b="0" lang="en-US" sz="2800" spc="-1" strike="noStrike">
                <a:solidFill>
                  <a:srgbClr val="000000"/>
                </a:solidFill>
                <a:latin typeface="Tahoma"/>
                <a:ea typeface="Tahoma"/>
              </a:rPr>
              <a:t>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NIST “calibration machine” touch screen built and benchmark values are being collected for it </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ill ensure that test labs are performing the usability testing correctly</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usability performance based testing is not feasible for the accessible voting systems</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rge numbers of users needed for repeatability</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EF76-471E-4051-A7F5-CB50C10C4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371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Performance-based usability testing</a:t>
            </a:r>
            <a:br>
              <a:rPr sz="3200"/>
            </a:br>
            <a:r>
              <a:rPr b="1" lang="en-US" sz="3200" spc="-1" strike="noStrike">
                <a:solidFill>
                  <a:srgbClr val="1f497d"/>
                </a:solidFill>
                <a:latin typeface="Tahoma"/>
                <a:ea typeface="Tahoma"/>
              </a:rPr>
              <a:t>for accessible voting systems will encourage better designs</a:t>
            </a:r>
            <a:endParaRPr b="0" lang="en-US" sz="3200" spc="-1" strike="noStrike">
              <a:solidFill>
                <a:srgbClr val="000000"/>
              </a:solidFill>
              <a:latin typeface="Calibri"/>
            </a:endParaRPr>
          </a:p>
        </p:txBody>
      </p:sp>
      <p:sp>
        <p:nvSpPr>
          <p:cNvPr id="190" name=""/>
          <p:cNvSpPr txBox="1"/>
          <p:nvPr/>
        </p:nvSpPr>
        <p:spPr>
          <a:xfrm>
            <a:off x="533520" y="2666520"/>
            <a:ext cx="8229600" cy="3916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ccessibility throughout the voting session” VVSG 2.0 test method is based on both user performance data and expert analysis of that dat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esting usability with people with disabilities for certification requires additional research</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e hypothesize that a combination of some performance data plus expert analysis would produce a feasible test method</a:t>
            </a:r>
            <a:r>
              <a:rPr b="0" lang="en-US" sz="2600" spc="-1" strike="noStrike">
                <a:solidFill>
                  <a:srgbClr val="000000"/>
                </a:solidFill>
                <a:latin typeface="Tahoma"/>
                <a:ea typeface="Tahoma"/>
              </a:rPr>
              <a:t>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F20B-37B6-4078-8916-241A2D1AB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15:16Z</dcterms:created>
  <dc:creator>Sharon Laskowski</dc:creator>
  <dc:description/>
  <dc:language>en-US</dc:language>
  <cp:lastModifiedBy>John P. Wack</cp:lastModifiedBy>
  <dcterms:modified xsi:type="dcterms:W3CDTF">2010-07-07T12:58:37Z</dcterms:modified>
  <cp:revision>64</cp:revision>
  <dc:subject/>
  <dc:title>U&amp;A WG July 2010 TGDC report</dc:title>
</cp:coreProperties>
</file>