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402120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464000"/>
            <a:ext cx="5680080" cy="4229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9262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4021200" y="89262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BFB1E-F297-49E6-A123-58A1523A1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021200" y="89265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E4B83C-5245-43FB-9112-46C03CA0E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9560" y="4464000"/>
            <a:ext cx="5680080" cy="42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6772-1856-4AC3-B223-F6C935DBD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05C8-9688-49DD-BFD5-056C14D7F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FC70-D463-4398-9B47-75D12ED0E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32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224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32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224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26CA-9AB5-4CC4-A578-3ACEE0247B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A653-4CA6-4E20-950B-94B442D248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ED8F-462D-437A-86C5-53C0A2AFE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394A-E80C-4EFE-8247-C8188D989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0649-ED6D-4665-A065-7FDEDC310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AE68-B891-4093-88B6-0D0213E39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E1A4-7707-4503-AB7D-6031EC61D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BE83-6836-4CC6-A18E-D2C5118E5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F64E-6F9D-419E-A4BF-DC07CA629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votebannernew"/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ED9D3D0-385F-4576-9F03-96757A8DEE46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80880" y="638172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GDC Meeting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5296DCE0-82C1-456D-886B-6221F6BCF586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uman Factors in the Frame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560" y="3580920"/>
            <a:ext cx="65530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GDC Pres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haron Laskowsk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IS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nformation Technology Laboratory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formation Access Divi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400800" y="5578560"/>
            <a:ext cx="2622600" cy="1203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5829480" y="228600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1AAA4284-23F1-4A61-B55B-75D0A9C5F596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uman Factors in the Frame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he Risk Management Framework to allow election officials to make policy decisions that include accessibility and usability consid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expose tradeoffs in architectures across accessibility/usability, security, and audit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635D883C-0D18-44FD-8E10-0533A6D9BDAA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Framework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cess requires identifying accessibility and usability objectives and their impa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bjectives for usability and accessibilit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oters are able to vote as inten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oters can vote accurately without the need for assis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ter privacy is ensu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 workers can manage the process effec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4800F1BF-2747-485D-B72F-9EEA56A09868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Framework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ive has a set of considerations, e.g.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bility principles, e.g., universal design, plain language, consis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 assistive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ble verification and ballot sub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electronic voting system architecture that includes accessibility, rather than a separate accessible system that poll workers have to man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B419AABA-017B-40BB-976B-46A6EFA86A1C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uilding the Framework – 3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s of Human Factors Impa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etal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iety recognizes the need to accommodate individuals with dis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and federal l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the 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usability causes errors in voting and casting the ballot (many known cases in past el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4B8B8385-173C-4A15-8B5C-6BF7DF362A98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cted Outco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calls out human factors iss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s” are very different than security ri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cur at the individual intera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is the identification of tradeoffs between architectures that will affect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-scale threats versus localized threats, e.g, numbers of people with disabilities affected, increased number of voters who did not vote as inte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omised accessibility, usability easily identified and control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Risk Framework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ath Forw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14400" y="26668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ST and TGDC work together to develop a robust framework in the areas of security, auditability, and accessibility/usabi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he framework in making risk-based policy deci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9259BF35-D563-4D85-8864-DFF224268E97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7:24:22Z</dcterms:created>
  <dc:creator/>
  <dc:description/>
  <dc:language>en-US</dc:language>
  <cp:lastModifiedBy>John P. Wack</cp:lastModifiedBy>
  <dcterms:modified xsi:type="dcterms:W3CDTF">2010-07-07T12:59:10Z</dcterms:modified>
  <cp:revision>1193</cp:revision>
  <dc:subject/>
  <dc:title>Risk Methodology for UOCAVA Voting Systems</dc:title>
</cp:coreProperties>
</file>