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2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402120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67F65A-A97B-4C72-9D93-BFA88BD3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021200" y="89265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6487F-DE96-4CB7-A5F7-16BD311B0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F8A6-118C-48C0-ABB1-3342FAA99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9C43-3D3E-4F83-86C6-9ACAC194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E1FE-38E5-48AB-9BE3-B3ECBB1BC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17E3-FCDD-4F78-813F-D822B46EC8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A3BB-97BA-4477-9870-646CD9F6BA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81AD-2BDE-4270-9EE9-9D193EA9E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CB4B-4C27-4239-BCD8-E473C56F2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C8D6-A498-4277-8604-99AC7CA6D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E16C-AF96-4D12-9089-EE39DEBB7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D856-C8AD-46C3-8439-A19834120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E31F-F728-45C1-BDED-EF95C0D83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A68C-3839-42FE-B0FD-1E0B23DB1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16FE1D0-8D92-4DED-BE94-9110D412007B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E96CEA3-318D-4E12-818D-14B7113DAFB9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Factors in the Frame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560" y="3580920"/>
            <a:ext cx="6553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GDC 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haron Laskowsk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IS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nformation Technology Laboratory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formation Access Divi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578560"/>
            <a:ext cx="2622600" cy="1203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5829480" y="228600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395DA8D-4F11-47EA-A6F2-8BE25E50EC04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Factors in the Frame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Risk Management Framework to allow election officials to make policy decisions that include accessibility and usability conside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expose tradeoffs in architectures across accessibility/usability, security, and audit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AC12A13-6EED-4DCC-88A7-CF573A375E33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Framework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rocess requires identifying accessibility and usability objectives and their impa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bjectives for usability and accessibilit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oters are able to vote as inten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oters can vote accurately without the need for ass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er privacy is ensu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 workers can manage the process effec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3420120-4651-4B0D-9891-79BE7CD4D1C0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Framework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ive has a set of considerations, e.g.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bility principles, e.g., universal design, plain language, 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assistive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ble verification and ballot sub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electronic voting system architecture that includes accessibility, rather than a separate accessible system that poll workers have to man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A71B99F-CA7C-413C-B8FD-038D9A4F089D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uilding the Framework – 3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s of Human Factors Impac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etal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iety recognizes the need to accommodate individual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and federal la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the 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usability causes errors in voting and casting the ballot (many known cases in past el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A59E632-99DF-4FC3-9316-17F351445491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cted Outco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calls out human factors iss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s” are very different than security ri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cur at the individual intera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is the identification of tradeoffs between architectures that will affect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-scale threats versus localized threats, e.g, numbers of people with disabilities affected, increased number of voters who did not vote as inten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omised accessibility, usability easily identified and controll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Risk Framework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ath Forw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14400" y="26668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 and TGDC work together to develop a robust framework in the areas of security, auditability, and accessibility/usabil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framework in making risk-based policy decis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8A50E037-8A9D-455A-8AE2-1EA15414984C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7:24:22Z</dcterms:created>
  <dc:creator/>
  <dc:description/>
  <dc:language>en-US</dc:language>
  <cp:lastModifiedBy>John P. Wack</cp:lastModifiedBy>
  <dcterms:modified xsi:type="dcterms:W3CDTF">2010-07-07T12:59:10Z</dcterms:modified>
  <cp:revision>1193</cp:revision>
  <dc:subject/>
  <dc:title>Risk Methodology for UOCAVA Voting Systems</dc:title>
</cp:coreProperties>
</file>