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993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4021200" y="-36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9880" y="704880"/>
            <a:ext cx="4699080" cy="352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560" y="4464000"/>
            <a:ext cx="5680080" cy="4229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892620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4021200" y="8926200"/>
            <a:ext cx="307656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9051A0-8584-4219-8F5E-2228AE2AA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4021200" y="8926560"/>
            <a:ext cx="30765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D4614D-E9FC-415D-A5B0-732BEB6B9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0024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9560" y="4464000"/>
            <a:ext cx="5680080" cy="42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25349-DF2C-4B04-9956-C546AE55C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435240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13D70-43CA-47E9-A8E8-49E474B08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632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E755A-FA1F-4229-9C93-A0AD8D4A5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832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2224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832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2224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CF0CD-2F3A-4E19-810F-0E777C2C83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0A068-A7E1-4578-A5ED-FE01EEB1F7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622F5-19E8-454F-B3B7-AFA90CD92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4C76E-4E9F-4464-9B32-56F9A3E5C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9407D-428D-4128-B80A-D135C2AF0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7793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1D904-14C0-4474-B193-F4670EFC2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EBE75-5790-4180-B799-80D3F210BE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632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2669-1E4E-4C5F-8CE9-C4A26EDEE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CE970-02F0-40A1-87DE-14711F741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votebannernew"/>
          <p:cNvPicPr/>
          <p:nvPr/>
        </p:nvPicPr>
        <p:blipFill>
          <a:blip r:embed="rId2"/>
          <a:stretch/>
        </p:blipFill>
        <p:spPr>
          <a:xfrm>
            <a:off x="304920" y="228600"/>
            <a:ext cx="8458200" cy="990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votebannernew"/>
          <p:cNvPicPr/>
          <p:nvPr/>
        </p:nvPicPr>
        <p:blipFill>
          <a:blip r:embed="rId3"/>
          <a:stretch/>
        </p:blipFill>
        <p:spPr>
          <a:xfrm>
            <a:off x="304920" y="228600"/>
            <a:ext cx="8458200" cy="9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6290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F5C13A51-7061-4396-80AE-0A0B12452DDA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80880" y="6381720"/>
            <a:ext cx="373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TGDC Meeting, July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ote.nist.gov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isk Methodology for UOCAVA Voting System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76160" y="3504960"/>
            <a:ext cx="6172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GDC Presen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tt Scho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IST,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Information Technology Laboratory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Computer Security Divis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vote.nist.g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9" descr="nistident_flright_300ppi1"/>
          <p:cNvPicPr/>
          <p:nvPr/>
        </p:nvPicPr>
        <p:blipFill>
          <a:blip r:embed="rId2"/>
          <a:stretch/>
        </p:blipFill>
        <p:spPr>
          <a:xfrm>
            <a:off x="6400800" y="5425920"/>
            <a:ext cx="262260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CD61C483-2822-44C2-9B27-55CE9669CE2D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act Lev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Impact – severe or catastrophic adverse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Impact – serious adverse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Impact – limited adverse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is this importa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on framework for expressing security nee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ids in selection of appropriate security contro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GDC identifies possible criteria for determining voting-specific impa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ource: FIPS 19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016C9EC6-F0CF-4FE8-9F48-C89C99B3EA08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ample- Voting Categorization – Step 2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828800"/>
          <a:ext cx="8229600" cy="4495680"/>
        </p:xfrm>
        <a:graphic>
          <a:graphicData uri="http://schemas.openxmlformats.org/drawingml/2006/table">
            <a:tbl>
              <a:tblPr/>
              <a:tblGrid>
                <a:gridCol w="1600200"/>
                <a:gridCol w="1219320"/>
                <a:gridCol w="1295280"/>
                <a:gridCol w="1371600"/>
                <a:gridCol w="1371600"/>
                <a:gridCol w="1371600"/>
              </a:tblGrid>
              <a:tr h="1049040"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urity Objectiv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ormation Typ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ting Threa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w Impact Lev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erate Impact Lev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 Impact Lev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21320"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identi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ted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of ballot secre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no loss of cred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significant loss of cred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severe loss of cred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ank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orrect ballot received by vo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no loss of confidence in el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significant loss of confidence in el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complete loss of confidence in el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080"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ail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bulation Repo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ports cannot be accessed by voting official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no disruption of el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significant disruption of el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major disruption of el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4C6F94E9-5E97-4430-921D-13E63FD71F38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0"/>
          <p:cNvSpPr/>
          <p:nvPr/>
        </p:nvSpPr>
        <p:spPr>
          <a:xfrm>
            <a:off x="457200" y="2971800"/>
            <a:ext cx="8229600" cy="106668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ample- Voting Categorization – Step 2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57200" y="1828800"/>
          <a:ext cx="8229600" cy="4495680"/>
        </p:xfrm>
        <a:graphic>
          <a:graphicData uri="http://schemas.openxmlformats.org/drawingml/2006/table">
            <a:tbl>
              <a:tblPr/>
              <a:tblGrid>
                <a:gridCol w="1600200"/>
                <a:gridCol w="1219320"/>
                <a:gridCol w="1295280"/>
                <a:gridCol w="1371600"/>
                <a:gridCol w="1371600"/>
                <a:gridCol w="1371600"/>
              </a:tblGrid>
              <a:tr h="1049040"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urity Objectiv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ormation Typ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ting Threa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w Impact Lev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erate Impact Lev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 Impact Leve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21320"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identi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ted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of ballot secre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no loss of cred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significant loss of cred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severe loss of cred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ank Ball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orrect ballot received by vo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no loss of confidence in el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significant loss of confidence in el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complete loss of confidence in el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8080"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ail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bulation Repo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ports cannot be accessed by voting official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no disruption of el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significant disruption of el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s in major disruption of el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C0F87138-4D89-4ED8-928C-CED9CED3DD5F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oting Categorization – Step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4" name="Group 3"/>
          <p:cNvGrpSpPr/>
          <p:nvPr/>
        </p:nvGrpSpPr>
        <p:grpSpPr>
          <a:xfrm>
            <a:off x="914400" y="2374920"/>
            <a:ext cx="7848360" cy="3513600"/>
            <a:chOff x="914400" y="2374920"/>
            <a:chExt cx="7848360" cy="3513600"/>
          </a:xfrm>
        </p:grpSpPr>
        <p:sp>
          <p:nvSpPr>
            <p:cNvPr id="95" name="AutoShape 4"/>
            <p:cNvSpPr/>
            <p:nvPr/>
          </p:nvSpPr>
          <p:spPr>
            <a:xfrm>
              <a:off x="914400" y="2374920"/>
              <a:ext cx="7848360" cy="351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" name="_s139269"/>
            <p:cNvCxnSpPr>
              <a:stCxn id="97" idx="0"/>
              <a:endCxn id="98" idx="2"/>
            </p:cNvCxnSpPr>
            <p:nvPr/>
          </p:nvCxnSpPr>
          <p:spPr>
            <a:xfrm flipV="1" rot="16200000">
              <a:off x="5860440" y="2757960"/>
              <a:ext cx="703440" cy="2747160"/>
            </a:xfrm>
            <a:prstGeom prst="bentConnector3">
              <a:avLst>
                <a:gd name="adj1" fmla="val 126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139270"/>
            <p:cNvCxnSpPr>
              <a:stCxn id="100" idx="0"/>
              <a:endCxn id="98" idx="2"/>
            </p:cNvCxnSpPr>
            <p:nvPr/>
          </p:nvCxnSpPr>
          <p:spPr>
            <a:xfrm flipV="1">
              <a:off x="4838400" y="3780000"/>
              <a:ext cx="2880" cy="70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139271"/>
            <p:cNvCxnSpPr>
              <a:stCxn id="102" idx="0"/>
              <a:endCxn id="98" idx="2"/>
            </p:cNvCxnSpPr>
            <p:nvPr/>
          </p:nvCxnSpPr>
          <p:spPr>
            <a:xfrm flipH="1" flipV="1" rot="5400000">
              <a:off x="3113280" y="2757960"/>
              <a:ext cx="703440" cy="2747160"/>
            </a:xfrm>
            <a:prstGeom prst="bentConnector3">
              <a:avLst>
                <a:gd name="adj1" fmla="val 126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139272"/>
            <p:cNvSpPr/>
            <p:nvPr/>
          </p:nvSpPr>
          <p:spPr>
            <a:xfrm>
              <a:off x="3661200" y="2374920"/>
              <a:ext cx="2354400" cy="140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fidentia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ted Ballo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ss of Ballot Secre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39273"/>
            <p:cNvSpPr/>
            <p:nvPr/>
          </p:nvSpPr>
          <p:spPr>
            <a:xfrm>
              <a:off x="914400" y="4483080"/>
              <a:ext cx="2354400" cy="140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Low Imp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39274"/>
            <p:cNvSpPr/>
            <p:nvPr/>
          </p:nvSpPr>
          <p:spPr>
            <a:xfrm>
              <a:off x="3661200" y="4483080"/>
              <a:ext cx="2354400" cy="140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oderate Imp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39275"/>
            <p:cNvSpPr/>
            <p:nvPr/>
          </p:nvSpPr>
          <p:spPr>
            <a:xfrm>
              <a:off x="6408000" y="4483080"/>
              <a:ext cx="2354400" cy="140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High Imp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B3D6BD18-A279-43CC-B5B8-4E613832AF08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3429000" y="2209680"/>
            <a:ext cx="2819520" cy="419112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oting Categorization – Step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914400" y="2374920"/>
            <a:ext cx="7848360" cy="3513600"/>
            <a:chOff x="914400" y="2374920"/>
            <a:chExt cx="7848360" cy="3513600"/>
          </a:xfrm>
        </p:grpSpPr>
        <p:sp>
          <p:nvSpPr>
            <p:cNvPr id="107" name="AutoShape 5"/>
            <p:cNvSpPr/>
            <p:nvPr/>
          </p:nvSpPr>
          <p:spPr>
            <a:xfrm>
              <a:off x="914400" y="2374920"/>
              <a:ext cx="7848360" cy="351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_s140294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5860440" y="2757960"/>
              <a:ext cx="703440" cy="2747160"/>
            </a:xfrm>
            <a:prstGeom prst="bentConnector3">
              <a:avLst>
                <a:gd name="adj1" fmla="val 126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40295"/>
            <p:cNvCxnSpPr>
              <a:stCxn id="112" idx="0"/>
              <a:endCxn id="110" idx="2"/>
            </p:cNvCxnSpPr>
            <p:nvPr/>
          </p:nvCxnSpPr>
          <p:spPr>
            <a:xfrm flipV="1">
              <a:off x="4838400" y="3780000"/>
              <a:ext cx="2880" cy="70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40296"/>
            <p:cNvCxnSpPr>
              <a:stCxn id="114" idx="0"/>
              <a:endCxn id="110" idx="2"/>
            </p:cNvCxnSpPr>
            <p:nvPr/>
          </p:nvCxnSpPr>
          <p:spPr>
            <a:xfrm flipH="1" flipV="1" rot="5400000">
              <a:off x="3113280" y="2757960"/>
              <a:ext cx="703440" cy="2747160"/>
            </a:xfrm>
            <a:prstGeom prst="bentConnector3">
              <a:avLst>
                <a:gd name="adj1" fmla="val 126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0" name="_s140297"/>
            <p:cNvSpPr/>
            <p:nvPr/>
          </p:nvSpPr>
          <p:spPr>
            <a:xfrm>
              <a:off x="3661200" y="2374920"/>
              <a:ext cx="2354400" cy="140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fidentia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ted Ballo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ss of Ballot Secre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40298"/>
            <p:cNvSpPr/>
            <p:nvPr/>
          </p:nvSpPr>
          <p:spPr>
            <a:xfrm>
              <a:off x="914400" y="4483080"/>
              <a:ext cx="2354400" cy="140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Low Imp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40299"/>
            <p:cNvSpPr/>
            <p:nvPr/>
          </p:nvSpPr>
          <p:spPr>
            <a:xfrm>
              <a:off x="3661200" y="4483080"/>
              <a:ext cx="2354400" cy="140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oderate Imp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40300"/>
            <p:cNvSpPr/>
            <p:nvPr/>
          </p:nvSpPr>
          <p:spPr>
            <a:xfrm>
              <a:off x="6408000" y="4483080"/>
              <a:ext cx="2354400" cy="1405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High Imp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F5E88532-7118-4ED4-AFF4-5FD9297146E0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curity Control Identif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7" name="Group 3"/>
          <p:cNvGrpSpPr/>
          <p:nvPr/>
        </p:nvGrpSpPr>
        <p:grpSpPr>
          <a:xfrm>
            <a:off x="1060560" y="2403360"/>
            <a:ext cx="7629480" cy="3679920"/>
            <a:chOff x="1060560" y="2403360"/>
            <a:chExt cx="7629480" cy="3679920"/>
          </a:xfrm>
        </p:grpSpPr>
        <p:sp>
          <p:nvSpPr>
            <p:cNvPr id="118" name="AutoShape 4"/>
            <p:cNvSpPr/>
            <p:nvPr/>
          </p:nvSpPr>
          <p:spPr>
            <a:xfrm>
              <a:off x="1060560" y="2403360"/>
              <a:ext cx="7629480" cy="367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9" name="_s141317"/>
            <p:cNvCxnSpPr>
              <a:stCxn id="120" idx="0"/>
              <a:endCxn id="121" idx="2"/>
            </p:cNvCxnSpPr>
            <p:nvPr/>
          </p:nvCxnSpPr>
          <p:spPr>
            <a:xfrm flipV="1">
              <a:off x="7544880" y="4703040"/>
              <a:ext cx="2520" cy="461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41318"/>
            <p:cNvCxnSpPr>
              <a:stCxn id="123" idx="0"/>
              <a:endCxn id="124" idx="2"/>
            </p:cNvCxnSpPr>
            <p:nvPr/>
          </p:nvCxnSpPr>
          <p:spPr>
            <a:xfrm flipV="1">
              <a:off x="2204640" y="4703040"/>
              <a:ext cx="2520" cy="461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41319"/>
            <p:cNvCxnSpPr>
              <a:stCxn id="126" idx="0"/>
              <a:endCxn id="127" idx="2"/>
            </p:cNvCxnSpPr>
            <p:nvPr/>
          </p:nvCxnSpPr>
          <p:spPr>
            <a:xfrm flipV="1">
              <a:off x="4874760" y="4703040"/>
              <a:ext cx="2520" cy="461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41320"/>
            <p:cNvCxnSpPr>
              <a:stCxn id="121" idx="0"/>
              <a:endCxn id="129" idx="2"/>
            </p:cNvCxnSpPr>
            <p:nvPr/>
          </p:nvCxnSpPr>
          <p:spPr>
            <a:xfrm flipV="1" rot="16200000">
              <a:off x="5979600" y="2217240"/>
              <a:ext cx="460800" cy="2670840"/>
            </a:xfrm>
            <a:prstGeom prst="bentConnector3">
              <a:avLst>
                <a:gd name="adj1" fmla="val 247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41321"/>
            <p:cNvCxnSpPr>
              <a:stCxn id="127" idx="0"/>
              <a:endCxn id="129" idx="2"/>
            </p:cNvCxnSpPr>
            <p:nvPr/>
          </p:nvCxnSpPr>
          <p:spPr>
            <a:xfrm flipV="1">
              <a:off x="4874760" y="3322440"/>
              <a:ext cx="2520" cy="460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141322"/>
            <p:cNvCxnSpPr>
              <a:stCxn id="124" idx="0"/>
              <a:endCxn id="129" idx="2"/>
            </p:cNvCxnSpPr>
            <p:nvPr/>
          </p:nvCxnSpPr>
          <p:spPr>
            <a:xfrm flipH="1" flipV="1" rot="5400000">
              <a:off x="3309480" y="2217240"/>
              <a:ext cx="460800" cy="2670840"/>
            </a:xfrm>
            <a:prstGeom prst="bentConnector3">
              <a:avLst>
                <a:gd name="adj1" fmla="val 2478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9" name="_s141323"/>
            <p:cNvSpPr/>
            <p:nvPr/>
          </p:nvSpPr>
          <p:spPr>
            <a:xfrm>
              <a:off x="3730680" y="2403360"/>
              <a:ext cx="2289240" cy="919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derate Impac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41324"/>
            <p:cNvSpPr/>
            <p:nvPr/>
          </p:nvSpPr>
          <p:spPr>
            <a:xfrm>
              <a:off x="1060560" y="3782880"/>
              <a:ext cx="2289240" cy="920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lectronic Delivery/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il Retu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41325"/>
            <p:cNvSpPr/>
            <p:nvPr/>
          </p:nvSpPr>
          <p:spPr>
            <a:xfrm>
              <a:off x="3730680" y="3782880"/>
              <a:ext cx="2289240" cy="920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ios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41326"/>
            <p:cNvSpPr/>
            <p:nvPr/>
          </p:nvSpPr>
          <p:spPr>
            <a:xfrm>
              <a:off x="6400800" y="3782880"/>
              <a:ext cx="2289240" cy="920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C-bas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41327"/>
            <p:cNvSpPr/>
            <p:nvPr/>
          </p:nvSpPr>
          <p:spPr>
            <a:xfrm>
              <a:off x="3730680" y="5164200"/>
              <a:ext cx="2289240" cy="919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curity 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41328"/>
            <p:cNvSpPr/>
            <p:nvPr/>
          </p:nvSpPr>
          <p:spPr>
            <a:xfrm>
              <a:off x="1060560" y="5164200"/>
              <a:ext cx="2289240" cy="919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curity 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41329"/>
            <p:cNvSpPr/>
            <p:nvPr/>
          </p:nvSpPr>
          <p:spPr>
            <a:xfrm>
              <a:off x="6400800" y="5164200"/>
              <a:ext cx="2289240" cy="919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curity 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8"/>
            <p:cNvSpPr/>
            <p:nvPr/>
          </p:nvSpPr>
          <p:spPr>
            <a:xfrm>
              <a:off x="1213200" y="3352680"/>
              <a:ext cx="289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Examples of Architecture Typ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0F955467-2B89-41B9-B732-6101ACD4F254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932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curity Control Identific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he NIST SP 800-53 “NIST Recommended Security Controls for Federal Information Systems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33520" y="2722680"/>
          <a:ext cx="8165880" cy="3676680"/>
        </p:xfrm>
        <a:graphic>
          <a:graphicData uri="http://schemas.openxmlformats.org/drawingml/2006/table">
            <a:tbl>
              <a:tblPr/>
              <a:tblGrid>
                <a:gridCol w="838080"/>
                <a:gridCol w="3238560"/>
                <a:gridCol w="876240"/>
                <a:gridCol w="3213000"/>
              </a:tblGrid>
              <a:tr h="23508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dent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mi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dentif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mi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5748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cess Contro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dia Protec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wareness and Trai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hysical and Environmental Protec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udit and Accountabi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n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rtification, Accreditation, and Security Assessmen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sonnel Secur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iguration Manage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isk Assess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tingency Plan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ystem and Services Acquisi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dentification and Authentic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ystems and Communications Protec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ident Respons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ystem and Information Integr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intena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gram Manage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DD32A35C-B25D-4C51-BCE2-36FA590EFA85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960" y="1752120"/>
            <a:ext cx="33526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all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533520" y="1104840"/>
            <a:ext cx="79340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0728284B-5A39-4AE9-A988-DC7200505D6B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1752120"/>
            <a:ext cx="33526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all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2" name="Picture 118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9344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A68ABC7B-A926-4FC8-87F4-9DC5AFAD266F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Steps for Secur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GDC identifies possib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ormation typ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ting threa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ting-specific impact criteri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IST assists the TGDC in identifying and tailoring security controls for all impact levels and all architectur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fine security controls as architectures m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impact level can be selected for each information type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ing risk assessment – refine security controls as threats and vulnerabilities become know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9EE0A95D-0521-4E81-BA90-BACD33797778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33208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torial on Risk 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ition of Ter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tegorization Proces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sk Decis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ying Risk Methodology to Vo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DF15B930-4B23-4963-BECF-52AFC24FCC4B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urpo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 a methodology to solicit decisions and drive requirements for voting syste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ology is based on the NIST Risk Management Framework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oundational approach for information system security used throughout U.S., state and local Governments, private industry, and other governments world-wi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erms and definitions found in NIST information system security publications, standards and Federal law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680D9069-2C05-4530-BD51-8A32728DAF0C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932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o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419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cess will result in a set of security, auditability, human factors (usability, accessibility) mitigations molded to fit various voting architectures with varying levels of assurance and capabilit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IST will assist the TGDC in identifying and applying a risk methodology to UOCAVA voting system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isk Management Framework is used to make specific risk based decis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Oval 4"/>
          <p:cNvSpPr/>
          <p:nvPr/>
        </p:nvSpPr>
        <p:spPr>
          <a:xfrm>
            <a:off x="5105520" y="2362320"/>
            <a:ext cx="2057400" cy="1981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6400800" y="2362320"/>
            <a:ext cx="2057400" cy="198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5791320" y="3429000"/>
            <a:ext cx="2057400" cy="198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422680" y="297180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6147000" y="4648320"/>
            <a:ext cx="132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ibility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237080" y="297180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di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F61C270D-0C7D-44DF-B443-94D37DD51774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ief the TGDC on NIST risk methodology for developing security contro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e TGDC understands the information needed by NIST to develop the contro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key term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isk Methodology Tutorial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ABE05307-0A67-4275-B347-9754CADABE9D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curity Objectiv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Confidenti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3333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Preserving authorized restrictions on information access and disclosure, including means for protection of personal privacy and proprietary inform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Integ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Guarding against improper information modification or destruction, and include ensuring information non-repudiation and authenticit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vai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  <a:ea typeface="Arial"/>
              </a:rPr>
              <a:t>Ensuring timely and reliable access to and use of information.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:  44 U.S.C Sec. 354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89CF5111-59F2-40C0-8DF9-F6F02427AB4F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932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isk Approa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is a function of the follow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keliho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ulner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NIST Risk Management Framework begins with assessing the potential impact on an organization should events occur to jeopardize the information and information syst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3D695137-4FF8-48FE-A274-31C6615E8F4A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types of voting informa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ted Ball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nk Ball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bulation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threa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ballot secre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ballot received by vot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bulation Reports cannot be accessed by voting officia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588960" y="1371600"/>
            <a:ext cx="809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amples of Voting Information Typ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64F3AEE0-B0D6-4C3A-AF5D-C71483BDFCED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420560"/>
            <a:ext cx="807732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ample- Voting Categorization – Step 1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480" y="1908000"/>
          <a:ext cx="8229600" cy="4338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urity Objectiv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ormation Typ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ting Thre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identi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ted Ball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of ballot secre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g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ank Ball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orrect ballot received by vo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ail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bulation Repo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ports cannot be accessed by voting officia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6:02:45Z</dcterms:created>
  <dc:creator/>
  <dc:description/>
  <dc:language>en-US</dc:language>
  <cp:lastModifiedBy>John P. Wack</cp:lastModifiedBy>
  <dcterms:modified xsi:type="dcterms:W3CDTF">2010-07-07T12:59:37Z</dcterms:modified>
  <cp:revision>1194</cp:revision>
  <dc:subject/>
  <dc:title>Risk Methodology for UOCAVA Voting Systems</dc:title>
</cp:coreProperties>
</file>