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402120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29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402120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700DEA-51FE-4E23-98CD-4281FD75D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21200" y="89265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D31CD-A476-4804-AA3C-D02EA8F3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C51A-7FAD-4F05-AB0A-B465D8FAF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BBCD-5C0C-4B12-8781-FE8B0D56E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4DCD-B1A3-4AD3-A6F8-BD8D51BDA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1DEB-3E4C-4275-BC5F-04AD1E4A2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2A6D-7DE4-4FAE-B8D8-8F6232F9B2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AC58-AF86-484F-B8F9-1AAFBF37D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767A-B1F0-4D58-9222-60F4E1C20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DFDD-AE98-4572-B89C-99B9C8601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03E0-C46B-4676-9C73-FE79C4825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1ABC-95E0-4150-8B57-2AC52F9DE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2955-EC6C-4C9C-9C78-D44C2519D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29B0-B383-438D-AB66-4B4B20009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58C1EFE-0D24-487A-8ABD-F5004A7D0914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isk Methodology for UOCAVA Voting Syst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160" y="350496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GDC 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t Scho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IST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Information Technology Laboratory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omputer Security Divi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5B47E178-EAA2-45CD-B65A-F416C8B5B9F6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Lev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Impact – severe or catastrophic adver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Impact – serious adver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Impact – limited adver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his import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 framework for expressing security nee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ds in selection of appropriate security contr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GDC identifies possible criteria for determining voting-specific impa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FIPS 19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52D8E70-C8C5-45F0-A8A5-A28314CA5DA4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- Voting Categorization – Step 2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49568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295280"/>
                <a:gridCol w="1371600"/>
                <a:gridCol w="1371600"/>
                <a:gridCol w="1371600"/>
              </a:tblGrid>
              <a:tr h="104904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urity Objectiv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Typ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ing Threa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rate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2132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denti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ed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of ballot secre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evere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nk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rrect ballot received by vo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complete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08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bulation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orts cannot be accessed by voting offic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major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A17BC01-F787-41B2-8307-ADA65711942E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457200" y="2971800"/>
            <a:ext cx="8229600" cy="10666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- Voting Categorization – Step 2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828800"/>
          <a:ext cx="8229600" cy="449568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295280"/>
                <a:gridCol w="1371600"/>
                <a:gridCol w="1371600"/>
                <a:gridCol w="1371600"/>
              </a:tblGrid>
              <a:tr h="104904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urity Objectiv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Typ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ing Threa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rate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2132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denti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ed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of ballot secre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evere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nk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rrect ballot received by vo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complete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08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bulation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orts cannot be accessed by voting offic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major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460429C-F7C3-4D56-B50E-6E1F9C42BAA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ting Categorization – Ste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914400" y="2374920"/>
            <a:ext cx="7848360" cy="3513600"/>
            <a:chOff x="914400" y="2374920"/>
            <a:chExt cx="7848360" cy="3513600"/>
          </a:xfrm>
        </p:grpSpPr>
        <p:sp>
          <p:nvSpPr>
            <p:cNvPr id="95" name="AutoShape 4"/>
            <p:cNvSpPr/>
            <p:nvPr/>
          </p:nvSpPr>
          <p:spPr>
            <a:xfrm>
              <a:off x="914400" y="2374920"/>
              <a:ext cx="7848360" cy="35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_s139269"/>
            <p:cNvCxnSpPr>
              <a:stCxn id="97" idx="0"/>
              <a:endCxn id="98" idx="2"/>
            </p:cNvCxnSpPr>
            <p:nvPr/>
          </p:nvCxnSpPr>
          <p:spPr>
            <a:xfrm flipV="1" rot="16200000">
              <a:off x="5860440" y="2757960"/>
              <a:ext cx="703440" cy="2747160"/>
            </a:xfrm>
            <a:prstGeom prst="bentConnector3">
              <a:avLst>
                <a:gd name="adj1" fmla="val 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39270"/>
            <p:cNvCxnSpPr>
              <a:stCxn id="100" idx="0"/>
              <a:endCxn id="98" idx="2"/>
            </p:cNvCxnSpPr>
            <p:nvPr/>
          </p:nvCxnSpPr>
          <p:spPr>
            <a:xfrm flipV="1">
              <a:off x="4838400" y="3780000"/>
              <a:ext cx="2880" cy="70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39271"/>
            <p:cNvCxnSpPr>
              <a:stCxn id="102" idx="0"/>
              <a:endCxn id="98" idx="2"/>
            </p:cNvCxnSpPr>
            <p:nvPr/>
          </p:nvCxnSpPr>
          <p:spPr>
            <a:xfrm flipH="1" flipV="1" rot="5400000">
              <a:off x="3113280" y="2757960"/>
              <a:ext cx="703440" cy="2747160"/>
            </a:xfrm>
            <a:prstGeom prst="bentConnector3">
              <a:avLst>
                <a:gd name="adj1" fmla="val 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139272"/>
            <p:cNvSpPr/>
            <p:nvPr/>
          </p:nvSpPr>
          <p:spPr>
            <a:xfrm>
              <a:off x="3661200" y="237492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denti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ted Bal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ss of Ballot Secre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39273"/>
            <p:cNvSpPr/>
            <p:nvPr/>
          </p:nvSpPr>
          <p:spPr>
            <a:xfrm>
              <a:off x="9144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w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39274"/>
            <p:cNvSpPr/>
            <p:nvPr/>
          </p:nvSpPr>
          <p:spPr>
            <a:xfrm>
              <a:off x="36612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rate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39275"/>
            <p:cNvSpPr/>
            <p:nvPr/>
          </p:nvSpPr>
          <p:spPr>
            <a:xfrm>
              <a:off x="64080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igh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B88E6DA-FE84-456F-AFD7-592332334AC5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429000" y="2209680"/>
            <a:ext cx="2819520" cy="41911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ting Categorization – Ste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914400" y="2374920"/>
            <a:ext cx="7848360" cy="3513600"/>
            <a:chOff x="914400" y="2374920"/>
            <a:chExt cx="7848360" cy="3513600"/>
          </a:xfrm>
        </p:grpSpPr>
        <p:sp>
          <p:nvSpPr>
            <p:cNvPr id="107" name="AutoShape 5"/>
            <p:cNvSpPr/>
            <p:nvPr/>
          </p:nvSpPr>
          <p:spPr>
            <a:xfrm>
              <a:off x="914400" y="2374920"/>
              <a:ext cx="7848360" cy="35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_s140294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860440" y="2757960"/>
              <a:ext cx="703440" cy="2747160"/>
            </a:xfrm>
            <a:prstGeom prst="bentConnector3">
              <a:avLst>
                <a:gd name="adj1" fmla="val 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40295"/>
            <p:cNvCxnSpPr>
              <a:stCxn id="112" idx="0"/>
              <a:endCxn id="110" idx="2"/>
            </p:cNvCxnSpPr>
            <p:nvPr/>
          </p:nvCxnSpPr>
          <p:spPr>
            <a:xfrm flipV="1">
              <a:off x="4838400" y="3780000"/>
              <a:ext cx="2880" cy="70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40296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3113280" y="2757960"/>
              <a:ext cx="703440" cy="2747160"/>
            </a:xfrm>
            <a:prstGeom prst="bentConnector3">
              <a:avLst>
                <a:gd name="adj1" fmla="val 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40297"/>
            <p:cNvSpPr/>
            <p:nvPr/>
          </p:nvSpPr>
          <p:spPr>
            <a:xfrm>
              <a:off x="3661200" y="237492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denti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ted Bal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ss of Ballot Secre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0298"/>
            <p:cNvSpPr/>
            <p:nvPr/>
          </p:nvSpPr>
          <p:spPr>
            <a:xfrm>
              <a:off x="9144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w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40299"/>
            <p:cNvSpPr/>
            <p:nvPr/>
          </p:nvSpPr>
          <p:spPr>
            <a:xfrm>
              <a:off x="36612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rate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40300"/>
            <p:cNvSpPr/>
            <p:nvPr/>
          </p:nvSpPr>
          <p:spPr>
            <a:xfrm>
              <a:off x="64080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igh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D7838DD-9293-47B5-8A43-72C5D72255E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Control Ident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1060560" y="2403360"/>
            <a:ext cx="7629480" cy="3679920"/>
            <a:chOff x="1060560" y="2403360"/>
            <a:chExt cx="7629480" cy="3679920"/>
          </a:xfrm>
        </p:grpSpPr>
        <p:sp>
          <p:nvSpPr>
            <p:cNvPr id="118" name="AutoShape 4"/>
            <p:cNvSpPr/>
            <p:nvPr/>
          </p:nvSpPr>
          <p:spPr>
            <a:xfrm>
              <a:off x="1060560" y="2403360"/>
              <a:ext cx="7629480" cy="36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_s141317"/>
            <p:cNvCxnSpPr>
              <a:stCxn id="120" idx="0"/>
              <a:endCxn id="121" idx="2"/>
            </p:cNvCxnSpPr>
            <p:nvPr/>
          </p:nvCxnSpPr>
          <p:spPr>
            <a:xfrm flipV="1">
              <a:off x="7544880" y="4703040"/>
              <a:ext cx="2520" cy="46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41318"/>
            <p:cNvCxnSpPr>
              <a:stCxn id="123" idx="0"/>
              <a:endCxn id="124" idx="2"/>
            </p:cNvCxnSpPr>
            <p:nvPr/>
          </p:nvCxnSpPr>
          <p:spPr>
            <a:xfrm flipV="1">
              <a:off x="2204640" y="4703040"/>
              <a:ext cx="2520" cy="46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41319"/>
            <p:cNvCxnSpPr>
              <a:stCxn id="126" idx="0"/>
              <a:endCxn id="127" idx="2"/>
            </p:cNvCxnSpPr>
            <p:nvPr/>
          </p:nvCxnSpPr>
          <p:spPr>
            <a:xfrm flipV="1">
              <a:off x="4874760" y="4703040"/>
              <a:ext cx="2520" cy="46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41320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5979600" y="2217240"/>
              <a:ext cx="460800" cy="2670840"/>
            </a:xfrm>
            <a:prstGeom prst="bentConnector3">
              <a:avLst>
                <a:gd name="adj1" fmla="val 24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41321"/>
            <p:cNvCxnSpPr>
              <a:stCxn id="127" idx="0"/>
              <a:endCxn id="129" idx="2"/>
            </p:cNvCxnSpPr>
            <p:nvPr/>
          </p:nvCxnSpPr>
          <p:spPr>
            <a:xfrm flipV="1">
              <a:off x="4874760" y="3322440"/>
              <a:ext cx="2520" cy="46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141322"/>
            <p:cNvCxnSpPr>
              <a:stCxn id="124" idx="0"/>
              <a:endCxn id="129" idx="2"/>
            </p:cNvCxnSpPr>
            <p:nvPr/>
          </p:nvCxnSpPr>
          <p:spPr>
            <a:xfrm flipH="1" flipV="1" rot="5400000">
              <a:off x="3309480" y="2217240"/>
              <a:ext cx="460800" cy="2670840"/>
            </a:xfrm>
            <a:prstGeom prst="bentConnector3">
              <a:avLst>
                <a:gd name="adj1" fmla="val 24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141323"/>
            <p:cNvSpPr/>
            <p:nvPr/>
          </p:nvSpPr>
          <p:spPr>
            <a:xfrm>
              <a:off x="3730680" y="2403360"/>
              <a:ext cx="2289240" cy="919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rate Impac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41324"/>
            <p:cNvSpPr/>
            <p:nvPr/>
          </p:nvSpPr>
          <p:spPr>
            <a:xfrm>
              <a:off x="1060560" y="3782880"/>
              <a:ext cx="2289240" cy="92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ctronic Delivery/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l Retu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41325"/>
            <p:cNvSpPr/>
            <p:nvPr/>
          </p:nvSpPr>
          <p:spPr>
            <a:xfrm>
              <a:off x="3730680" y="3782880"/>
              <a:ext cx="2289240" cy="92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io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41326"/>
            <p:cNvSpPr/>
            <p:nvPr/>
          </p:nvSpPr>
          <p:spPr>
            <a:xfrm>
              <a:off x="6400800" y="3782880"/>
              <a:ext cx="2289240" cy="92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C-ba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41327"/>
            <p:cNvSpPr/>
            <p:nvPr/>
          </p:nvSpPr>
          <p:spPr>
            <a:xfrm>
              <a:off x="3730680" y="5164200"/>
              <a:ext cx="2289240" cy="91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urity 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41328"/>
            <p:cNvSpPr/>
            <p:nvPr/>
          </p:nvSpPr>
          <p:spPr>
            <a:xfrm>
              <a:off x="1060560" y="5164200"/>
              <a:ext cx="2289240" cy="91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urity 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41329"/>
            <p:cNvSpPr/>
            <p:nvPr/>
          </p:nvSpPr>
          <p:spPr>
            <a:xfrm>
              <a:off x="6400800" y="5164200"/>
              <a:ext cx="2289240" cy="91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urity 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1213200" y="3352680"/>
              <a:ext cx="28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amples of Architecture Typ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E2F0F02-63E9-4329-9F61-BEEBE505BBFE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urity Control Identifi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NIST SP 800-53 “NIST Recommended Security Controls for Federal Information Systems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2722680"/>
          <a:ext cx="8165880" cy="3676680"/>
        </p:xfrm>
        <a:graphic>
          <a:graphicData uri="http://schemas.openxmlformats.org/drawingml/2006/table">
            <a:tbl>
              <a:tblPr/>
              <a:tblGrid>
                <a:gridCol w="838080"/>
                <a:gridCol w="3238560"/>
                <a:gridCol w="876240"/>
                <a:gridCol w="3213000"/>
              </a:tblGrid>
              <a:tr h="23508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mi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mi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748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ess Contro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a Prote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wareness and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ysical and Environmental Prote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udit and Accoun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ification, Accreditation, and Security Assess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l Secur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guration Manag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sk Assess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gency Plan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and Services Acquis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cation and Authentic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s and Communications Prote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ident Respon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and Information Integr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inten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 Manag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9FD64F7-6B6C-4FD3-87C0-F6C7CA482882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960" y="1752120"/>
            <a:ext cx="33526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533520" y="1104840"/>
            <a:ext cx="79340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D0C2319-D5B9-47DD-BC8D-C50A5BF79875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1752120"/>
            <a:ext cx="33526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118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34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641AF7C-A2B3-4EE7-B387-82E0AC9BA427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 for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GDC identifies possi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ation typ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ting thre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ting-specific impact criteri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IST assists the TGDC in identifying and tailoring security controls for all impact levels and all architectur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ine security controls as architectures m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mpact level can be selected for each information typ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risk assessment – refine security controls as threats and vulnerabilities become kno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C71CA32-5F35-4263-AB3C-76BCD3622EBB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33208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torial on Risk 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 of Ter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egorization 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Deci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ing Risk Methodology to V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9EF9737-ED4F-4461-BD21-C57CB469DAD9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 a methodology to solicit decisions and drive requirements for voting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ology is based on the NIST Risk Management Framework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oundational approach for information system security used throughout U.S., state and local Governments, private industry, and other governments world-w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erms and definitions found in NIST information system security publications, standards and Federal la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454A736-4808-42AD-9D3D-845346E118B5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419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will result in a set of security, auditability, human factors (usability, accessibility) mitigations molded to fit various voting architectures with varying levels of assurance and capabil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ST will assist the TGDC in identifying and applying a risk methodology to UOCAVA voting sys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isk Management Framework is used to make specific risk based deci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4"/>
          <p:cNvSpPr/>
          <p:nvPr/>
        </p:nvSpPr>
        <p:spPr>
          <a:xfrm>
            <a:off x="5105520" y="2362320"/>
            <a:ext cx="2057400" cy="1981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6400800" y="2362320"/>
            <a:ext cx="205740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791320" y="3429000"/>
            <a:ext cx="205740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422680" y="29718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47000" y="4648320"/>
            <a:ext cx="132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ibilit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237080" y="297180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00875EB-8202-4123-B7BE-83494BF0A9EF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ef the TGDC on NIST risk methodology for developing security contr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e TGDC understands the information needed by NIST to develop the contr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key ter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isk Methodology Tutorial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9CDBA9A-0D76-40BB-9342-E57E477CE28E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urity Objec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3333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Preserving authorized restrictions on information access and disclosure, including means for protection of personal privacy and proprietary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Guarding against improper information modification or destruction, and include ensuring information non-repudiation and authenticit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Ensuring timely and reliable access to and use of information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:  44 U.S.C Sec. 354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007E87F-8082-4012-8BEC-96E8BECA1C42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sk Approa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is a function of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IST Risk Management Framework begins with assessing the potential impact on an organization should events occur to jeopardize the information and information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8583004-FBE8-4DD2-B388-F5F68296E30C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types of voting inform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ed Ball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nk Ball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ulation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threa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ballot secre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ballot received by vo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ulation Reports cannot be accessed by voting offici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588960" y="1371600"/>
            <a:ext cx="809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s of Voting Information Typ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DA8F634-A600-4C81-83C4-C19C69E112A9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420560"/>
            <a:ext cx="807732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- Voting Categorization – Step 1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19080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urity Object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Ty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ing Thre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denti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ed Bal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of ballot secre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nk Bal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rrect ballot received by vo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bulation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orts cannot be accessed by voting offici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6:02:45Z</dcterms:created>
  <dc:creator/>
  <dc:description/>
  <dc:language>en-US</dc:language>
  <cp:lastModifiedBy>John P. Wack</cp:lastModifiedBy>
  <dcterms:modified xsi:type="dcterms:W3CDTF">2010-07-07T12:59:37Z</dcterms:modified>
  <cp:revision>1194</cp:revision>
  <dc:subject/>
  <dc:title>Risk Methodology for UOCAVA Voting Systems</dc:title>
</cp:coreProperties>
</file>