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66B-BA2B-4E04-8762-74A46DAA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1CC-48F2-4445-8131-D50B51CF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197-BE10-4A27-9A11-4AD33025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EA64-B1EB-44E8-9C2B-297CAFF5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633F-3717-402F-B1A9-8A971B53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D948-1171-4307-B952-A7A74255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45C5-A1EE-4525-A04F-7C52A968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E817-48BD-4B8D-8707-F2BEC726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C2D0-D9B3-48F3-B4E2-705B403A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02BA-D38F-4439-9464-F6E0A4F1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0ED3-3C3D-4E14-8A36-CE285990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A34-1399-40F8-A03D-17B9A59E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4068-5D3A-445C-A56B-29818338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214E-9064-4579-912A-8C0E0614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4922-25D1-4027-A6A6-22831BB0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A601-64FF-4B4A-9E18-53C439C7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B796-8F2A-4B10-9B0A-890058C6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131F7-7475-4BCC-B1B7-38C514545E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190BC-369F-4EB4-8206-48649F981A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BAB87-2CED-410D-BA0D-DD0DB0E97E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E494A-DB6A-4C19-9C51-096602A37C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52FB4-3FC1-4B7D-A97D-165C8C8925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7F2-E44F-479B-8D7F-4B9FF197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3F715-D0D7-4CB7-B67F-AB230009F7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29D44-62C0-4061-9100-99762DDD68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4869A-90C8-4F46-A1C1-08713BAE7A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FE2BC-9695-4416-9314-554BE4CE49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8E104-953B-4D26-9500-7FA0261125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44C01-9100-471E-BEC3-45C1DC12C2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A11C2-7B79-4236-92B8-CFD938957C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461C3-C1BA-4F3A-B458-27C27C205A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A4AB2-AC4B-46EB-AB16-2A7244CC23D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505A9-DB81-4A54-A0BC-FE0CB8173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242-2A7D-45B9-8324-822E3BA4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A878B-CC23-44C4-927C-C960D3AEF5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C84D1-A36E-40FB-BD39-625271F42F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E3907-CD91-4999-A612-F340F2EE8A6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42C58-5B07-4F2B-BF39-29C9C2D5C3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CC733-DEDC-4ED1-9AAB-E09847A0EA7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64BE6-6E6C-4380-8E10-8B64AA622F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349DD-5722-4BF9-9AF7-B88D4A1CF6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62293-3C6F-407E-B4B1-CD80E44F9B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D7976-3671-476C-A0F6-214C92CCB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9E23-9E44-44CD-95ED-829B90CE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30FE-84D0-4A4A-BD58-5DE1B990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08F-DBB8-4E6A-AB1E-761CFEBD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25B5-1962-480C-B93C-2424C121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BD4F-0587-420C-B7F2-E324FA86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C65D-DF8A-4DDB-85BE-73EA28B43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4032-1A1D-4FD0-A145-EB1C5E580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8" descr="votebannernew"/>
          <p:cNvPicPr/>
          <p:nvPr/>
        </p:nvPicPr>
        <p:blipFill>
          <a:blip r:embed="rId2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533160" y="632412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Verdana"/>
              </a:rPr>
              <a:t>TGDC Meeting, July 8-9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8485-B13E-4B64-8FEA-A11B7803A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8" descr="votebannernew"/>
          <p:cNvPicPr/>
          <p:nvPr/>
        </p:nvPicPr>
        <p:blipFill>
          <a:blip r:embed="rId2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4"/>
          <p:cNvSpPr/>
          <p:nvPr/>
        </p:nvSpPr>
        <p:spPr>
          <a:xfrm>
            <a:off x="152280" y="63244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Verdana"/>
              </a:rPr>
              <a:t>TGDC Meeting, July 8-9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3B4F-F0C2-49C0-9A71-9D9ED3B2D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ote.nist.gov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7/KCAPTCHA_with_crowded_symbols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13012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1f497d"/>
                </a:solidFill>
                <a:latin typeface="Tahoma"/>
                <a:ea typeface="Tahoma"/>
              </a:rPr>
              <a:t>Accessibility and Usability Considerations for Remote Electronic UOCAVA Vo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on Laskowski, Ph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ional Institute of Standards and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http://vote.nist.g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152280" y="63244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Verdana"/>
              </a:rPr>
              <a:t>TGDC Meeting, July 8-9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nistident_flright_300ppi1"/>
          <p:cNvPicPr/>
          <p:nvPr/>
        </p:nvPicPr>
        <p:blipFill>
          <a:blip r:embed="rId2"/>
          <a:stretch/>
        </p:blipFill>
        <p:spPr>
          <a:xfrm>
            <a:off x="6521400" y="5486400"/>
            <a:ext cx="262260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ahoma"/>
                <a:ea typeface="Tahoma"/>
              </a:rPr>
              <a:t>Issues and Recommendations are organized by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4379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General accessibility and usabil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eb brow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eb ballot repositor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Online ballot markers  and electronic form fill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Kio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elephone-based interf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ax mach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4106-E7D7-4D33-9B11-6B0947E4E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ahoma"/>
                <a:ea typeface="Tahoma"/>
              </a:rPr>
              <a:t>Example Recommendations: 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Tahoma"/>
                <a:ea typeface="Tahoma"/>
              </a:rPr>
              <a:t>General accessibility and us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4379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ccessibility and usability best practices and guidelines have not been systematically applied to design and testing of UOCAVA voting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ecommend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Where appropriate follow VVSG 2.0 accessibility and usability requirements and test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D465-1700-4CD0-95AF-A377A3125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ahoma"/>
                <a:ea typeface="Tahoma"/>
              </a:rPr>
              <a:t>Web-based vo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 VVSG does not address Web-based voting systems or Personal Assistive Technologies (P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Use of Javascript and Java applets may lead to loss of focus for screen re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ecommendation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ollow W3C Web Accessibility Initiative WCAG 2.0 and ARIA*, Section 508 guidelines, and best practices for accessibility for AJAX (asynchronous JavaScript and XML) implem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*Web Content Accessibility Guidelines, Accessible Rich Internet Appl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7675-189B-4C4C-A3D2-3D8AF906E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ahoma"/>
                <a:ea typeface="Tahoma"/>
              </a:rPr>
              <a:t>Authentication and CAPTCH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9051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ome authentication approaches are not compatible with acces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isual CAPTCH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ecommend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Follow accessible CAPTCHA design guide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siz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equate contrast to distinguish the CAPTCHA from its 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on’t use shad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lternatives, e.g, text readout, phon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3E4F-783A-42C2-A49E-092CBC8FE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File:KCAPTCHA with crowded symbol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2895480"/>
            <a:ext cx="276228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ahoma"/>
                <a:ea typeface="Tahoma"/>
              </a:rPr>
              <a:t>Interoperability</a:t>
            </a:r>
            <a:r>
              <a:rPr b="1" lang="en-US" sz="3600" spc="-1" strike="noStrike">
                <a:solidFill>
                  <a:srgbClr val="1f497d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2133720"/>
            <a:ext cx="861048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or Web-based remote electronic voting, a variety of system components must run simultaneously: operating systems, browsers, voting software, PAT, and voting system hardware (for kiosk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eb applications must display properly with all commonly-used Web browsers and screen re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ecommendation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t is critical to design for and test all common configurations for interoperability, including testing with PAT by testers familiar with using P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DBA7-9F67-40B7-868F-285CBC416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ahoma"/>
                <a:ea typeface="Tahoma"/>
              </a:rPr>
              <a:t>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480" y="19051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hen voters view and/or print documents (such as ballots), the documents need to be acce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DF might not be acce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ecommendations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f you must use PDF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ave documents as accessible PDF rather than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 support screen legibility for low vision voters, check that Adobe Reader “reflow” feature performs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voters need to print for submission, support print legibility for low vision voters by providing enlarged font documents (not a substitute for accessible PDF and/or screen view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D33E-677A-414A-B170-AC0CA841C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ahoma"/>
                <a:ea typeface="Tahoma"/>
              </a:rPr>
              <a:t>Telephone-based interf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20570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elephone-based interfaces without a screen require the ability to hear the prompts and also impose a high memory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ecommend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reate requirements based on general best practices for interactive voice response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quire non-auditory alternatives for people with hearing loss and non-manual alternatives for people severe manual dexterity disabilitie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1078-E8BF-4ED5-BB8E-806CD3AB0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15:16Z</dcterms:created>
  <dc:creator>Dan</dc:creator>
  <dc:description/>
  <dc:language>en-US</dc:language>
  <cp:lastModifiedBy>wack</cp:lastModifiedBy>
  <dcterms:modified xsi:type="dcterms:W3CDTF">2010-07-08T11:07:44Z</dcterms:modified>
  <cp:revision>81</cp:revision>
  <dc:subject/>
  <dc:title>Slide 1</dc:title>
</cp:coreProperties>
</file>