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77D-9191-4AF7-8CB4-058090D8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B13-AFB7-4B59-AE71-23B907F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840-5A0D-469C-87BC-0D51ADEF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E93-1A8C-4B07-B2CA-53CA8BA3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53C-BA3E-4ADC-ADCA-B6F1E462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62B5-7B1C-41B5-95E9-26431EE1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6D3C-B974-4C91-A5FE-BF720B2A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823B-A8EC-4D32-8815-FEC72C92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D5B0-875E-4445-BEF2-676A78B2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B14D-0F83-4B1E-A529-63206617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D87A-2251-407F-AE0E-067CB5CB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E74-F626-4800-83CC-5E1D363C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E6CD-320E-4144-B92A-DA32C7CD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DB0-F1E3-4572-BB7A-0009A52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29B4-098D-4885-BCBB-F8D69C8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4F7-EE7F-4AAF-826C-1ADBC926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D243-529B-4923-AA3C-A83F1FA7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04044-BD77-4DA2-B504-A8490E32F4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F42CE-BC3C-4B76-80F7-3887C98C89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A680A-EC5D-4071-863D-7C9C6C4948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63100-E349-4C48-83B3-09DC23A52D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E93FC-C5DB-4A7E-BB11-93351AF7E5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A61-E3EF-4AD7-B8F1-BB4CB75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0D16E-CA29-473B-9E29-1F9C21D47B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3CF1F-3A99-4C5D-AF3E-D4F16B9EE1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7C010-F1A8-4199-AFB4-929901A5F2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4A634-3E76-4B68-B9E2-2720000871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9F2C2-0D4F-4252-8D3E-1C2543E306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63038-8680-4F2A-80CB-BD6CDDCB68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ED57A-891C-4710-9EBA-B3B5B8F0F2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37FA6-3B45-4BFA-9F43-EB583D8180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95BE-1584-4E47-AFD5-56E8982651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E7B8-4F1C-4E7A-953E-5EA37A1E9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46A-D7AE-4BAE-8621-F89CBFCC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BA1C-7F30-404A-856B-1197A9BC95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089A-06DC-499F-BA95-B8A16CC971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3CAF-5A46-46B0-919E-5D0DC047B3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06C5-1B4B-416B-A772-B18AC1209D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9DA1-95E1-4FCD-A0AF-1975377263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AFB4-2CD4-40C7-9F97-55CA03FFB0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F054-3008-43AC-A565-1411FB7B6A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0EFD2-EE47-4F84-A75B-D8A2EBC2A4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F8CE-FC94-4B25-9D8F-57AD40CD2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656-5470-4F1A-AA7E-21DF28B3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431-C4B1-4CA9-8856-E9408DD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C3D-E12C-4566-9727-65938A88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1D6-099E-4827-8EE5-8B0FA73D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BCC0-115B-4E50-8CB8-BE78CCE1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1DE-C962-41DC-8D85-0049F104B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29F5-2A76-4A1B-8AA9-2AABD15E9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8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5331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f497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561-CB52-419E-A204-237F4AAAA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4"/>
          <p:cNvSpPr/>
          <p:nvPr/>
        </p:nvSpPr>
        <p:spPr>
          <a:xfrm>
            <a:off x="1522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C26-8057-4091-A7D8-72B62B39D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7/KCAPTCHA_with_crowded_symbols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Accessibility and Usability Considerations for Remote Electronic UOCAVA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on Laskowski, P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1522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Verdana"/>
              </a:rPr>
              <a:t>TGDC Meeting, July 8-9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521400" y="548640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Issues and Recommendations are organized by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437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General accessibility and usab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brow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ballot reposi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nline ballot markers  and electronic form fil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Kio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elephone-based inte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ax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282A-3C13-4B12-A5E3-E232342E8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Example Recommendations: 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General accessibility and us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437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Accessibility and usability best practices and guidelines have not been systematically applied to design and testing of UOCAVA voting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Where appropriate follow VVSG 2.0 accessibility and usability requirements and test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09DB-BC35-420A-9C26-87DD8CDDE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Web-based v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he VVSG does not address Web-based voting systems or Personal Assistive Technologies (P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Use of Javascript and Java applets may lead to loss of focus for screen r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llow W3C Web Accessibility Initiative WCAG 2.0 and ARIA*, Section 508 guidelines, and best practices for accessibility for AJAX (asynchronous JavaScript and XML) implem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*Web Content Accessibility Guidelines, Accessible Rich Internet Appl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41FE-8090-4247-8832-48AC98390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Authentication and CAPTC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051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ome authentication approaches are not compatible with 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Visual CAPTCH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ollow accessible CAPTCHA design guid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siz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equate contrast to distinguish the CAPTCHA from its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on’t use shado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lternatives, e.g, text readout, phon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3A56-2CE4-43B0-83FD-1A16C61BF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File:KCAPTCHA with crowded symbol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2895480"/>
            <a:ext cx="276228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Interoperability</a:t>
            </a:r>
            <a:r>
              <a:rPr b="1" lang="en-US" sz="36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2133720"/>
            <a:ext cx="86104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For Web-based remote electronic voting, a variety of system components must run simultaneously: operating systems, browsers, voting software, PAT, and voting system hardware (for kiosk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eb applications must display properly with all commonly-used Web browsers and screen re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t is critical to design for and test all common configurations for interoperability, including testing with PAT by testers familiar with using P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D15B-C2C5-441E-A97F-F917D181E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051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When voters view and/or print documents (such as ballots), the documents need to be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DF might not be acce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f you must use PDF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ave documents as accessible PDF rather than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 support screen legibility for low vision voters, check that Adobe Reader “reflow” feature performs cor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voters need to print for submission, support print legibility for low vision voters by providing enlarged font documents (not a substitute for accessible PDF and/or screen view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4007-AAD6-4723-AC85-B0D707EBF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Tahoma"/>
                <a:ea typeface="Tahoma"/>
              </a:rPr>
              <a:t>Telephone-based interf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0570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Telephone-based interfaces without a screen require the ability to hear the prompts and also impose a high memory 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ecommend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reate requirements based on general best practices for interactive voice response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equire non-auditory alternatives for people with hearing loss and non-manual alternatives for people severe manual dexterity disabilitie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E3B-7862-4E81-B02B-E28DDAE8C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3:15:16Z</dcterms:created>
  <dc:creator>Dan</dc:creator>
  <dc:description/>
  <dc:language>en-US</dc:language>
  <cp:lastModifiedBy>wack</cp:lastModifiedBy>
  <dcterms:modified xsi:type="dcterms:W3CDTF">2010-07-08T11:07:44Z</dcterms:modified>
  <cp:revision>81</cp:revision>
  <dc:subject/>
  <dc:title>Slide 1</dc:title>
</cp:coreProperties>
</file>