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3F3-7A6D-4C52-9738-6F33951E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13A9-E86F-4B76-9BDD-C5323CB94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41DF-4002-4954-9C55-03B2E55AD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EC5C-F948-486B-9CAA-73F6E8B4A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D08E-24E0-4B3A-ADAF-BA6E06965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832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22240" y="236196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832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22240" y="4352400"/>
            <a:ext cx="2527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1A3D-EF03-4FC1-907B-F5B6C3919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419B-F497-4175-81FB-6062F19C8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E8FC-3687-404E-8D62-9B9815DE2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7495-5EB0-415F-9E55-9620722E7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D2E0-6D06-4A98-8FD4-D3B22950B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93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8D10-4146-4132-BA5B-7A6D88033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2FAF-570D-4638-A208-75E6236C4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6320" y="435240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1F84-25FD-4953-97D9-C50926932D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6320" y="2361960"/>
            <a:ext cx="3830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352400"/>
            <a:ext cx="78487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044F-BBF2-4E40-BC8C-8B0763D36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votebannernew"/>
          <p:cNvPicPr/>
          <p:nvPr/>
        </p:nvPicPr>
        <p:blipFill>
          <a:blip r:embed="rId2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votebannernew"/>
          <p:cNvPicPr/>
          <p:nvPr/>
        </p:nvPicPr>
        <p:blipFill>
          <a:blip r:embed="rId3"/>
          <a:stretch/>
        </p:blipFill>
        <p:spPr>
          <a:xfrm>
            <a:off x="304920" y="228600"/>
            <a:ext cx="8458200" cy="99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6290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26895D1-2DD9-4BDA-9AF4-A9E5A71E62B8}" type="slidenum">
              <a:rPr b="1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80880" y="638172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TGDC Meeting, July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vote.nist.gov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4288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ecurity Considerations for Remote Electronic UOCAVA Vo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4920" y="3809520"/>
            <a:ext cx="6629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rew Regensche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9" descr="nistident_flright_300ppi1"/>
          <p:cNvPicPr/>
          <p:nvPr/>
        </p:nvPicPr>
        <p:blipFill>
          <a:blip r:embed="rId2"/>
          <a:stretch/>
        </p:blipFill>
        <p:spPr>
          <a:xfrm>
            <a:off x="6400800" y="5425920"/>
            <a:ext cx="2622600" cy="12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tial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lot secre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voter registratio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pt-f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8CDE7BEE-3B17-49A2-A00B-9E35D031D3B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AD0BDCA5-8CB6-4648-81B8-3693A675D78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fidentiality -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ballot secrecy at election off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ballot secrecy in-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-scale attacks generally difficult with mail-in, fax, and telephone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with unencrypted e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-based methods easy to prot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erc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 scale attacks via mail-in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tacks scale better with electronic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-side threats to email/web vo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A993C42-58FC-4568-B389-00CBAEA07AE6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Confidentiality - 4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 use of cryptography can provide strong protections for data in-transit against modification or inter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yptography, access control mechanisms, and separation of duties can protect ballots on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-to-end cryptographic voting protocols can provide additional ballot secrecy prot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henticity of electronic rec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integrity protections in-trans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0714006-6930-4297-9B4C-3C4491048E6A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gr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DDAB6DD-368F-4594-B1C8-261EE55D3BA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289D049-7751-4AD0-B565-9E2FF985477E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Integrity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ot modification after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lot modification in-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-scale attacks generally difficult with mail-in, fax, telephone vo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e with unencrypted ema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-based methods easy to prot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-based threats server-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-based threats client-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TISC- 15% of US computers infected with botnet malw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lware kits available on the black-market for &lt;$10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Integrity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side protections are very difficult to en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systems are typically outside control of election offici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tivirus/antiphishing software may not be present, update-to-date, or eff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ea with continuous research and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ing technologies: Trusted computing and/or virt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osks can enforce prot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94322CE-5E9F-45C1-9D97-2AC68D1C55B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ilabil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liness of 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rmation of rece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of physical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7AB1EC1E-47FF-49CC-B6CC-CBE6365A822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ailability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ve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ult-Tole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-Sa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A2EEB75-23ED-4543-84A0-A6BC3F10426A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13E6D38E-FA58-45D0-96D5-1EBFE50B6A52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Availability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 ti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verseas mail delivery times vary (e.g., 7-12 days to Middle Eas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ctronic systems have significant advant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ial of Service att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ber attacks on e-commerce sites, Estonia (2007), Georgia (2008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fficult to guard against, but easy to det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-side disru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mall-scale attacks with mail-in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scale attacks possible with electronic methods (e.g., malwar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29F6FD72-FAFA-4188-8D7E-8B4D5DC6E82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on NIST UOCAVA Vot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8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reat Analysis on UOCAVA Vo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0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System Security Best Practices for UOCAVA Suppor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0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curity Best Practices for the Electronic Transmission of UOCAVA Election Mate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Availability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ks on availability cannot be prevented, but can be made more diffic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ndancy and over-provis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ing with Internet service providers for filt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erging technology: Cloud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S attacks difficult to prevent, but easy to det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&amp;A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authentication 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ong remote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172D786-3A6E-4201-B1C5-E42808372716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&amp;A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rab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ter/Administrator/Component I&amp;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-transferable credent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5F00B79-D18E-4E19-9F85-2743D353A85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019D935B-61BC-4A03-B9A7-7DD8D78147D8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21932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I&amp;A - 3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ength of authentication mechanis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-in, fax, and email rely on verification of hand signatur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onger mechanisms available for web-based syste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dential Se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e impact as vote sell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rge-scale attacks may be possible depending on authentication mechanism (e.g., PIN, passwor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hishing/Phar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jor threats to web-based syste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008 Gartner report- 5 million victi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lware attack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cial engine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Tahoma"/>
              </a:rPr>
              <a:t>I&amp;A - 4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itigations for Electronic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 authentication mechanisms ex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Ns and passwords are cheap, but comparatively easy to ste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e-time password devices require deployment of physical devices to vo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ptographic authentication methods offer the strongest assurances, but may be expensive to deplo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rt Card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Access Card already deployed to military pers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ck of smart card readers on personally-owned compu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nded to be used by the 2004 SERV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person authentication at supervised kio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CCD99056-A168-4433-8296-5CF47BD7FC6D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Practices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icit comments from jurisdictions and the voting community and update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se documents as input to updating EAC UOCAVA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also bring in usability, accessibility, and election management best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A22B803-8DF3-4D11-8763-7C30DFA4450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Step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urity research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ts, mitigating security controls, and current/emerging technologies will serve as input to the risk management framework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ST will work with the TGDC and the voting community to fill in remaining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8ADC959-01E6-40E9-95AD-47FDE58C3F58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6617B03-0AB5-4EE5-9DC7-94224909290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 documents will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vailable a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vote.nist.gov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609480" y="1905120"/>
            <a:ext cx="779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T UOCAVA Voting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STIR 7551: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A Threat Analysis on UOCAVA Vo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luded that threats to electronic transmission of registration materials and blank ballots can be effectively mitigated with widely deployed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ts to electronic return of ballots more serious and challenging to over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E9DA31A-D367-4F41-935D-3CD9689429BE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ation/Ballot Request and Ballot Deliv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d two best practices docu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STIR 7682: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formation System Security Best Practices for UOCAVA Supporting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ISTIR 7711: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Security Best Practices for the Electronic Transmission of UOCAVA Election Materia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llot Retu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arch document framing important security issues for policymak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llaboration between NIST computer security and human factors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E923CF58-6197-4333-A3F9-CE9ADC306BA1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31980DE5-21F6-47CD-BBA5-4D64DF41CCE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848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ecurity Considerations for Remote Electronic UOCAVA Vo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ident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rable security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security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and emerging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d by security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ication and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BDC0D70-B5C9-4182-81EC-8B807241C965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rable Properties- Based on properties/requirements 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 docu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voting Common Criteria Protection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cil of Europe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47387411-0AB1-4858-B252-56AD43D5D06B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port Overview -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d describes major thre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reats identified in NISTIR 7551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 Threat Analysis on UOCAVA Vo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and Emerging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FB50763F-D99D-4EAC-AA63-054FAD96EA56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tiality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otential Benef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technical ballot secrecy prot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protection against unsophisticated coercion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Page </a:t>
            </a:r>
            <a:fld id="{5C8ACBE3-CF6D-43A9-8CB1-65750A51A114}" type="slidenum">
              <a:rPr b="1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4:26:43Z</dcterms:created>
  <dc:creator>Andrew Regenscheid</dc:creator>
  <dc:description/>
  <dc:language>en-US</dc:language>
  <cp:lastModifiedBy>traveluser</cp:lastModifiedBy>
  <dcterms:modified xsi:type="dcterms:W3CDTF">2010-07-07T13:36:41Z</dcterms:modified>
  <cp:revision>1167</cp:revision>
  <dc:subject>TGDC Meeting 12/9/09-12/10/09</dc:subject>
  <dc:title>NIST Research on UOCAVA Voting</dc:title>
</cp:coreProperties>
</file>