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664A-4934-4999-BA19-C1182181A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ACF1-2DAE-4263-925B-AB00A7922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94F5-E513-4C97-8102-6A9542BCF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284A-8BCC-4E21-A648-EF773D99D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5CE7-EF65-4FD3-AEDB-B2286539E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832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2224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832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2224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7DDB-7A09-4686-94CF-0687A2C304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450B-0912-4E42-8F3A-10E97183BE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AC28-ACFC-4843-8B7F-9D8B3CDDE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3F3A-3AAA-4C21-8F98-56D5ECB8F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19B7-F408-4689-AE2B-03CC7A1AA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9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C146-93B7-4C78-A3AA-912293453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FE59-247E-47B6-B938-0E5B2057B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B231-FA21-4F09-9103-271BFD149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41ED-A7F4-4F8A-B095-E6DF046DA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votebannernew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votebannernew"/>
          <p:cNvPicPr/>
          <p:nvPr/>
        </p:nvPicPr>
        <p:blipFill>
          <a:blip r:embed="rId3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103C8EDF-2C06-40D5-AF38-7ADF28F7283C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80880" y="6381720"/>
            <a:ext cx="373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TGDC Meeting,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ote.nist.gov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vote.nist.gov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4288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ecurity Considerations for Remote Electronic UOCAVA Vo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4920" y="3809520"/>
            <a:ext cx="6629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rew Regensche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vote.nist.g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9" descr="nistident_flright_300ppi1"/>
          <p:cNvPicPr/>
          <p:nvPr/>
        </p:nvPicPr>
        <p:blipFill>
          <a:blip r:embed="rId2"/>
          <a:stretch/>
        </p:blipFill>
        <p:spPr>
          <a:xfrm>
            <a:off x="6400800" y="5425920"/>
            <a:ext cx="26226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tiality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esirable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lot secre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 voter registratio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pt-f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sto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38A67A68-6A19-42E9-B26A-471247F23F84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E8012E12-5D52-4B53-AE92-B35D262E97E7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fidentiality - 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ballot secrecy at election off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ballot secrecy in-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-scale attacks generally difficult with mail-in, fax, and telephone vo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with unencrypted e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-based methods easy to prot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erc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ll scale attacks via mail-in vo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tacks scale better with electronic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-side threats to email/web vo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85664060-6C50-45A0-B8EA-663CC1080514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Confidentiality - 4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itigations for Electronic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 use of cryptography can provide strong protections for data in-transit against modification or inter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yptography, access control mechanisms, and separation of duties can protect ballots on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-to-end cryptographic voting protocols can provide additional ballot secrecy prot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grity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otential Benef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enticity of electronic rec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ong integrity protections in-trans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ADCAD7AD-C5B6-48C1-8590-2665365F9E63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grity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sirable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9BD633E3-F70D-41C1-9FDB-479E8CEED84C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B3788990-46BF-4F4A-839A-7BF470626DE8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Integrity - 3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lot modification after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lot modification in-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-scale attacks generally difficult with mail-in, fax, telephone vo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le with unencrypted em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-based methods easy to pro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-based threats server-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-based threats client-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TISC- 15% of US computers infected with botnet mal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lware kits available on the black-market for &lt;$1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Integrity - 4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itigations for Electronic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side protections are very difficult to enfo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systems are typically outside control of election offici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ivirus/antiphishing software may not be present, update-to-date, or eff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rea with continuous research and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erging technologies: Trusted computing and/or virtu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iosks can enforce prot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ABCD21F4-E52A-45D6-8370-E10754712ADF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ailability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otential Benef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liness of 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rmation of rece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of physical lo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26A6672D-C953-4A25-91BF-6FC76E59D483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ailability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esirable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ver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ult-Tole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il-Saf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DFF951B8-81E0-4FBE-B02F-15E0C58B389F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42C2F11E-E6CB-4FD3-ABEE-51D218D03544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Availability - 3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 ti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seas mail delivery times vary (e.g., 7-12 days to Middle Eas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ctronic systems have significant advant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ial of Service att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ber attacks on e-commerce sites, Estonia (2007), Georgia (2008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icult to guard against, but easy to det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-side disru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ll-scale attacks with mail-in vo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 scale attacks possible with electronic methods (e.g., malwar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07F057A6-7C81-4690-A49B-5EA90DD35CB7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ground on NIST UOCAVA Vot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8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reat Analysis on UOCAVA Vot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10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System Security Best Practices for UOCAVA Support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10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curity Best Practices for the Electronic Transmission of UOCAVA Election Materi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urity Considerations for Remote Electronic UOCAVA Vo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Availability - 4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itigations for Electronic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ks on availability cannot be prevented, but can be made more diffic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ndancy and over-provis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ing with Internet service providers for filt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erging technology: Cloud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S attacks difficult to prevent, but easy to det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&amp;A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otential Benef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authentication 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ong remote authent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9B3844D2-E225-4811-A116-AFFC475D9ED0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&amp;A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esirable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ter/Administrator/Component I&amp;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transferable credent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53BC2DFC-4AFE-48B7-BFF6-A7066D5E6DA9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29804701-8718-4197-A50F-FA13DEDE1217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I&amp;A - 3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ength of authentication mechanis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l-in, fax, and email rely on verification of hand signatu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onger mechanisms available for web-based syste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dential Sel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me impact as vote sell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rge-scale attacks may be possible depending on authentication mechanism (e.g., PIN, passwor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hishing/Pharm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jor threats to web-based syste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008 Gartner report- 5 million victi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lware atta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cial engine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I&amp;A - 4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itigations for Electronic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ong authentication mechanisms ex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Ns and passwords are cheap, but comparatively easy to st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-time password devices require deployment of physical devices to vo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yptographic authentication methods offer the strongest assurances, but may be expensive to deplo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rt Card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Access Card already deployed to military person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ck of smart card readers on personally-owned compu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nded to be used by the 2004 SERVE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person authentication at supervised kios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1211BC1B-92F0-48E4-8727-5B6A6800873A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Step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Practices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icit comments from jurisdictions and the voting community and update doc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se documents as input to updating EAC UOCAVA Best 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also bring in usability, accessibility, and election management best 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630AFB1A-7D6A-46CF-A37B-B46F700F26C0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Step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research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ats, mitigating security controls, and current/emerging technologies will serve as input to the risk management framework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ST will work with the TGDC and the voting community to fill in remaining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A5A7C409-B1A8-4ABD-B4DD-62DEAFD87BB4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9CC06C24-1AA5-4934-9E50-95284991DC00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l documents will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vailable at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vote.nist.gov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09480" y="1905120"/>
            <a:ext cx="779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IST UOCAVA Voting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ground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STIR 7551: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A Threat Analysis on UOCAVA Vo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luded that threats to electronic transmission of registration materials and blank ballots can be effectively mitigated with widely deployed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ts to electronic return of ballots more serious and challenging to over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600B9B8F-C3EB-4081-9864-C8B951FB6B07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ground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stration/Ballot Request and Ballot Deliv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d two best practices docu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ISTIR 7682: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formation System Security Best Practices for UOCAVA Supporting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ISTIR 7711: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Security Best Practices for the Electronic Transmission of UOCAVA Election Materi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llot Retu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arch document framing important security issues for policymak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curity Considerations for Remote Electronic UOCAVA Vo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aboration between NIST computer security and human factors expe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014729E9-0CEE-4B5A-B4FC-A0AE018D9B5E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A3FD5EC1-2230-4100-9297-5C1625CD8457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ort Overview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ecurity Considerations for Remote Electronic UOCAVA Vo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ident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benef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rable security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jor security 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and emerging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ort Overview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d by security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cation and Authent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22D6F3A8-D2A2-4EE8-8C9A-0E43FA05DC1E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ort Overview -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tential Benef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rable Properties- Based on properties/requirements 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 docu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voting Common Criteria Protection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ncil of Europe 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7263104D-AB6B-4CB7-A8D4-3DBCD0F170A3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ort Overview -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d describes major 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threats identified in NISTIR 7551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 Threat Analysis on UOCAVA Vot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and Emerging Techn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BAEFD099-4C5A-4CFB-B893-1C1E3037D7F2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tiality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otential Benef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technical ballot secrecy prot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protection against unsophisticated coercion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64214ACB-BBAF-4215-8428-61A7F37ABE31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4:26:43Z</dcterms:created>
  <dc:creator>Andrew Regenscheid</dc:creator>
  <dc:description/>
  <dc:language>en-US</dc:language>
  <cp:lastModifiedBy>traveluser</cp:lastModifiedBy>
  <dcterms:modified xsi:type="dcterms:W3CDTF">2010-07-07T13:36:41Z</dcterms:modified>
  <cp:revision>1167</cp:revision>
  <dc:subject>TGDC Meeting 12/9/09-12/10/09</dc:subject>
  <dc:title>NIST Research on UOCAVA Voting</dc:title>
</cp:coreProperties>
</file>