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F15B-DBDA-4A54-8F7F-0BAACC70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109B-ED2C-493B-BD88-626CA995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A0A-1060-4477-ADE0-55D45E1F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2EC0-C868-43A7-90C7-9E46826C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CDC8-4D99-48B3-BE92-F5E63D30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7DD2-6FED-4535-96B4-6FB7C6C6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6A1B-1DE5-4539-82B3-8795E45B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01A2-109B-48D2-8405-EAC0C6CD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37DD-777C-4205-8FC9-DAD3ACC0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00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C70B-55E5-4122-A817-62122EBD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C50E-74C5-4BDE-9D15-340A4E45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FE8-8BE9-420A-A1E4-478A978F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0685-FC3D-4D21-B652-67847354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6A36-D747-4979-9B37-AF20E39A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6032-26ED-4CD4-AA87-A4732E83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1C8A-41CE-4D5A-97AE-937E3D1B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5E56-1E58-49CE-A287-ED5FA243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7171-1E15-4CA7-A69E-B7029839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CADA-3243-4CB4-91C6-444E69FE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AB6E-7EEC-4178-9908-9764E501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00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C66E-67B4-4A67-A879-73A2D1D5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0D0B-0D97-4AF8-94A5-F44AEAD4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1091-6FBC-4640-A9F5-7E327C48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3EA-3A59-466F-891F-43898409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rcRect l="0" t="0" r="75682" b="0"/>
          <a:stretch/>
        </p:blipFill>
        <p:spPr>
          <a:xfrm>
            <a:off x="152280" y="76320"/>
            <a:ext cx="1905120" cy="1828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T L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83869"/>
              </a:buClr>
              <a:buFont typeface="Albertu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3869"/>
                </a:solidFill>
                <a:latin typeface="Albertus MT"/>
              </a:rPr>
              <a:t>Click to edit the outline text format</a:t>
            </a: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  <a:p>
            <a:pPr lvl="1" marL="743040" indent="-285840">
              <a:spcBef>
                <a:spcPts val="799"/>
              </a:spcBef>
              <a:buClr>
                <a:srgbClr val="083869"/>
              </a:buClr>
              <a:buFont typeface="Albertu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3869"/>
                </a:solidFill>
                <a:latin typeface="Albertus MT"/>
              </a:rPr>
              <a:t>Second Outline Level</a:t>
            </a: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  <a:p>
            <a:pPr lvl="2" marL="1143000" indent="-228600">
              <a:spcBef>
                <a:spcPts val="799"/>
              </a:spcBef>
              <a:buClr>
                <a:srgbClr val="083869"/>
              </a:buClr>
              <a:buFont typeface="Albertu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3869"/>
                </a:solidFill>
                <a:latin typeface="Albertus MT"/>
              </a:rPr>
              <a:t>Third Outline Level</a:t>
            </a: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  <a:p>
            <a:pPr lvl="3" marL="1600200" indent="-228600">
              <a:spcBef>
                <a:spcPts val="799"/>
              </a:spcBef>
              <a:buClr>
                <a:srgbClr val="083869"/>
              </a:buClr>
              <a:buFont typeface="Albertu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3869"/>
                </a:solidFill>
                <a:latin typeface="Albertus MT"/>
              </a:rPr>
              <a:t>Fourth Outline Level</a:t>
            </a: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  <a:p>
            <a:pPr lvl="4" marL="2057400" indent="-228600">
              <a:spcBef>
                <a:spcPts val="799"/>
              </a:spcBef>
              <a:buClr>
                <a:srgbClr val="083869"/>
              </a:buClr>
              <a:buFont typeface="Albertu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3869"/>
                </a:solidFill>
                <a:latin typeface="Albertus MT"/>
              </a:rPr>
              <a:t>Fifth Outline Level</a:t>
            </a: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lbertu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3869"/>
                </a:solidFill>
                <a:latin typeface="Albertus MT"/>
              </a:rPr>
              <a:t>Sixth Outline Level</a:t>
            </a: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lbertu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3869"/>
                </a:solidFill>
                <a:latin typeface="Albertus MT"/>
              </a:rPr>
              <a:t>Seventh Outline Level</a:t>
            </a: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C26D-E5B3-4DF9-A4B5-378C6BB30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040" y="1981080"/>
            <a:ext cx="7086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3869"/>
                </a:solidFill>
                <a:latin typeface="Albertus MT"/>
              </a:rPr>
              <a:t>Click to edit the title text format</a:t>
            </a:r>
            <a:endParaRPr b="0" lang="en-US" sz="3600" spc="-1" strike="noStrike">
              <a:solidFill>
                <a:srgbClr val="083869"/>
              </a:solidFill>
              <a:latin typeface="Albertu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 u="sng">
                <a:solidFill>
                  <a:srgbClr val="990000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990000"/>
                </a:solidFill>
                <a:uFillTx/>
                <a:latin typeface="Times New Roman"/>
              </a:rPr>
              <a:t>www.eac.g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CC0B-0AA4-4945-9628-18FA1336E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0" r="75672" b="0"/>
          <a:stretch/>
        </p:blipFill>
        <p:spPr>
          <a:xfrm>
            <a:off x="228600" y="1981080"/>
            <a:ext cx="1905120" cy="1828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25520" y="213048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dbc"/>
                </a:solidFill>
                <a:latin typeface="Cambria"/>
              </a:rPr>
              <a:t>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sto MT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Calisto M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3869"/>
                </a:solidFill>
                <a:latin typeface="Albertus MT"/>
              </a:rPr>
              <a:t>Second Outline Level</a:t>
            </a:r>
            <a:endParaRPr b="0" lang="en-US" sz="2800" spc="-1" strike="noStrike">
              <a:solidFill>
                <a:srgbClr val="083869"/>
              </a:solidFill>
              <a:latin typeface="Albertus MT"/>
            </a:endParaRPr>
          </a:p>
          <a:p>
            <a:pPr lvl="2" marL="914400" algn="ctr">
              <a:spcBef>
                <a:spcPts val="601"/>
              </a:spcBef>
              <a:buClr>
                <a:srgbClr val="083869"/>
              </a:buClr>
              <a:buFont typeface="Albertus M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869"/>
                </a:solidFill>
                <a:latin typeface="Albertus MT"/>
              </a:rPr>
              <a:t>Third Outline Level</a:t>
            </a:r>
            <a:endParaRPr b="0" lang="en-US" sz="2400" spc="-1" strike="noStrike">
              <a:solidFill>
                <a:srgbClr val="083869"/>
              </a:solidFill>
              <a:latin typeface="Albertus MT"/>
            </a:endParaRPr>
          </a:p>
          <a:p>
            <a:pPr lvl="3" marL="1371600" algn="ctr">
              <a:spcBef>
                <a:spcPts val="499"/>
              </a:spcBef>
              <a:buClr>
                <a:srgbClr val="083869"/>
              </a:buClr>
              <a:buFont typeface="Albertus M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869"/>
                </a:solidFill>
                <a:latin typeface="Albertus MT"/>
              </a:rPr>
              <a:t>Fourth Outline Level</a:t>
            </a:r>
            <a:endParaRPr b="0" lang="en-US" sz="2000" spc="-1" strike="noStrike">
              <a:solidFill>
                <a:srgbClr val="083869"/>
              </a:solidFill>
              <a:latin typeface="Albertus MT"/>
            </a:endParaRPr>
          </a:p>
          <a:p>
            <a:pPr lvl="4" marL="1828800" algn="ctr">
              <a:spcBef>
                <a:spcPts val="499"/>
              </a:spcBef>
              <a:buClr>
                <a:srgbClr val="083869"/>
              </a:buClr>
              <a:buFont typeface="Albertus M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869"/>
                </a:solidFill>
                <a:latin typeface="Albertus MT"/>
              </a:rPr>
              <a:t>Fifth Outline Level</a:t>
            </a:r>
            <a:endParaRPr b="0" lang="en-US" sz="2000" spc="-1" strike="noStrike">
              <a:solidFill>
                <a:srgbClr val="083869"/>
              </a:solidFill>
              <a:latin typeface="Albertus M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lbertu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869"/>
                </a:solidFill>
                <a:latin typeface="Albertus MT"/>
              </a:rPr>
              <a:t>Sixth Outline Level</a:t>
            </a:r>
            <a:endParaRPr b="0" lang="en-US" sz="2000" spc="-1" strike="noStrike">
              <a:solidFill>
                <a:srgbClr val="083869"/>
              </a:solidFill>
              <a:latin typeface="Albertus M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lbertu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3869"/>
                </a:solidFill>
                <a:latin typeface="Albertus MT"/>
              </a:rPr>
              <a:t>Seventh Outline Level</a:t>
            </a:r>
            <a:endParaRPr b="0" lang="en-US" sz="2000" spc="-1" strike="noStrike">
              <a:solidFill>
                <a:srgbClr val="083869"/>
              </a:solidFill>
              <a:latin typeface="Albertu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1981080"/>
            <a:ext cx="6705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3869"/>
                </a:solidFill>
                <a:latin typeface="Albertus MT Lt"/>
              </a:rPr>
              <a:t>Election Assistance Commission</a:t>
            </a:r>
            <a:endParaRPr b="0" lang="en-US" sz="3600" spc="-1" strike="noStrike">
              <a:solidFill>
                <a:srgbClr val="083869"/>
              </a:solidFill>
              <a:latin typeface="Albertus M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0" r="75672" b="0"/>
          <a:stretch/>
        </p:blipFill>
        <p:spPr>
          <a:xfrm>
            <a:off x="228600" y="1981080"/>
            <a:ext cx="1905120" cy="1828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286000" y="29401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sting &amp; Certification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358128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UOCAVA Roadma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Background Info</a:t>
            </a:r>
            <a:endParaRPr b="0" lang="en-US" sz="36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  <a:p>
            <a:pPr lvl="1" marL="743040" indent="-285840">
              <a:spcBef>
                <a:spcPts val="700"/>
              </a:spcBef>
              <a:buClr>
                <a:srgbClr val="083869"/>
              </a:buClr>
              <a:buFont typeface="Albertu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3869"/>
                </a:solidFill>
                <a:latin typeface="Albertus MT"/>
              </a:rPr>
              <a:t>UOCAVA Roadmap created to meet the requirements of Section 589(e)(2) of the National Defense Authorization Act of 2009.</a:t>
            </a:r>
            <a:endParaRPr b="0" lang="en-US" sz="2800" spc="-1" strike="noStrike">
              <a:solidFill>
                <a:srgbClr val="083869"/>
              </a:solidFill>
              <a:latin typeface="Albertus MT"/>
            </a:endParaRPr>
          </a:p>
          <a:p>
            <a:pPr lvl="1" marL="743040" indent="-285840">
              <a:spcBef>
                <a:spcPts val="700"/>
              </a:spcBef>
              <a:buClr>
                <a:srgbClr val="083869"/>
              </a:buClr>
              <a:buFont typeface="Albertu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3869"/>
                </a:solidFill>
                <a:latin typeface="Albertus MT"/>
              </a:rPr>
              <a:t>EAC must report to Congress within one hundred eighty days of enactment of the act if “…EAC has not established electronic absentee voting guidelines” within that timeframe.</a:t>
            </a:r>
            <a:endParaRPr b="0" lang="en-US" sz="2800" spc="-1" strike="noStrike">
              <a:solidFill>
                <a:srgbClr val="083869"/>
              </a:solidFill>
              <a:latin typeface="Albertus M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3869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Goals of the UOCAVA Roadmap</a:t>
            </a: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3869"/>
              </a:solidFill>
              <a:latin typeface="Albertu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8386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869"/>
                </a:solidFill>
                <a:latin typeface="Cambria"/>
              </a:rPr>
              <a:t>Provide a detailed timeframe for the development of a full set of testable requirements for an absentee remote electronic voting system.</a:t>
            </a:r>
            <a:endParaRPr b="0" lang="en-US" sz="2400" spc="-1" strike="noStrike">
              <a:solidFill>
                <a:srgbClr val="083869"/>
              </a:solidFill>
              <a:latin typeface="Albertu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8386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869"/>
                </a:solidFill>
                <a:latin typeface="Cambria"/>
              </a:rPr>
              <a:t>Collaborative effort between EAC, NIST, and FVAP.</a:t>
            </a:r>
            <a:endParaRPr b="0" lang="en-US" sz="2400" spc="-1" strike="noStrike">
              <a:solidFill>
                <a:srgbClr val="083869"/>
              </a:solidFill>
              <a:latin typeface="Albertu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8386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869"/>
                </a:solidFill>
                <a:latin typeface="Cambria"/>
              </a:rPr>
              <a:t>Capture the work already done in this area</a:t>
            </a:r>
            <a:endParaRPr b="0" lang="en-US" sz="2400" spc="-1" strike="noStrike">
              <a:solidFill>
                <a:srgbClr val="083869"/>
              </a:solidFill>
              <a:latin typeface="Albertu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8386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869"/>
                </a:solidFill>
                <a:latin typeface="Cambria"/>
              </a:rPr>
              <a:t>Capture the iterative process for the development of the full set of requirements.</a:t>
            </a:r>
            <a:endParaRPr b="0" lang="en-US" sz="2400" spc="-1" strike="noStrike">
              <a:solidFill>
                <a:srgbClr val="083869"/>
              </a:solidFill>
              <a:latin typeface="Albertus MT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83869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3869"/>
                </a:solidFill>
                <a:latin typeface="Cambria"/>
              </a:rPr>
              <a:t>Set decision points that impact the time and scope of development of requirements.</a:t>
            </a:r>
            <a:endParaRPr b="0" lang="en-US" sz="2400" spc="-1" strike="noStrike">
              <a:solidFill>
                <a:srgbClr val="083869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lbertus MT Lt"/>
              </a:rPr>
              <a:t>UOCAVA Timeline</a:t>
            </a:r>
            <a:endParaRPr b="0" lang="en-US" sz="4400" spc="-1" strike="noStrike">
              <a:solidFill>
                <a:srgbClr val="000000"/>
              </a:solidFill>
              <a:latin typeface="Albertus MT L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839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30:04Z</dcterms:created>
  <dc:creator>JoshuaMFranklin</dc:creator>
  <dc:description/>
  <dc:language>en-US</dc:language>
  <cp:lastModifiedBy>MatthewMasterson</cp:lastModifiedBy>
  <dcterms:modified xsi:type="dcterms:W3CDTF">2010-07-07T16:23:14Z</dcterms:modified>
  <cp:revision>109</cp:revision>
  <dc:subject/>
  <dc:title>Slide 1</dc:title>
</cp:coreProperties>
</file>