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F46-729F-4171-BD88-CFEDD554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422-D0F7-4FE5-B8D2-9D49347C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387-EDE6-4FA5-9252-38C1EF8B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B97-257D-4ACF-A95A-E11A1796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1728-86BD-414C-A02D-9FA45D7F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CA9C-2DB5-4A56-A2D9-F0D1C3B2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736D-CE2B-45A9-AAC8-938FDD61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0C76-286E-47D6-9E31-DDA12951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69E2-6E79-4068-B692-986B2131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00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BE2B-5728-47C7-A998-5882082B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C60D-4371-4FB0-BC17-772300B5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60A-EE50-4830-97DE-CD46222F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FF5D-3ACB-4B2E-A603-F9597B2E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9A38-3F8B-4D9B-9693-5B06A676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5E60-ADB5-4B41-84C3-B29B3475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E1FF-45E9-4DBF-839D-6F600958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8EE4-3F69-49C8-A496-8B1E4307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8CB-5764-41FE-91D2-F1C45986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34B-A215-4A54-8B61-8DB80861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4BA-714C-420C-89F3-8F1B06DC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D09-DDE3-4B93-B200-CAE74197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0F5-7D2A-4963-9EC9-8C3F53DD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7D9-D0AD-49BD-A99B-A61BB4A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79B-0A8D-43B1-BB58-53E07D1E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rcRect l="0" t="0" r="75682" b="0"/>
          <a:stretch/>
        </p:blipFill>
        <p:spPr>
          <a:xfrm>
            <a:off x="152280" y="76320"/>
            <a:ext cx="1905120" cy="1828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T L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3869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Click to edit the outline text format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spcBef>
                <a:spcPts val="799"/>
              </a:spcBef>
              <a:buClr>
                <a:srgbClr val="083869"/>
              </a:buClr>
              <a:buFont typeface="Albertu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Second Outline Level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2" marL="1143000" indent="-228600">
              <a:spcBef>
                <a:spcPts val="799"/>
              </a:spcBef>
              <a:buClr>
                <a:srgbClr val="083869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Third Outline Level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3" marL="1600200" indent="-228600">
              <a:spcBef>
                <a:spcPts val="799"/>
              </a:spcBef>
              <a:buClr>
                <a:srgbClr val="083869"/>
              </a:buClr>
              <a:buFont typeface="Albertu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Fourth Outline Level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4" marL="2057400" indent="-228600">
              <a:spcBef>
                <a:spcPts val="799"/>
              </a:spcBef>
              <a:buClr>
                <a:srgbClr val="083869"/>
              </a:buClr>
              <a:buFont typeface="Albertu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Fifth Outline Level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lbertu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Sixth Outline Level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lbertu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Seventh Outline Level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9F44-6481-4E25-B2A2-31BD6BD6C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1981080"/>
            <a:ext cx="7086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3869"/>
                </a:solidFill>
                <a:latin typeface="Albertus MT"/>
              </a:rPr>
              <a:t>Click to edit the title text format</a:t>
            </a:r>
            <a:endParaRPr b="0" lang="en-US" sz="36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 u="sng">
                <a:solidFill>
                  <a:srgbClr val="990000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990000"/>
                </a:solidFill>
                <a:uFillTx/>
                <a:latin typeface="Times New Roman"/>
              </a:rPr>
              <a:t>www.eac.g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6F7D-1540-42FC-8011-037646E14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75672" b="0"/>
          <a:stretch/>
        </p:blipFill>
        <p:spPr>
          <a:xfrm>
            <a:off x="228600" y="1981080"/>
            <a:ext cx="190512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25520" y="213048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bc"/>
                </a:solidFill>
                <a:latin typeface="Cambria"/>
              </a:rPr>
              <a:t>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869"/>
                </a:solidFill>
                <a:latin typeface="Albertus MT"/>
              </a:rPr>
              <a:t>Second Outline Level</a:t>
            </a:r>
            <a:endParaRPr b="0" lang="en-US" sz="2800" spc="-1" strike="noStrike">
              <a:solidFill>
                <a:srgbClr val="083869"/>
              </a:solidFill>
              <a:latin typeface="Albertus MT"/>
            </a:endParaRPr>
          </a:p>
          <a:p>
            <a:pPr lvl="2" marL="914400" algn="ctr">
              <a:spcBef>
                <a:spcPts val="601"/>
              </a:spcBef>
              <a:buClr>
                <a:srgbClr val="083869"/>
              </a:buClr>
              <a:buFont typeface="Albertu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869"/>
                </a:solidFill>
                <a:latin typeface="Albertus MT"/>
              </a:rPr>
              <a:t>Third Outline Level</a:t>
            </a:r>
            <a:endParaRPr b="0" lang="en-US" sz="2400" spc="-1" strike="noStrike">
              <a:solidFill>
                <a:srgbClr val="083869"/>
              </a:solidFill>
              <a:latin typeface="Albertus MT"/>
            </a:endParaRPr>
          </a:p>
          <a:p>
            <a:pPr lvl="3" marL="1371600" algn="ctr">
              <a:spcBef>
                <a:spcPts val="499"/>
              </a:spcBef>
              <a:buClr>
                <a:srgbClr val="083869"/>
              </a:buClr>
              <a:buFont typeface="Albertu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869"/>
                </a:solidFill>
                <a:latin typeface="Albertus MT"/>
              </a:rPr>
              <a:t>Fourth Outline Level</a:t>
            </a:r>
            <a:endParaRPr b="0" lang="en-US" sz="2000" spc="-1" strike="noStrike">
              <a:solidFill>
                <a:srgbClr val="083869"/>
              </a:solidFill>
              <a:latin typeface="Albertus MT"/>
            </a:endParaRPr>
          </a:p>
          <a:p>
            <a:pPr lvl="4" marL="1828800" algn="ctr">
              <a:spcBef>
                <a:spcPts val="499"/>
              </a:spcBef>
              <a:buClr>
                <a:srgbClr val="083869"/>
              </a:buClr>
              <a:buFont typeface="Albertu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869"/>
                </a:solidFill>
                <a:latin typeface="Albertus MT"/>
              </a:rPr>
              <a:t>Fifth Outline Level</a:t>
            </a:r>
            <a:endParaRPr b="0" lang="en-US" sz="2000" spc="-1" strike="noStrike">
              <a:solidFill>
                <a:srgbClr val="083869"/>
              </a:solidFill>
              <a:latin typeface="Albertus M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lbertu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869"/>
                </a:solidFill>
                <a:latin typeface="Albertus MT"/>
              </a:rPr>
              <a:t>Sixth Outline Level</a:t>
            </a:r>
            <a:endParaRPr b="0" lang="en-US" sz="2000" spc="-1" strike="noStrike">
              <a:solidFill>
                <a:srgbClr val="083869"/>
              </a:solidFill>
              <a:latin typeface="Albertus M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lbertu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869"/>
                </a:solidFill>
                <a:latin typeface="Albertus MT"/>
              </a:rPr>
              <a:t>Seventh Outline Level</a:t>
            </a:r>
            <a:endParaRPr b="0" lang="en-US" sz="2000" spc="-1" strike="noStrike">
              <a:solidFill>
                <a:srgbClr val="083869"/>
              </a:solidFill>
              <a:latin typeface="Albertu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1981080"/>
            <a:ext cx="6705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3869"/>
                </a:solidFill>
                <a:latin typeface="Albertus MT Lt"/>
              </a:rPr>
              <a:t>Election Assistance Commission</a:t>
            </a:r>
            <a:endParaRPr b="0" lang="en-US" sz="3600" spc="-1" strike="noStrike">
              <a:solidFill>
                <a:srgbClr val="083869"/>
              </a:solidFill>
              <a:latin typeface="Albertus M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75672" b="0"/>
          <a:stretch/>
        </p:blipFill>
        <p:spPr>
          <a:xfrm>
            <a:off x="228600" y="1981080"/>
            <a:ext cx="190512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0" y="2940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sting &amp; Certificati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5812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UOCAVA Roadma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Background Info</a:t>
            </a:r>
            <a:endParaRPr b="0" lang="en-US" sz="36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spcBef>
                <a:spcPts val="700"/>
              </a:spcBef>
              <a:buClr>
                <a:srgbClr val="083869"/>
              </a:buClr>
              <a:buFont typeface="Albertu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869"/>
                </a:solidFill>
                <a:latin typeface="Albertus MT"/>
              </a:rPr>
              <a:t>UOCAVA Roadmap created to meet the requirements of Section 589(e)(2) of the National Defense Authorization Act of 2009.</a:t>
            </a:r>
            <a:endParaRPr b="0" lang="en-US" sz="28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spcBef>
                <a:spcPts val="700"/>
              </a:spcBef>
              <a:buClr>
                <a:srgbClr val="083869"/>
              </a:buClr>
              <a:buFont typeface="Albertu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869"/>
                </a:solidFill>
                <a:latin typeface="Albertus MT"/>
              </a:rPr>
              <a:t>EAC must report to Congress within one hundred eighty days of enactment of the act if “…EAC has not established electronic absentee voting guidelines” within that timeframe.</a:t>
            </a:r>
            <a:endParaRPr b="0" lang="en-US" sz="2800" spc="-1" strike="noStrike">
              <a:solidFill>
                <a:srgbClr val="083869"/>
              </a:solidFill>
              <a:latin typeface="Albertu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oals of the UOCAVA Roadmap</a:t>
            </a: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8386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869"/>
                </a:solidFill>
                <a:latin typeface="Cambria"/>
              </a:rPr>
              <a:t>Provide a detailed timeframe for the development of a full set of testable requirements for an absentee remote electronic voting system.</a:t>
            </a:r>
            <a:endParaRPr b="0" lang="en-US" sz="24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8386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869"/>
                </a:solidFill>
                <a:latin typeface="Cambria"/>
              </a:rPr>
              <a:t>Collaborative effort between EAC, NIST, and FVAP.</a:t>
            </a:r>
            <a:endParaRPr b="0" lang="en-US" sz="24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8386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869"/>
                </a:solidFill>
                <a:latin typeface="Cambria"/>
              </a:rPr>
              <a:t>Capture the work already done in this area</a:t>
            </a:r>
            <a:endParaRPr b="0" lang="en-US" sz="24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8386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869"/>
                </a:solidFill>
                <a:latin typeface="Cambria"/>
              </a:rPr>
              <a:t>Capture the iterative process for the development of the full set of requirements.</a:t>
            </a:r>
            <a:endParaRPr b="0" lang="en-US" sz="24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8386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869"/>
                </a:solidFill>
                <a:latin typeface="Cambria"/>
              </a:rPr>
              <a:t>Set decision points that impact the time and scope of development of requirements.</a:t>
            </a:r>
            <a:endParaRPr b="0" lang="en-US" sz="2400" spc="-1" strike="noStrike">
              <a:solidFill>
                <a:srgbClr val="083869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T Lt"/>
              </a:rPr>
              <a:t>UOCAVA Timeline</a:t>
            </a: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30:04Z</dcterms:created>
  <dc:creator>JoshuaMFranklin</dc:creator>
  <dc:description/>
  <dc:language>en-US</dc:language>
  <cp:lastModifiedBy>MatthewMasterson</cp:lastModifiedBy>
  <dcterms:modified xsi:type="dcterms:W3CDTF">2010-07-07T16:23:14Z</dcterms:modified>
  <cp:revision>109</cp:revision>
  <dc:subject/>
  <dc:title>Slide 1</dc:title>
</cp:coreProperties>
</file>