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3F5D-C1F7-4B90-B988-C53EEEE86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2FCE-FC2E-47CA-906C-EB90926E6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04840" y="696960"/>
            <a:ext cx="4648320" cy="3486240"/>
          </a:xfrm>
          <a:prstGeom prst="rect">
            <a:avLst/>
          </a:prstGeom>
          <a:ln w="0">
            <a:noFill/>
          </a:ln>
        </p:spPr>
      </p:sp>
      <p:sp>
        <p:nvSpPr>
          <p:cNvPr id="84"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D21D2-6D8E-41C4-AB4D-6852CD3FA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431D1CA-67E3-417E-A394-98E3FB4AC5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4CB081F-1DE6-4E23-89B8-668BBF09F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E1D3AE3-A57A-4BBC-B4C3-272CE3C34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B8B0E98-993A-4254-A79C-3B388D09CE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45D31DC-BBE4-428D-819A-B03A7FBDC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7252955-F7BB-41C0-9C12-9D648BBBC1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E9B4488-08AF-463D-B689-AD45CAE2B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92C9F77-B344-4E6F-ADC7-603BA5689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99D3427-B1C8-47EA-BA70-C2FE661CF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E000B43-7A51-4F1C-B6EB-1DD2B76EC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E6D5DFB-4974-487B-B2AD-D15987FD10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8D0A4BC0-4393-4889-BB0D-6A927EA5CC76}"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f the UOCAVA Working Group</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Wack</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4190F14C-D18D-43EC-AC14-E2CFBECF3294}"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over the next year</a:t>
            </a:r>
            <a:endParaRPr b="0" lang="en-US" sz="3600" spc="-1" strike="noStrike">
              <a:solidFill>
                <a:srgbClr val="333399"/>
              </a:solidFill>
              <a:latin typeface="Tahoma"/>
            </a:endParaRPr>
          </a:p>
        </p:txBody>
      </p:sp>
      <p:sp>
        <p:nvSpPr>
          <p:cNvPr id="78"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practices guide is important for 2012 elections; lessons learned from 2010 elections will be incorporat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s to address the high-level guidelines and risk mgmt discussed over next two day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F work being coordinated with IEEE, plans to coordinate with FVAP with regard to electronic ballot distribu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782506A7-3B84-4130-B30C-655D6CEEA3BF}"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609480" y="205704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OCAVA-related presentations to follow</a:t>
            </a:r>
            <a:endParaRPr b="0" lang="en-US" sz="3600" spc="-1" strike="noStrike">
              <a:solidFill>
                <a:srgbClr val="333399"/>
              </a:solidFill>
              <a:latin typeface="Tahoma"/>
            </a:endParaRPr>
          </a:p>
        </p:txBody>
      </p:sp>
      <p:sp>
        <p:nvSpPr>
          <p:cNvPr id="81" name="PlaceHolder 2"/>
          <p:cNvSpPr>
            <a:spLocks noGrp="1"/>
          </p:cNvSpPr>
          <p:nvPr>
            <p:ph/>
          </p:nvPr>
        </p:nvSpPr>
        <p:spPr>
          <a:xfrm>
            <a:off x="685440" y="28195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OCAVA Roadmap overview </a:t>
            </a:r>
            <a:r>
              <a:rPr b="0" lang="en-US" sz="2400" spc="-1" strike="noStrike">
                <a:solidFill>
                  <a:srgbClr val="000000"/>
                </a:solidFill>
                <a:latin typeface="Tahoma"/>
              </a:rPr>
              <a:t>– Matt Masterson, EA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urity Considerations for Remote Voting </a:t>
            </a:r>
            <a:r>
              <a:rPr b="0" lang="en-US" sz="2400" spc="-1" strike="noStrike">
                <a:solidFill>
                  <a:srgbClr val="000000"/>
                </a:solidFill>
                <a:latin typeface="Tahoma"/>
              </a:rPr>
              <a:t>– Andy Regenscheid, NI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ability and Accessibility Considerations for Remote Voting </a:t>
            </a:r>
            <a:r>
              <a:rPr b="0" lang="en-US" sz="2400" spc="-1" strike="noStrike">
                <a:solidFill>
                  <a:srgbClr val="000000"/>
                </a:solidFill>
                <a:latin typeface="Tahoma"/>
              </a:rPr>
              <a:t>– Sharon Laskowski, NI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osk pilot program requirements, testing and certification </a:t>
            </a:r>
            <a:r>
              <a:rPr b="0" lang="en-US" sz="2400" spc="-1" strike="noStrike">
                <a:solidFill>
                  <a:srgbClr val="000000"/>
                </a:solidFill>
                <a:latin typeface="Tahoma"/>
              </a:rPr>
              <a:t>– Brian Hancock, E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FD8B18E5-C407-450B-898F-9FEC8770888C}"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line</a:t>
            </a:r>
            <a:endParaRPr b="0" lang="en-US" sz="3600" spc="-1" strike="noStrike">
              <a:solidFill>
                <a:srgbClr val="333399"/>
              </a:solidFill>
              <a:latin typeface="Tahoma"/>
            </a:endParaRPr>
          </a:p>
        </p:txBody>
      </p:sp>
      <p:sp>
        <p:nvSpPr>
          <p:cNvPr id="54"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sentation</a:t>
            </a:r>
            <a:endParaRPr b="0" lang="en-US" sz="40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rge to the working group</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VE Act and EAC roadmap </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ns for the WG post this meet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1A653A52-220D-4C65-949A-F24B4F114B95}"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ge to the working group</a:t>
            </a:r>
            <a:endParaRPr b="0" lang="en-US" sz="4400" spc="-1" strike="noStrike">
              <a:solidFill>
                <a:srgbClr val="333399"/>
              </a:solidFill>
              <a:latin typeface="Tahoma"/>
            </a:endParaRPr>
          </a:p>
        </p:txBody>
      </p:sp>
      <p:sp>
        <p:nvSpPr>
          <p:cNvPr id="57" name="PlaceHolder 2"/>
          <p:cNvSpPr>
            <a:spLocks noGrp="1"/>
          </p:cNvSpPr>
          <p:nvPr>
            <p:ph/>
          </p:nvPr>
        </p:nvSpPr>
        <p:spPr>
          <a:xfrm>
            <a:off x="685440" y="2361960"/>
            <a:ext cx="7924680" cy="3809880"/>
          </a:xfrm>
          <a:prstGeom prst="rect">
            <a:avLst/>
          </a:prstGeom>
          <a:noFill/>
          <a:ln w="0">
            <a:noFill/>
          </a:ln>
        </p:spPr>
        <p:txBody>
          <a:bodyPr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broad sense, to arrive at testable guidelines for remote voting systems to serve the needs of overseas military and other overseas citizens</a:t>
            </a:r>
            <a:endParaRPr b="0" lang="en-US" sz="20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able guidelines for an approach involving personal computing devices may take years, but in the meantime there are a variety of intermediate steps and approaches to be discussed, analyzed, and specified</a:t>
            </a:r>
            <a:endParaRPr b="0" lang="en-US" sz="16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activities suggested:</a:t>
            </a:r>
            <a:endParaRPr b="0" lang="en-US" sz="20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ine guidelines developed for the EAC’s manned kiosk pilot certification program and assist in developing further guidelines for additional pilots</a:t>
            </a:r>
            <a:endParaRPr b="0" lang="en-US" sz="16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al with issues involving a common data format for use in UOCAVA remote voting systems, e.g., a blank ballot distribution system</a:t>
            </a:r>
            <a:endParaRPr b="0" lang="en-US" sz="16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cuss what can be accomplished with today's technology and where additional research should be directed</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734A2C2D-20E4-4A8B-AC84-3961834C6522}"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bined UOCAVA Resolution</a:t>
            </a:r>
            <a:endParaRPr b="0" lang="en-US" sz="2800" spc="-1" strike="noStrike">
              <a:solidFill>
                <a:srgbClr val="333399"/>
              </a:solidFill>
              <a:latin typeface="Tahoma"/>
            </a:endParaRPr>
          </a:p>
        </p:txBody>
      </p:sp>
      <p:sp>
        <p:nvSpPr>
          <p:cNvPr id="60"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GDC requests that NIST develop testable guidelines for UOCAVA.  NIST should consider identifying the maximum amount of accessibility, privacy, security, and usability possible within these guidelines, while still achieving the goals set forth by Congress regarding remote electronic voting.</a:t>
            </a:r>
            <a:r>
              <a:rPr b="0" i="1" lang="en-US" sz="1600" spc="-1" strike="noStrike">
                <a:solidFill>
                  <a:srgbClr val="000000"/>
                </a:solidFill>
                <a:latin typeface="Tahoma"/>
              </a:rPr>
              <a:t>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GDC requests that NIST address accessibility, privacy, security, and usability issues in all UOCAVA pilot projects as well as in investigative work pertaining to remote voting systems. These four issues must be addressed together from the beginning to avoid the need to retrofit capabilities later on. Specifically, the TGDC requests that NIST commission a short term (several months) research study, similar to the 2nd quarter expected release of the research document on "Security Considerations for Remote Electronic UOCAVA Voting," on Accessibility and Usability considerations for remote electronic UOCAVA voting.  This should be done in coordination with the TGDC’s Accessibility and Usability Research update to the VVSG 2.0.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C2770533-FC97-4143-8129-AC524CC36736}"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bined UOCAVA Resolution (cont)</a:t>
            </a:r>
            <a:endParaRPr b="0" lang="en-US" sz="2800" spc="-1" strike="noStrike">
              <a:solidFill>
                <a:srgbClr val="333399"/>
              </a:solidFill>
              <a:latin typeface="Tahoma"/>
            </a:endParaRPr>
          </a:p>
        </p:txBody>
      </p:sp>
      <p:sp>
        <p:nvSpPr>
          <p:cNvPr id="63"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addition, NIST should develop a framework for UOCAVA that considers the following:</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ccessibility, privacy, security, and usability objectives for remote electronic voting.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llect an inventory of existing and applicable standards on accessibility, privacy, security, and usability.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perceived accessibility, privacy, security, and usability issues that can or cannot be solved with existing technology.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issues that can or cannot be solved between conflicting accessibility, privacy, security, and usability requirements (e.g., voting on paper ballots while accommodating voters with limited dexterity/hand use).</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trends and outlooks regarding when possible technologies may improve or solve accessibility, privacy, security, or usability issues.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trends and outlooks regarding when future main stream technologies may be employed in remote electronic voting that will need new accessibility, privacy, security, and usability requirements and standards.</a:t>
            </a:r>
            <a:endParaRPr b="0" lang="en-US" sz="1400" spc="-1" strike="noStrike">
              <a:solidFill>
                <a:srgbClr val="000000"/>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addition, the TGDC requests that any guidelines developed</a:t>
            </a:r>
            <a:r>
              <a:rPr b="0" i="1" lang="en-US" sz="1400" spc="-1" strike="noStrike">
                <a:solidFill>
                  <a:srgbClr val="000000"/>
                </a:solidFill>
                <a:latin typeface="Tahoma"/>
              </a:rPr>
              <a:t> </a:t>
            </a:r>
            <a:r>
              <a:rPr b="0" lang="en-US" sz="1400" spc="-1" strike="noStrike">
                <a:solidFill>
                  <a:srgbClr val="000000"/>
                </a:solidFill>
                <a:latin typeface="Tahoma"/>
              </a:rPr>
              <a:t>by NIST regarding assisting election officials in providing print ballots to overseas and military voters include accessibility standards for the file format of those ballo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F7697034-310D-4130-89B3-44D6A072A5F2}"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EAC Roadmap</a:t>
            </a:r>
            <a:endParaRPr b="0" lang="en-US" sz="3600" spc="-1" strike="noStrike">
              <a:solidFill>
                <a:srgbClr val="333399"/>
              </a:solidFill>
              <a:latin typeface="Tahoma"/>
            </a:endParaRPr>
          </a:p>
        </p:txBody>
      </p:sp>
      <p:sp>
        <p:nvSpPr>
          <p:cNvPr id="66"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sponse to the MOVE Ac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 and NIST to provide “best practices or standards in accordance with electronic absentee voting guideli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not possible to supply these within 180 days of enactment, then a “detailed timeline for the establishment of such guidelin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map lays out a series of steps and deliverables, including pilots, with ultimate goal of testable requirements for voting systems to serve UOCAVA voting pop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5F33435-D467-4FB4-AD8B-93C6911C6183}"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oadmap elements</a:t>
            </a:r>
            <a:endParaRPr b="0" lang="en-US" sz="3600" spc="-1" strike="noStrike">
              <a:solidFill>
                <a:srgbClr val="333399"/>
              </a:solidFill>
              <a:latin typeface="Tahoma"/>
            </a:endParaRPr>
          </a:p>
        </p:txBody>
      </p:sp>
      <p:sp>
        <p:nvSpPr>
          <p:cNvPr id="69"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research and guidance </a:t>
            </a:r>
            <a:r>
              <a:rPr b="0" lang="en-US" sz="2400" spc="-1" strike="noStrike">
                <a:solidFill>
                  <a:srgbClr val="000000"/>
                </a:solidFill>
                <a:latin typeface="Tahoma"/>
              </a:rPr>
              <a:t>- technical information regarding challenges and potential solu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ectronic blank ballot delivery projects </a:t>
            </a:r>
            <a:r>
              <a:rPr b="0" lang="en-US" sz="2400" spc="-1" strike="noStrike">
                <a:solidFill>
                  <a:srgbClr val="000000"/>
                </a:solidFill>
                <a:latin typeface="Tahoma"/>
              </a:rPr>
              <a:t>– can be implemented no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osk pilot project </a:t>
            </a:r>
            <a:r>
              <a:rPr b="0" lang="en-US" sz="2400" spc="-1" strike="noStrike">
                <a:solidFill>
                  <a:srgbClr val="000000"/>
                </a:solidFill>
                <a:latin typeface="Tahoma"/>
              </a:rPr>
              <a:t>– will provide valuable lessons learn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hased, iterative approach for successive pilot pro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ment of final guideli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24C580BA-87BD-4536-9E37-80136BE8D486}"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arer-term TGDC items in Roadmap </a:t>
            </a:r>
            <a:endParaRPr b="0" lang="en-US" sz="3600" spc="-1" strike="noStrike">
              <a:solidFill>
                <a:srgbClr val="333399"/>
              </a:solidFill>
              <a:latin typeface="Tahoma"/>
            </a:endParaRPr>
          </a:p>
        </p:txBody>
      </p:sp>
      <p:sp>
        <p:nvSpPr>
          <p:cNvPr id="72" name="PlaceHolder 2"/>
          <p:cNvSpPr>
            <a:spLocks noGrp="1"/>
          </p:cNvSpPr>
          <p:nvPr>
            <p:ph/>
          </p:nvPr>
        </p:nvSpPr>
        <p:spPr>
          <a:xfrm>
            <a:off x="685440" y="2209680"/>
            <a:ext cx="7924680" cy="4114800"/>
          </a:xfrm>
          <a:prstGeom prst="rect">
            <a:avLst/>
          </a:prstGeom>
          <a:noFill/>
          <a:ln w="0">
            <a:noFill/>
          </a:ln>
        </p:spPr>
        <p:txBody>
          <a:bodyPr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ember 2010 </a:t>
            </a:r>
            <a:r>
              <a:rPr b="0" lang="en-US" sz="2000" spc="-1" strike="noStrike">
                <a:solidFill>
                  <a:srgbClr val="000000"/>
                </a:solidFill>
                <a:latin typeface="Tahoma"/>
              </a:rPr>
              <a:t>- EAC UOCAVA Best Practices: EAC and the TGDC, with technical support from NIST, will update their existing document on </a:t>
            </a:r>
            <a:r>
              <a:rPr b="1" i="1" lang="en-US" sz="2000" spc="-1" strike="noStrike">
                <a:solidFill>
                  <a:srgbClr val="000000"/>
                </a:solidFill>
                <a:latin typeface="Tahoma"/>
              </a:rPr>
              <a:t>UOCAVA best practices </a:t>
            </a:r>
            <a:r>
              <a:rPr b="0" lang="en-US" sz="2000" spc="-1" strike="noStrike">
                <a:solidFill>
                  <a:srgbClr val="000000"/>
                </a:solidFill>
                <a:latin typeface="Tahoma"/>
              </a:rPr>
              <a:t>for election jurisdictions to use in their efforts to better serve UOCAVA voter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ring 2011 </a:t>
            </a:r>
            <a:r>
              <a:rPr b="0" lang="en-US" sz="2000" spc="-1" strike="noStrike">
                <a:solidFill>
                  <a:srgbClr val="000000"/>
                </a:solidFill>
                <a:latin typeface="Tahoma"/>
              </a:rPr>
              <a:t>- High-Level Guidelines: EAC and the TGDC, with technical support from NIST, and input from FVAP, will identify </a:t>
            </a:r>
            <a:r>
              <a:rPr b="1" i="1" lang="en-US" sz="2000" spc="-1" strike="noStrike">
                <a:solidFill>
                  <a:srgbClr val="000000"/>
                </a:solidFill>
                <a:latin typeface="Tahoma"/>
              </a:rPr>
              <a:t>high-level, non-testable guidelines for remote electronic absentee voting systems</a:t>
            </a:r>
            <a:r>
              <a:rPr b="0" lang="en-US" sz="2000" spc="-1" strike="noStrike">
                <a:solidFill>
                  <a:srgbClr val="000000"/>
                </a:solidFill>
                <a:latin typeface="Tahoma"/>
              </a:rPr>
              <a:t>. This effort will focus on the desirable characteristics of such systems and serve as a needs analysis for future pilots and research; and for the purposes of driving industry to implement solu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8789E8DB-1317-431A-9457-BAFBA38FA3D0}"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arer-term TGDC items in Roadmap </a:t>
            </a:r>
            <a:endParaRPr b="0" lang="en-US" sz="3600" spc="-1" strike="noStrike">
              <a:solidFill>
                <a:srgbClr val="333399"/>
              </a:solidFill>
              <a:latin typeface="Tahoma"/>
            </a:endParaRPr>
          </a:p>
        </p:txBody>
      </p:sp>
      <p:sp>
        <p:nvSpPr>
          <p:cNvPr id="75" name="PlaceHolder 2"/>
          <p:cNvSpPr>
            <a:spLocks noGrp="1"/>
          </p:cNvSpPr>
          <p:nvPr>
            <p:ph/>
          </p:nvPr>
        </p:nvSpPr>
        <p:spPr>
          <a:xfrm>
            <a:off x="685440" y="2209680"/>
            <a:ext cx="7924680" cy="4114800"/>
          </a:xfrm>
          <a:prstGeom prst="rect">
            <a:avLst/>
          </a:prstGeom>
          <a:noFill/>
          <a:ln w="0">
            <a:noFill/>
          </a:ln>
        </p:spPr>
        <p:txBody>
          <a:bodyPr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ring 2011 </a:t>
            </a:r>
            <a:r>
              <a:rPr b="0" lang="en-US" sz="1400" spc="-1" strike="noStrike">
                <a:solidFill>
                  <a:srgbClr val="000000"/>
                </a:solidFill>
                <a:latin typeface="Tahoma"/>
              </a:rPr>
              <a:t>- Risk Management: EAC will coordinate with its advisory boards (Board of Advisors, Standards Board, and Technical Guidelines Development Committee), and get technical input from NIST (coordinating with the Department of Defense and the National Intelligence Community, where possible), to </a:t>
            </a:r>
            <a:r>
              <a:rPr b="1" i="1" lang="en-US" sz="1400" spc="-1" strike="noStrike">
                <a:solidFill>
                  <a:srgbClr val="000000"/>
                </a:solidFill>
                <a:latin typeface="Tahoma"/>
              </a:rPr>
              <a:t>apply the NIST Risk Management Framework and other methods in identifying security controls and technologies to mitigate security concerns</a:t>
            </a:r>
            <a:r>
              <a:rPr b="0" lang="en-US" sz="1400" spc="-1" strike="noStrike">
                <a:solidFill>
                  <a:srgbClr val="000000"/>
                </a:solidFill>
                <a:latin typeface="Tahoma"/>
              </a:rPr>
              <a:t>. EAC will use this information to compare the current process UOCAVA voters use to vote with potential remote electronic absentee voting processes and assess the desired security protocols for both. This analysis will be used to guide future pilots and guidelines development.</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ll 2011 </a:t>
            </a:r>
            <a:r>
              <a:rPr b="0" lang="en-US" sz="1400" spc="-1" strike="noStrike">
                <a:solidFill>
                  <a:srgbClr val="000000"/>
                </a:solidFill>
                <a:latin typeface="Tahoma"/>
              </a:rPr>
              <a:t>- Common Data Format Development: For electronic transmission of blank ballots to be successful, they should be implemented in a manner that allows multiple states to participate. To assist in this the </a:t>
            </a:r>
            <a:r>
              <a:rPr b="1" i="1" lang="en-US" sz="1400" spc="-1" strike="noStrike">
                <a:solidFill>
                  <a:srgbClr val="000000"/>
                </a:solidFill>
                <a:latin typeface="Tahoma"/>
              </a:rPr>
              <a:t>TGDC, with technical support from NIST, will develop common data format specifications for ballots and ballot definition </a:t>
            </a:r>
            <a:r>
              <a:rPr b="0" lang="en-US" sz="1400" spc="-1" strike="noStrike">
                <a:solidFill>
                  <a:srgbClr val="000000"/>
                </a:solidFill>
                <a:latin typeface="Tahoma"/>
              </a:rPr>
              <a:t>that can be used by FVAP and the states. FVAP is also planning on assisting States in 2010 with data conversion services and tools to Common Data Formats.</a:t>
            </a: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26:37Z</dcterms:modified>
  <cp:revision>1511</cp:revision>
  <dc:subject>TGDC Meeting 12/9/09-12/10/09</dc:subject>
  <dc:title>NIST Research on UOCAVA Voting</dc:title>
</cp:coreProperties>
</file>