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F335-0AE6-494C-B71C-AF081C82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416-50F4-4A35-9218-E923615DA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A9B7-DCD4-49A1-BA1B-3F2B35D35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246A-890A-4632-B187-F39C8A5BA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AD44-B1D3-4E07-BF50-B0C9F3E45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5467-B0D6-407C-8643-B1D679EBD3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44D9-A8EF-409B-8D25-FE938CA6B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4C1B-E917-4B85-94E4-A0D38E4A0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BFA7-CC1A-4568-AEEF-EEB19891F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B686-CFB7-45C4-B16A-67E3F4679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CC96-5DF5-46A2-94A3-6AF190AFC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E361-38F4-4E3E-BC3C-1AF269FFC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E8A7-66AE-427E-B162-BBCCC774D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583D-975C-440F-B679-1A132060D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843278B-6FF8-403D-BA92-EE4BF7553011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714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NIST Activities and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GDC Meeting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tin Herman, P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7ABDA87-8F52-4153-91F4-C912EB7543E1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93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verview of NIST activities since December TGDC mee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ummary of today’s agend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GDC Working Groups Form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OC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bility and Usability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ginal Marks Benchmark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gnificant interactions and discussions have occurred thus f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DB15446-06B5-4355-AD48-A5407997D00F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Roadma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mitted by EAC to Congress to meet requirements of MOVE 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d jointly by EAC, NIST &amp; FV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goal is to develop testabl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s out tasks and milestones in a phased, iterative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8FB8CED-9BEC-4332-A8F3-91541611F693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 research documents on UOCA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ibility and usability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consid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best practices for electronic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system security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548F768-6241-402A-9DFD-F39DA7F1F84E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Activities (con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 kiosk remote voting pilot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workshop – Aug 6-7, 2010, Washington, D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onsors: EAC, FVAP, N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3155CCD-B341-4C68-9904-983BAC882FA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NIST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on standard ballot mark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-developed test suites for VVSG 1.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ng skills and qualifications in usability and accessibility for test lab contr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B69BA109-2FB2-4971-B8B7-4430212D06B1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Meeting 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OCAVA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by FVAP on 2010 election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OCAVA Road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research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 Kiosk pilot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Risk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 framework to make policy decisions dealing with security, auditability, and accessibility/usabil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D915A68C-2861-4B9E-BA7F-6BFD81436081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371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mmary of Meeting Agenda (cont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orts from each of the TGDC working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ging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VSG 1.1 revision st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-developed test su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ld-over resolutions from December TGDC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E23367D-3561-44B8-9DF8-EC8D8401F03B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5:36Z</dcterms:created>
  <dc:creator>Andrew Regenscheid</dc:creator>
  <dc:description/>
  <dc:language>en-US</dc:language>
  <cp:lastModifiedBy>John P. Wack</cp:lastModifiedBy>
  <dcterms:modified xsi:type="dcterms:W3CDTF">2010-07-07T12:55:59Z</dcterms:modified>
  <cp:revision>1581</cp:revision>
  <dc:subject>TGDC Meeting 12/9/09-12/10/09</dc:subject>
  <dc:title>NIST Research on UOCAVA Voting</dc:title>
</cp:coreProperties>
</file>