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EB01-8B8D-4AE7-ACDC-0F39F7352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B38F-2068-46AD-9A36-D75A1F2CB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D7E2-8B3A-4B82-9177-60B301D95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6D53-6F12-47BF-8588-CE98C86ED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47B7-1C4E-4925-9311-7C5D5D8B6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0531-C0B4-4C11-AE37-38BEFEB33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65DC-225B-4384-A582-46B0189A8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EF83-7CF2-4E61-BD3A-E81B3A35B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557A-1068-46C1-9515-8CED502E2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7F9F-ABB1-4883-A550-A3A7CFA1A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3468-D369-49A5-A7BF-5DDDF9587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71CD-5CE0-4C48-BB58-F5CE2798F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7DC2-9272-4A91-9B00-B85B56768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1028-B0ED-4B1B-AE4B-FCE805974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DFA3BC91-C5BC-4A1A-A07F-F93EA04A075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7148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NIST Activities an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GDC Meeting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41148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tin Herman, P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42592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92AB009-E04D-4AE0-AD32-6654EA572A8B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verview of NIST activities since December TGDC meet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 of today’s agend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GDC Working Groups Form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OC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ibility and Usability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ginal Marks Benchmark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ificant interactions and discussions have occurred thus f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714DC94-1CCC-4E86-9F67-3F8CA369F16E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T UOCAVA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OCAVA Roadma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mitted by EAC to Congress to meet requirements of MOVE 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d jointly by EAC, NIST &amp; FV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 goal is to develop testabl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s out tasks and milestones in a phased, iterative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09C4FFF-6AB5-46FC-9D4E-78B1E7CB246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T UOCAVA Activities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T research documents on UOC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ibility and usability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best practices for electronic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system security best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D3E64255-D108-4B69-9862-AE2E760A64F7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T UOCAVA Activities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 kiosk remote voting pilot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OCAVA workshop – Aug 6-7, 2010, Washington, D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onsors: EAC, FVAP, N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AA924A4-9C36-4ECC-94CC-73DCE568A8EC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NIST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on standard ballot mark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T-developed test suites for VVSG 1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ng skills and qualifications in usability and accessibility for test lab contr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EBABA74-A6E7-4586-8D40-F72940B3ADAF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Meeting 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OCAVA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by FVAP on 2010 election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OCAVA Road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ST research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 Kiosk pilot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ST Risk Manageme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 framework to make policy decisions dealing with security, auditability, and accessibility/usabil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05B3A36-E44E-4E0C-A91F-663B0575B076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371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mmary of Meeting Agenda (con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rts from each of the TGDC working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ging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VSG 1.1 revision s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T-developed test su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-over resolutions from December TGDC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3DF8700-7ADC-4637-92D6-CF4DD588EFB3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3:55:36Z</dcterms:created>
  <dc:creator>Andrew Regenscheid</dc:creator>
  <dc:description/>
  <dc:language>en-US</dc:language>
  <cp:lastModifiedBy>John P. Wack</cp:lastModifiedBy>
  <dcterms:modified xsi:type="dcterms:W3CDTF">2010-07-07T12:55:59Z</dcterms:modified>
  <cp:revision>1581</cp:revision>
  <dc:subject>TGDC Meeting 12/9/09-12/10/09</dc:subject>
  <dc:title>NIST Research on UOCAVA Voting</dc:title>
</cp:coreProperties>
</file>