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1040" y="387360"/>
            <a:ext cx="8597880" cy="6083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83520" y="6524640"/>
            <a:ext cx="96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fld id="{B40B5073-990C-4C2C-8E10-0FB3423453AF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have a large reservoir of engineers (and scientists) with a vast background of engineering know-how.  They need to learn statistical methods that can tap into the knowledge. 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Statistics used as a catalyst to engineering cre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ill, I believe, always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result in the fastest and most economical progres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57800" y="57150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orge Box, 19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ification of Fac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 Factors–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sign facto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at are to be set at optimal levels to improve quality and reduce sensitivity to noi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mensions of parts, type of material, et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Factors–Factors that represent the noise that is expected in production or in u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mensional vari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rating Temperatur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ustment Factor – Affects the mean but not the variance of a respon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osition time in silicon wafer fabric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gnal Factors – Set by the user to communicate desires of the us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sition of the gas ped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uchi’s Contrib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reening Design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guchi Desig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468600" y="1963800"/>
            <a:ext cx="2207520" cy="3141360"/>
            <a:chOff x="3468600" y="1963800"/>
            <a:chExt cx="2207520" cy="3141360"/>
          </a:xfrm>
        </p:grpSpPr>
        <p:grpSp>
          <p:nvGrpSpPr>
            <p:cNvPr id="82" name=""/>
            <p:cNvGrpSpPr/>
            <p:nvPr/>
          </p:nvGrpSpPr>
          <p:grpSpPr>
            <a:xfrm>
              <a:off x="3504600" y="1978200"/>
              <a:ext cx="2171520" cy="3126960"/>
              <a:chOff x="3504600" y="1978200"/>
              <a:chExt cx="2171520" cy="3126960"/>
            </a:xfrm>
          </p:grpSpPr>
          <p:sp>
            <p:nvSpPr>
              <p:cNvPr id="83" name=""/>
              <p:cNvSpPr/>
              <p:nvPr/>
            </p:nvSpPr>
            <p:spPr>
              <a:xfrm>
                <a:off x="3504600" y="197820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590360" y="1978200"/>
                <a:ext cx="1085760" cy="10422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04600" y="302040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504600" y="406296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590360" y="3020400"/>
                <a:ext cx="1085760" cy="1042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468600" y="1963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4292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97760" y="29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7400" y="298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7760" y="4020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64920" y="5299200"/>
            <a:ext cx="78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Many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st of Important Factors, Best Settings, Goo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ernative Not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6040" y="2514600"/>
          <a:ext cx="78501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2514600"/>
                    <a:ext cx="78501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752480" y="2743200"/>
            <a:ext cx="1676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2743200"/>
            <a:ext cx="1676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61960" y="2674800"/>
            <a:ext cx="192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7800" y="2666880"/>
            <a:ext cx="192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2209680"/>
          <a:ext cx="7239240" cy="27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23924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ear Graphs for 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r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819520"/>
            <a:ext cx="1219320" cy="1066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2767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7080" y="2286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268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56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148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428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708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06400" y="2743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81952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80988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3809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133720"/>
            <a:ext cx="35053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9600" y="2286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0" y="3886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608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64000" y="4038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6800" y="304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9600" y="4191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819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809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3809880"/>
            <a:ext cx="1522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133720"/>
            <a:ext cx="350532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0960" y="2895480"/>
            <a:ext cx="6094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2895480"/>
            <a:ext cx="6094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895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696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720" y="5105520"/>
            <a:ext cx="768744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effects are assigned to columns at nodes in the p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s are assigned to the columns on the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thogonal Desig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0200" y="2362320"/>
            <a:ext cx="442728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000" y="2362320"/>
            <a:ext cx="4427280" cy="281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29280" y="1676520"/>
            <a:ext cx="15724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sic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-level Factori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45840" y="16765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uch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32480" y="2936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6076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79840" y="3886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06880" y="3048120"/>
            <a:ext cx="5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5960" y="4114800"/>
            <a:ext cx="5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868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64040" y="289548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64040" y="3505320"/>
            <a:ext cx="101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31560" y="3962520"/>
            <a:ext cx="12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-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0880" y="44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28280" y="27432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3280" y="335268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10640" y="396252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416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ntgomery (1997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ign and Analysis of Experi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P. 63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Designs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7960" y="4203720"/>
            <a:ext cx="279936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8240" rIns="138240" tIns="69840" bIns="69840" anchor="t">
            <a:spAutoFit/>
          </a:bodyPr>
          <a:p>
            <a:pPr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Number of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29200" y="3352680"/>
                <a:ext cx="163044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3526560" y="4724280"/>
            <a:ext cx="333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Levels p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60800" y="2362320"/>
            <a:ext cx="224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ber of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819520"/>
            <a:ext cx="387360" cy="63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38680" y="4114800"/>
            <a:ext cx="387360" cy="66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952880" y="419076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Orthogonal Array Tab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level (fractional factorial)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6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-level array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(Plackett-Burman Desig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-level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-level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.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6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level arra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xed-level array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, 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4960" y="2361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guchi Design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a list of Taguchi Design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PLO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4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8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9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12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16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GINDEX.DA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nts on Taguchi Design Selection Metho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s most interactions are small and those that aren’t are known ahead of time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 claims that it is possible to eliminate these interactions either by correctly specifying the response and design factors or by using a sliding setting approach to those factor level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n’t guarantee that we get highest resolution desig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ead of designing the experiment to investigate potential interactions, Taguchi prefers to use three-level factors to estimate curv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uchi’s Contrib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uchi uses signal to noise ratios as response variabl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often more informative to analyze mean and standard deviation separately (sd), rather than combine into a signal to noise rati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ze sd in the same manner that we have previously analyzed the mean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uchi analysis techniques are often inefficient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971800" y="2514600"/>
          <a:ext cx="23623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362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should support Taguchi’s philosophy of quality engineering.  However, we must rely on simpler, more efficient methods that are easier to learn and apply to carry this philosophy into practice…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 can use the techniques presented thus far in class to analyz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Desig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Screening Designs..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</a:rPr>
              <a:t>See </a:t>
            </a:r>
            <a:r>
              <a:rPr b="1" lang="en-US" sz="3200" spc="-1" strike="noStrike">
                <a:solidFill>
                  <a:srgbClr val="c5777e"/>
                </a:solidFill>
                <a:latin typeface="Brush Script MT"/>
              </a:rPr>
              <a:t>Pink</a:t>
            </a:r>
            <a:r>
              <a:rPr b="1" lang="en-US" sz="3200" spc="-1" strike="noStrike">
                <a:solidFill>
                  <a:srgbClr val="000000"/>
                </a:solidFill>
                <a:latin typeface="Brush Script MT"/>
              </a:rPr>
              <a:t> Hand-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895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u and Hamada (2000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erimen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ndices 6C, 6D, 7A, and 7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ichi Taguch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ngineer who has developed an approach (Taguchi Methods) involving statistical planned experiments to reduce vari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’s: applied his approach in Jap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80’s: introduced his ideas to 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(in Japan and US) consider DEX and Taguchi Methods synonyms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aguchi’s Contribution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olog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uchi focuses mostly on Off-Line Quality Contro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3400" y="2513160"/>
            <a:ext cx="85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Line Quality Control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ing Quality and Reducing Total Cost in the Design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5320" y="4284720"/>
            <a:ext cx="791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Cost means cost to society so it includes the co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manufacturing and the cost of problem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814068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Quadratic Loss Function and the Typically Assumed Loss Func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48000" y="2368440"/>
            <a:ext cx="0" cy="269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8040" y="5086440"/>
            <a:ext cx="503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33480" y="-1250640"/>
            <a:ext cx="6186240" cy="6311160"/>
            <a:chOff x="933480" y="-1250640"/>
            <a:chExt cx="6186240" cy="6311160"/>
          </a:xfrm>
        </p:grpSpPr>
        <p:sp>
          <p:nvSpPr>
            <p:cNvPr id="55" name=""/>
            <p:cNvSpPr/>
            <p:nvPr/>
          </p:nvSpPr>
          <p:spPr>
            <a:xfrm>
              <a:off x="1379520" y="-1250640"/>
              <a:ext cx="5740200" cy="631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33480" y="1695600"/>
              <a:ext cx="1162080" cy="16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396800" y="-1250640"/>
            <a:ext cx="6185160" cy="6311160"/>
            <a:chOff x="1396800" y="-1250640"/>
            <a:chExt cx="6185160" cy="6311160"/>
          </a:xfrm>
        </p:grpSpPr>
        <p:sp>
          <p:nvSpPr>
            <p:cNvPr id="58" name=""/>
            <p:cNvSpPr/>
            <p:nvPr/>
          </p:nvSpPr>
          <p:spPr>
            <a:xfrm>
              <a:off x="1396800" y="-1250640"/>
              <a:ext cx="5740200" cy="631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19880" y="1695600"/>
              <a:ext cx="1162080" cy="169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3775680" y="5199120"/>
            <a:ext cx="106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75040" y="5218200"/>
            <a:ext cx="122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6880" y="5199120"/>
            <a:ext cx="119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71840" y="499752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39000" y="49784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71840" y="3987360"/>
            <a:ext cx="0" cy="1111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36840" y="4000680"/>
            <a:ext cx="1022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39000" y="4032360"/>
            <a:ext cx="0" cy="106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51600" y="4000680"/>
            <a:ext cx="121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67520" y="21891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sign Process is Divid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oose the sub-systems, mechanisms, form of the prototyp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eter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mize the design,  set up the design so that it improves quality and reduces co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lerance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udy the tradeoffs that must be made and determine what tolerances and grades of materials are necessar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guchi’s Contribu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Engineering Philosoph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olog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Desig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ameter Design (Robust Desig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ize the settings of the design to minimize its sensitivity to noise – ROBUSTNE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guchi really opened a whole area that previously had been talked about only by a few very applied peop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 methodology is heavily dependent on design of experiments, but he wanted to look at not just the mean but also the varia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2T23:09:46Z</dcterms:created>
  <dc:creator/>
  <dc:description/>
  <dc:language>en-US</dc:language>
  <cp:lastModifiedBy>Kiamkia</cp:lastModifiedBy>
  <cp:lastPrinted>1998-03-04T15:47:10Z</cp:lastPrinted>
  <dcterms:modified xsi:type="dcterms:W3CDTF">2002-02-08T22:59:46Z</dcterms:modified>
  <cp:revision>56</cp:revision>
  <dc:subject/>
  <dc:title>Blocking Fractional Factorials and  Factors with More than 2 Levels</dc:title>
</cp:coreProperties>
</file>