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1040" y="387360"/>
            <a:ext cx="8597880" cy="6083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283880" y="6524640"/>
            <a:ext cx="1040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fld id="{2AC50B16-76C8-4B6C-AD41-3737D2D6195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94960" y="2361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timization Design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1280" y="304920"/>
            <a:ext cx="8331480" cy="11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quential Assembly of Experimental Designs as Need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7040" y="4530600"/>
            <a:ext cx="2909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ctional Fac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56040" y="4340160"/>
            <a:ext cx="22964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 Facto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/Center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vature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67680" y="4435560"/>
            <a:ext cx="3604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al Composit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quadrat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38080" y="2133720"/>
            <a:ext cx="1447560" cy="1428120"/>
            <a:chOff x="838080" y="2133720"/>
            <a:chExt cx="1447560" cy="1428120"/>
          </a:xfrm>
        </p:grpSpPr>
        <p:sp>
          <p:nvSpPr>
            <p:cNvPr id="91" name=""/>
            <p:cNvSpPr/>
            <p:nvPr/>
          </p:nvSpPr>
          <p:spPr>
            <a:xfrm>
              <a:off x="1279800" y="2231280"/>
              <a:ext cx="914400" cy="9036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946440" y="3131640"/>
              <a:ext cx="330120" cy="32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939320" y="3131640"/>
              <a:ext cx="251280" cy="32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946440" y="2228760"/>
              <a:ext cx="330120" cy="24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939320" y="2228760"/>
              <a:ext cx="251280" cy="243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76840" y="2133720"/>
              <a:ext cx="208800" cy="2026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81880" y="3017880"/>
              <a:ext cx="202680" cy="20916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40200" y="2449080"/>
              <a:ext cx="9756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96120" y="3106800"/>
              <a:ext cx="10368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49320" y="2475000"/>
              <a:ext cx="993600" cy="988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8080" y="2377080"/>
              <a:ext cx="209880" cy="20880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31680" y="3354120"/>
              <a:ext cx="20880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715000" y="1600200"/>
            <a:ext cx="2514600" cy="2666880"/>
            <a:chOff x="5715000" y="1600200"/>
            <a:chExt cx="2514600" cy="2666880"/>
          </a:xfrm>
        </p:grpSpPr>
        <p:sp>
          <p:nvSpPr>
            <p:cNvPr id="104" name=""/>
            <p:cNvSpPr/>
            <p:nvPr/>
          </p:nvSpPr>
          <p:spPr>
            <a:xfrm>
              <a:off x="6613560" y="2232000"/>
              <a:ext cx="914400" cy="903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281280" y="3132000"/>
              <a:ext cx="330120" cy="32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273440" y="3132000"/>
              <a:ext cx="250920" cy="32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281280" y="2228760"/>
              <a:ext cx="330120" cy="244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273440" y="2228760"/>
              <a:ext cx="250920" cy="244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0600" y="2133720"/>
              <a:ext cx="209520" cy="2030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16720" y="3017880"/>
              <a:ext cx="203040" cy="209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73960" y="2449440"/>
              <a:ext cx="9828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29520" y="3106800"/>
              <a:ext cx="10476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83440" y="2475000"/>
              <a:ext cx="993600" cy="988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72200" y="2378160"/>
              <a:ext cx="21096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5800" y="3354480"/>
              <a:ext cx="20988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77120" y="2133720"/>
              <a:ext cx="20952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3352680"/>
              <a:ext cx="209520" cy="2080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91520" y="3048120"/>
              <a:ext cx="20952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81680" y="2819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2819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6477120" y="2133720"/>
              <a:ext cx="76176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91320" y="281952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4320" y="167652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0" y="1600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62920" y="20574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0080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500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0" y="411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77320" y="2743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62920" y="2362320"/>
              <a:ext cx="209520" cy="2030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276720" y="2133720"/>
            <a:ext cx="1447560" cy="1428480"/>
            <a:chOff x="3276720" y="2133720"/>
            <a:chExt cx="1447560" cy="1428480"/>
          </a:xfrm>
        </p:grpSpPr>
        <p:sp>
          <p:nvSpPr>
            <p:cNvPr id="133" name=""/>
            <p:cNvSpPr/>
            <p:nvPr/>
          </p:nvSpPr>
          <p:spPr>
            <a:xfrm>
              <a:off x="3718080" y="2232000"/>
              <a:ext cx="914400" cy="9032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85800" y="3132000"/>
              <a:ext cx="330120" cy="32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377960" y="3132000"/>
              <a:ext cx="250920" cy="32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85800" y="2228760"/>
              <a:ext cx="330120" cy="244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377960" y="2228760"/>
              <a:ext cx="250920" cy="244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14760" y="2133720"/>
              <a:ext cx="209520" cy="2030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21240" y="3017880"/>
              <a:ext cx="203040" cy="2095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78120" y="2449440"/>
              <a:ext cx="9864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34040" y="3106800"/>
              <a:ext cx="10476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87600" y="2475000"/>
              <a:ext cx="993960" cy="9889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76720" y="2378160"/>
              <a:ext cx="21096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70320" y="3354480"/>
              <a:ext cx="20952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62520" y="2666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81280" y="2133720"/>
              <a:ext cx="20952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6720" y="3352680"/>
              <a:ext cx="209520" cy="2080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95680" y="3048120"/>
              <a:ext cx="209520" cy="207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86200" y="2819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8480" y="28195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67080" y="2362320"/>
              <a:ext cx="209520" cy="2030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3960" y="952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Improving Yield of a Chemical Proces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3640" y="6148440"/>
            <a:ext cx="137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22440" y="3024360"/>
          <a:ext cx="789912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3024360"/>
                    <a:ext cx="78991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5527800" y="2612880"/>
            <a:ext cx="1267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29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33480" y="2444400"/>
            <a:ext cx="5453280" cy="187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t a first order mod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a curvature check to determine next step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463320"/>
            <a:ext cx="9131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 a 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actorial Desig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th Center Poi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69000" y="1563840"/>
            <a:ext cx="2345400" cy="45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63800" y="220500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63800" y="593892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63800" y="1595520"/>
            <a:ext cx="311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79360"/>
            <a:ext cx="84074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ot the Dat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84640" y="2019240"/>
            <a:ext cx="2894040" cy="239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11800" y="2638440"/>
            <a:ext cx="29196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11800" y="359100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65480" y="3570120"/>
            <a:ext cx="292320" cy="1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65480" y="2619360"/>
            <a:ext cx="2923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2800" y="2927520"/>
            <a:ext cx="291960" cy="59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92040" y="4527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73200" y="4527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14680" y="3948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14680" y="19908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14680" y="29703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310760" y="348912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09120" y="48830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3440" y="3440160"/>
            <a:ext cx="3654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3440" y="2962440"/>
            <a:ext cx="3654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86280" y="3605040"/>
            <a:ext cx="36360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3195720"/>
            <a:ext cx="3654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0880" y="2660760"/>
            <a:ext cx="3636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0880" y="3614760"/>
            <a:ext cx="3636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6280" y="2660760"/>
            <a:ext cx="3636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75760" y="2577960"/>
            <a:ext cx="53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4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15320" y="2577960"/>
            <a:ext cx="53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8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15320" y="3529080"/>
            <a:ext cx="53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77200" y="3527280"/>
            <a:ext cx="53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4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67240" y="2876400"/>
            <a:ext cx="654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4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2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35120" y="65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aling Equ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76160" y="2119320"/>
                <a:ext cx="939492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iginal Unit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verage of Original Unit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ange of Original Unit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92" name=""/>
          <p:cNvGraphicFramePr/>
          <p:nvPr/>
        </p:nvGraphicFramePr>
        <p:xfrm>
          <a:off x="4670280" y="4510080"/>
          <a:ext cx="405144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0280" y="4510080"/>
                    <a:ext cx="40514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782640" y="4410000"/>
          <a:ext cx="357516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410000"/>
                    <a:ext cx="35751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835200" y="1363680"/>
          <a:ext cx="743868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363680"/>
                    <a:ext cx="743868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571320"/>
            <a:ext cx="8902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ults From First Factorial Desi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vature Check by Intera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ere any large two factor interactions?  If not, then there is probably not significant curv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re are many large interaction effects then we should not follow a path of steepest ascent because there is curva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200" y="4662360"/>
            <a:ext cx="7439040" cy="87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e,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4.7,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em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9.0, and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ime*tem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-1.3, so the main effects are larger and thus there is little curv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4080" y="585360"/>
            <a:ext cx="7629480" cy="67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vature Check with Center Poi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7800" y="1290240"/>
            <a:ext cx="7162560" cy="190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re the average of the factorial points,    , with the average of the center points,      .  If they are close then there is probably no curvatur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0640" y="3222720"/>
            <a:ext cx="2362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stical Tes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214280" y="4910040"/>
                <a:ext cx="43578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972480" y="1314360"/>
                <a:ext cx="9522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095880" y="1657440"/>
                <a:ext cx="7686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000240" y="3309840"/>
                <a:ext cx="5843880" cy="17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#of points in factorial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#of points in center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tandard deviation of points in cente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4734000" y="4805280"/>
            <a:ext cx="38908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zero is in the confidence interval then there is no evidence of curv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24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vature Check with Center Poi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428920" y="2409840"/>
                <a:ext cx="43578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3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557520" y="3681360"/>
                <a:ext cx="43578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±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598840" y="4722840"/>
            <a:ext cx="379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Evidence of Curvatur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49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timization Desig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468960" y="1677960"/>
            <a:ext cx="2207880" cy="3141720"/>
            <a:chOff x="3468960" y="1677960"/>
            <a:chExt cx="2207880" cy="3141720"/>
          </a:xfrm>
        </p:grpSpPr>
        <p:grpSp>
          <p:nvGrpSpPr>
            <p:cNvPr id="43" name=""/>
            <p:cNvGrpSpPr/>
            <p:nvPr/>
          </p:nvGrpSpPr>
          <p:grpSpPr>
            <a:xfrm>
              <a:off x="3505320" y="1692360"/>
              <a:ext cx="2171520" cy="3127320"/>
              <a:chOff x="3505320" y="1692360"/>
              <a:chExt cx="2171520" cy="3127320"/>
            </a:xfrm>
          </p:grpSpPr>
          <p:sp>
            <p:nvSpPr>
              <p:cNvPr id="44" name=""/>
              <p:cNvSpPr/>
              <p:nvPr/>
            </p:nvSpPr>
            <p:spPr>
              <a:xfrm>
                <a:off x="3505320" y="1692360"/>
                <a:ext cx="1085760" cy="1042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91080" y="1692360"/>
                <a:ext cx="1085760" cy="1042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505320" y="2735280"/>
                <a:ext cx="1085760" cy="104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505320" y="3776400"/>
                <a:ext cx="1085760" cy="1043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591080" y="2735280"/>
                <a:ext cx="1085760" cy="104112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3468960" y="1677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43640" y="167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97400" y="2698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7400" y="2698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7400" y="3735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71760" y="4854600"/>
            <a:ext cx="453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c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A Few Continuous Fac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est Set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ox, Hunter &amp; Hu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pter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94640" y="833400"/>
            <a:ext cx="6332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t the First Order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895400" y="2941560"/>
            <a:ext cx="714528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5240" y="1244520"/>
            <a:ext cx="8966160" cy="101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th of Steepest Ascent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ve 4.50 Units 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o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ery 2.35 Units 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19360" y="3174840"/>
            <a:ext cx="440604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ivalently, for e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unit i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w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 4.50/2.35=1.91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its i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42080" y="3206880"/>
            <a:ext cx="2705040" cy="2603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335640" y="3244680"/>
            <a:ext cx="87480" cy="2148120"/>
            <a:chOff x="6335640" y="3244680"/>
            <a:chExt cx="87480" cy="2148120"/>
          </a:xfrm>
        </p:grpSpPr>
        <p:sp>
          <p:nvSpPr>
            <p:cNvPr id="220" name=""/>
            <p:cNvSpPr/>
            <p:nvPr/>
          </p:nvSpPr>
          <p:spPr>
            <a:xfrm>
              <a:off x="6335640" y="3244680"/>
              <a:ext cx="87480" cy="176400"/>
            </a:xfrm>
            <a:custGeom>
              <a:avLst/>
              <a:gdLst/>
              <a:ahLst/>
              <a:rect l="l" t="t" r="r" b="b"/>
              <a:pathLst>
                <a:path w="55" h="111">
                  <a:moveTo>
                    <a:pt x="23" y="0"/>
                  </a:moveTo>
                  <a:lnTo>
                    <a:pt x="55" y="111"/>
                  </a:lnTo>
                  <a:lnTo>
                    <a:pt x="23" y="111"/>
                  </a:lnTo>
                  <a:lnTo>
                    <a:pt x="0" y="11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72360" y="3421080"/>
              <a:ext cx="1440" cy="197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372360" y="5342040"/>
            <a:ext cx="2149200" cy="88920"/>
            <a:chOff x="6372360" y="5342040"/>
            <a:chExt cx="2149200" cy="88920"/>
          </a:xfrm>
        </p:grpSpPr>
        <p:sp>
          <p:nvSpPr>
            <p:cNvPr id="223" name=""/>
            <p:cNvSpPr/>
            <p:nvPr/>
          </p:nvSpPr>
          <p:spPr>
            <a:xfrm>
              <a:off x="8345520" y="5342040"/>
              <a:ext cx="176040" cy="88920"/>
            </a:xfrm>
            <a:custGeom>
              <a:avLst/>
              <a:gdLst/>
              <a:ahLst/>
              <a:rect l="l" t="t" r="r" b="b"/>
              <a:pathLst>
                <a:path w="111" h="56">
                  <a:moveTo>
                    <a:pt x="111" y="32"/>
                  </a:moveTo>
                  <a:lnTo>
                    <a:pt x="0" y="56"/>
                  </a:lnTo>
                  <a:lnTo>
                    <a:pt x="0" y="32"/>
                  </a:lnTo>
                  <a:lnTo>
                    <a:pt x="0" y="0"/>
                  </a:lnTo>
                  <a:lnTo>
                    <a:pt x="11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72360" y="5392800"/>
              <a:ext cx="1973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232760" y="3813120"/>
            <a:ext cx="1440" cy="157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72360" y="3813120"/>
            <a:ext cx="860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373800" y="3813120"/>
            <a:ext cx="858960" cy="1579680"/>
            <a:chOff x="6373800" y="3813120"/>
            <a:chExt cx="858960" cy="1579680"/>
          </a:xfrm>
        </p:grpSpPr>
        <p:sp>
          <p:nvSpPr>
            <p:cNvPr id="228" name=""/>
            <p:cNvSpPr/>
            <p:nvPr/>
          </p:nvSpPr>
          <p:spPr>
            <a:xfrm>
              <a:off x="7105680" y="3813120"/>
              <a:ext cx="127080" cy="177840"/>
            </a:xfrm>
            <a:custGeom>
              <a:avLst/>
              <a:gdLst/>
              <a:ahLst/>
              <a:rect l="l" t="t" r="r" b="b"/>
              <a:pathLst>
                <a:path w="80" h="112">
                  <a:moveTo>
                    <a:pt x="80" y="0"/>
                  </a:moveTo>
                  <a:lnTo>
                    <a:pt x="48" y="112"/>
                  </a:lnTo>
                  <a:lnTo>
                    <a:pt x="24" y="96"/>
                  </a:lnTo>
                  <a:lnTo>
                    <a:pt x="0" y="8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6373800" y="3967200"/>
              <a:ext cx="770040" cy="142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7139160" y="5494320"/>
            <a:ext cx="4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53960" y="3751200"/>
            <a:ext cx="4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4400" y="545616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76920" y="56196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726240" y="4722480"/>
            <a:ext cx="144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372360" y="4722840"/>
            <a:ext cx="366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00760" y="4610160"/>
            <a:ext cx="40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34080" y="5494320"/>
            <a:ext cx="28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82560" y="3219480"/>
            <a:ext cx="13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89120" y="33829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279360"/>
            <a:ext cx="840744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ath in the Original Facto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59080" y="2211480"/>
            <a:ext cx="3059280" cy="26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03920" y="3668760"/>
            <a:ext cx="19836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03920" y="4289400"/>
            <a:ext cx="19836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56120" y="4276800"/>
            <a:ext cx="19836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56120" y="3656160"/>
            <a:ext cx="19836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6640" y="3857760"/>
            <a:ext cx="19836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835080" y="3285720"/>
            <a:ext cx="1464120" cy="1464120"/>
            <a:chOff x="3835080" y="3285720"/>
            <a:chExt cx="1464120" cy="1464120"/>
          </a:xfrm>
        </p:grpSpPr>
        <p:sp>
          <p:nvSpPr>
            <p:cNvPr id="248" name=""/>
            <p:cNvSpPr/>
            <p:nvPr/>
          </p:nvSpPr>
          <p:spPr>
            <a:xfrm rot="484200">
              <a:off x="3919320" y="3369960"/>
              <a:ext cx="1295280" cy="129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41280" y="4171320"/>
              <a:ext cx="845280" cy="45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2000" y="3860640"/>
              <a:ext cx="1108080" cy="58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0080" y="3606120"/>
              <a:ext cx="112248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22880" y="3423600"/>
              <a:ext cx="88020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204720" y="4950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6440" y="4950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09600" y="4950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11320" y="4950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77240" y="45226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7240" y="19717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77240" y="26082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77240" y="32464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77240" y="38847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1337760" y="339228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49800" y="52484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02080" y="419112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2080" y="387972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02120" y="429912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02080" y="403236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16520" y="368316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16520" y="430524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02120" y="368316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26160" y="362916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37320" y="362916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37320" y="424980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27600" y="424800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29000" y="3824280"/>
            <a:ext cx="4446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2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616280" y="2626920"/>
            <a:ext cx="971640" cy="143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200" y="635040"/>
            <a:ext cx="9055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aling Equ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3520" y="2209680"/>
          <a:ext cx="3574800" cy="8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35748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4794120" y="2152800"/>
          <a:ext cx="405144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4120" y="2152800"/>
                    <a:ext cx="40514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1914480" y="4308480"/>
          <a:ext cx="5162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14480" y="4308480"/>
                    <a:ext cx="51627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1454040" y="5375160"/>
          <a:ext cx="6083280" cy="52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54040" y="5375160"/>
                    <a:ext cx="60832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311040" y="3733920"/>
            <a:ext cx="836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2217600" y="2349360"/>
          <a:ext cx="5967720" cy="32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7600" y="2349360"/>
                    <a:ext cx="596772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833400" y="3917880"/>
          <a:ext cx="1362240" cy="1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3400" y="3917880"/>
                    <a:ext cx="136224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853920" y="4157640"/>
          <a:ext cx="1524240" cy="12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3920" y="4157640"/>
                    <a:ext cx="152424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799920"/>
            <a:ext cx="9086760" cy="78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ints on the Path of Steepest Asc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90920" y="1208160"/>
            <a:ext cx="4495680" cy="422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35400" y="4276800"/>
            <a:ext cx="19836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35400" y="4897440"/>
            <a:ext cx="19836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87600" y="4884840"/>
            <a:ext cx="198720" cy="12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87600" y="4264200"/>
            <a:ext cx="19872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78120" y="4465800"/>
            <a:ext cx="19872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166560" y="3893760"/>
            <a:ext cx="1464120" cy="1464120"/>
            <a:chOff x="3166560" y="3893760"/>
            <a:chExt cx="1464120" cy="1464120"/>
          </a:xfrm>
        </p:grpSpPr>
        <p:sp>
          <p:nvSpPr>
            <p:cNvPr id="301" name=""/>
            <p:cNvSpPr/>
            <p:nvPr/>
          </p:nvSpPr>
          <p:spPr>
            <a:xfrm rot="484200">
              <a:off x="3250800" y="3978000"/>
              <a:ext cx="1295280" cy="129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72760" y="4779360"/>
              <a:ext cx="845280" cy="45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73480" y="4468680"/>
              <a:ext cx="1108080" cy="58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91560" y="4214160"/>
              <a:ext cx="112248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54360" y="4031640"/>
              <a:ext cx="88020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flipV="1">
            <a:off x="3930480" y="1238400"/>
            <a:ext cx="2340000" cy="346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3620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33792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4144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4280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45960" y="55576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1000" y="55562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9080" y="51307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9080" y="25797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9080" y="32162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9080" y="38545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09080" y="44928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909080" y="19414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09080" y="13032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669600" y="28238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94160" y="5856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81600" y="1565280"/>
            <a:ext cx="5414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8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38840" y="2741760"/>
            <a:ext cx="5270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6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333600" y="4011480"/>
            <a:ext cx="1162080" cy="1041120"/>
            <a:chOff x="3333600" y="4011480"/>
            <a:chExt cx="1162080" cy="1041120"/>
          </a:xfrm>
        </p:grpSpPr>
        <p:sp>
          <p:nvSpPr>
            <p:cNvPr id="325" name=""/>
            <p:cNvSpPr/>
            <p:nvPr/>
          </p:nvSpPr>
          <p:spPr>
            <a:xfrm>
              <a:off x="3733920" y="4798800"/>
              <a:ext cx="24768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4487400"/>
              <a:ext cx="247680" cy="14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33600" y="4906800"/>
              <a:ext cx="24768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33920" y="4640040"/>
              <a:ext cx="24768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48000" y="4290840"/>
              <a:ext cx="24768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48000" y="4912920"/>
              <a:ext cx="24768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33600" y="4290840"/>
              <a:ext cx="24768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29280" y="4011480"/>
              <a:ext cx="247320" cy="13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258000" y="423720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69160" y="423720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69160" y="485784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59440" y="485604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60840" y="4432320"/>
            <a:ext cx="4446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2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55840" y="3962520"/>
            <a:ext cx="4424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279360"/>
            <a:ext cx="8407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ploring the Path of Steepest As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356000" y="2120760"/>
            <a:ext cx="1650960" cy="12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90920" y="1135080"/>
            <a:ext cx="4495680" cy="429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35400" y="4276800"/>
            <a:ext cx="19836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5400" y="4897440"/>
            <a:ext cx="19836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87600" y="4884840"/>
            <a:ext cx="198720" cy="12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87600" y="4264200"/>
            <a:ext cx="19872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78120" y="4465800"/>
            <a:ext cx="19872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166560" y="3893760"/>
            <a:ext cx="1464120" cy="1464120"/>
            <a:chOff x="3166560" y="3893760"/>
            <a:chExt cx="1464120" cy="1464120"/>
          </a:xfrm>
        </p:grpSpPr>
        <p:sp>
          <p:nvSpPr>
            <p:cNvPr id="348" name=""/>
            <p:cNvSpPr/>
            <p:nvPr/>
          </p:nvSpPr>
          <p:spPr>
            <a:xfrm rot="484200">
              <a:off x="3250800" y="3978000"/>
              <a:ext cx="1295280" cy="129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72760" y="4779360"/>
              <a:ext cx="845280" cy="45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73480" y="4468680"/>
              <a:ext cx="1108080" cy="58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91560" y="4214160"/>
              <a:ext cx="112248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54360" y="4031640"/>
              <a:ext cx="88020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 flipV="1">
            <a:off x="3930480" y="1238400"/>
            <a:ext cx="2340000" cy="346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3620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3792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4144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4280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45960" y="55576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51000" y="55562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9080" y="51307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09080" y="25797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09080" y="32162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09080" y="38545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09080" y="44928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909080" y="19414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909080" y="13032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669600" y="28238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94160" y="5856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5120" y="2519280"/>
            <a:ext cx="49860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6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9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33920" y="479916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733920" y="448776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33600" y="4906800"/>
            <a:ext cx="247680" cy="1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64040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248000" y="4290840"/>
            <a:ext cx="247680" cy="1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48000" y="491328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33600" y="4290840"/>
            <a:ext cx="247680" cy="1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58000" y="423720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69160" y="423720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69160" y="485784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59440" y="485604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60840" y="4432320"/>
            <a:ext cx="4446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2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25960" y="3265560"/>
            <a:ext cx="49860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8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80160" y="3265560"/>
            <a:ext cx="498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80160" y="1989000"/>
            <a:ext cx="498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25960" y="1989000"/>
            <a:ext cx="49860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279360"/>
            <a:ext cx="8407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econd Facto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1660680" y="1306440"/>
          <a:ext cx="5824440" cy="48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306440"/>
                    <a:ext cx="582444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514080"/>
            <a:ext cx="8902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ults of Second Factorial Desi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vature Check by Intera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28720" y="2328840"/>
            <a:ext cx="7439040" cy="1236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e,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-4.05,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em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2.65, and </a:t>
            </a:r>
            <a:r>
              <a:rPr b="1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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ime*tem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-9.75, so the interaction term is the largest, so there appears to be curv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35040" y="406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w Scaling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435400" y="2629080"/>
          <a:ext cx="360648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2629080"/>
                    <a:ext cx="36064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2451240" y="4191120"/>
          <a:ext cx="405108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51240" y="4191120"/>
                    <a:ext cx="4051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timization Desig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76600" y="1392120"/>
            <a:ext cx="1895400" cy="154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392120"/>
            <a:ext cx="1895400" cy="154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76600" y="2935440"/>
            <a:ext cx="1895400" cy="154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76600" y="4476600"/>
            <a:ext cx="1895400" cy="154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935440"/>
            <a:ext cx="1895400" cy="1541160"/>
          </a:xfrm>
          <a:prstGeom prst="rect">
            <a:avLst/>
          </a:prstGeom>
          <a:solidFill>
            <a:srgbClr val="91919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56160" y="1371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9376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06920" y="2881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99440" y="2881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06920" y="4414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48240" y="3314880"/>
            <a:ext cx="2224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ith Center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ral Composite 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x-Behnken D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987720" y="2743200"/>
            <a:ext cx="242568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092560" y="1854000"/>
            <a:ext cx="0" cy="17650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97280" y="2654280"/>
            <a:ext cx="31752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940280" y="3543480"/>
            <a:ext cx="31752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40280" y="1727280"/>
            <a:ext cx="31752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2120760"/>
            <a:ext cx="1650960" cy="1282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222960" y="2641680"/>
            <a:ext cx="31752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1135080"/>
            <a:ext cx="4495680" cy="429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35400" y="4276800"/>
            <a:ext cx="19836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235400" y="4897440"/>
            <a:ext cx="19836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87600" y="4884840"/>
            <a:ext cx="198720" cy="12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87600" y="4264200"/>
            <a:ext cx="198720" cy="12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78120" y="4465800"/>
            <a:ext cx="19872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166560" y="3893760"/>
            <a:ext cx="1464120" cy="1464120"/>
            <a:chOff x="3166560" y="3893760"/>
            <a:chExt cx="1464120" cy="1464120"/>
          </a:xfrm>
        </p:grpSpPr>
        <p:sp>
          <p:nvSpPr>
            <p:cNvPr id="411" name=""/>
            <p:cNvSpPr/>
            <p:nvPr/>
          </p:nvSpPr>
          <p:spPr>
            <a:xfrm rot="484200">
              <a:off x="3250800" y="3978000"/>
              <a:ext cx="1295280" cy="1295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72760" y="4779360"/>
              <a:ext cx="845280" cy="45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73480" y="4468680"/>
              <a:ext cx="1108080" cy="58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91560" y="4214160"/>
              <a:ext cx="112248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54360" y="4031640"/>
              <a:ext cx="88020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V="1">
            <a:off x="3930480" y="1238400"/>
            <a:ext cx="2340000" cy="346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3620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3792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4144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42800" y="5557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45960" y="55576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51000" y="55562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09080" y="51307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09080" y="25797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9080" y="32162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09080" y="38545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09080" y="44928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09080" y="19414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9080" y="13032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669600" y="28238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394160" y="5856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75120" y="2519280"/>
            <a:ext cx="49860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7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479916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33920" y="448776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333600" y="4906800"/>
            <a:ext cx="247680" cy="1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464040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48000" y="4290840"/>
            <a:ext cx="247680" cy="1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48000" y="4913280"/>
            <a:ext cx="2476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33600" y="4290840"/>
            <a:ext cx="247680" cy="1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58000" y="423720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69160" y="423720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69160" y="485784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259440" y="4856040"/>
            <a:ext cx="399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60840" y="4432320"/>
            <a:ext cx="4446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4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2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25960" y="3265560"/>
            <a:ext cx="49860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8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80160" y="3265560"/>
            <a:ext cx="498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80160" y="1989000"/>
            <a:ext cx="498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125960" y="1989000"/>
            <a:ext cx="49860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279360"/>
            <a:ext cx="8407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Central Composite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32120" y="2610000"/>
            <a:ext cx="498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57800" y="2610000"/>
            <a:ext cx="49860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75120" y="3498840"/>
            <a:ext cx="498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75120" y="1708200"/>
            <a:ext cx="498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2201760" y="932040"/>
          <a:ext cx="4311720" cy="51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1760" y="932040"/>
                    <a:ext cx="4311720" cy="51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395280"/>
            <a:ext cx="779148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entral Composite Design and Resul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174680" y="3282840"/>
            <a:ext cx="6743880" cy="19940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79320" y="74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st Use Regression to find the Predictive Equ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34000" y="2308320"/>
            <a:ext cx="689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Quadratic Model in Coded 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76520" y="3619440"/>
          <a:ext cx="574020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19440"/>
                    <a:ext cx="574020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530280" y="3282840"/>
            <a:ext cx="8012160" cy="1497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79320" y="74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st Use Regression to find the Predictive Equ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20160" y="2308320"/>
            <a:ext cx="722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Quadratic Model in Original 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685800" y="3625920"/>
                <a:ext cx="76230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rPr>
                            <m:lit/>
                            <m:nor/>
                          </m:rPr>
                          <m:t xml:space="preserve">397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temp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75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tem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15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47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m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517920" y="3733920"/>
            <a:ext cx="317520" cy="16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660920" y="4622760"/>
            <a:ext cx="31752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60920" y="2806560"/>
            <a:ext cx="31752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943600" y="3720960"/>
            <a:ext cx="31752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58560" y="5240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61720" y="5240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63440" y="5240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466600" y="52401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1280" y="52387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44120" y="36590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44120" y="42958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544120" y="49338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44120" y="3021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44120" y="23828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1304640" y="390348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114800" y="553896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95760" y="3598920"/>
            <a:ext cx="498600" cy="4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7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46600" y="4344840"/>
            <a:ext cx="498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8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00800" y="4344840"/>
            <a:ext cx="498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500800" y="3068640"/>
            <a:ext cx="498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46600" y="3068640"/>
            <a:ext cx="49824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343080"/>
            <a:ext cx="840744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tted Surface in the Region of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52760" y="3689280"/>
            <a:ext cx="498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78440" y="3689280"/>
            <a:ext cx="49860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95760" y="4578480"/>
            <a:ext cx="498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95760" y="2787480"/>
            <a:ext cx="498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268800" y="2521080"/>
            <a:ext cx="484200" cy="603000"/>
          </a:xfrm>
          <a:custGeom>
            <a:avLst/>
            <a:gdLst/>
            <a:ahLst/>
            <a:rect l="l" t="t" r="r" b="b"/>
            <a:pathLst>
              <a:path w="305" h="380">
                <a:moveTo>
                  <a:pt x="0" y="0"/>
                </a:moveTo>
                <a:lnTo>
                  <a:pt x="43" y="41"/>
                </a:lnTo>
                <a:lnTo>
                  <a:pt x="153" y="138"/>
                </a:lnTo>
                <a:lnTo>
                  <a:pt x="212" y="186"/>
                </a:lnTo>
                <a:lnTo>
                  <a:pt x="305" y="316"/>
                </a:lnTo>
                <a:lnTo>
                  <a:pt x="305" y="332"/>
                </a:lnTo>
                <a:lnTo>
                  <a:pt x="305" y="380"/>
                </a:lnTo>
                <a:lnTo>
                  <a:pt x="153" y="380"/>
                </a:lnTo>
                <a:lnTo>
                  <a:pt x="0" y="34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25960" y="1892160"/>
            <a:ext cx="3441600" cy="323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3268800" y="1892160"/>
            <a:ext cx="3390840" cy="3235320"/>
            <a:chOff x="3268800" y="1892160"/>
            <a:chExt cx="3390840" cy="3235320"/>
          </a:xfrm>
        </p:grpSpPr>
        <p:sp>
          <p:nvSpPr>
            <p:cNvPr id="495" name=""/>
            <p:cNvSpPr/>
            <p:nvPr/>
          </p:nvSpPr>
          <p:spPr>
            <a:xfrm>
              <a:off x="3268800" y="2521080"/>
              <a:ext cx="484200" cy="603000"/>
            </a:xfrm>
            <a:custGeom>
              <a:avLst/>
              <a:gdLst/>
              <a:ahLst/>
              <a:rect l="l" t="t" r="r" b="b"/>
              <a:pathLst>
                <a:path w="305" h="380">
                  <a:moveTo>
                    <a:pt x="0" y="0"/>
                  </a:moveTo>
                  <a:lnTo>
                    <a:pt x="43" y="41"/>
                  </a:lnTo>
                  <a:lnTo>
                    <a:pt x="153" y="138"/>
                  </a:lnTo>
                  <a:lnTo>
                    <a:pt x="212" y="186"/>
                  </a:lnTo>
                  <a:lnTo>
                    <a:pt x="305" y="316"/>
                  </a:lnTo>
                  <a:lnTo>
                    <a:pt x="305" y="332"/>
                  </a:lnTo>
                  <a:lnTo>
                    <a:pt x="305" y="380"/>
                  </a:lnTo>
                  <a:lnTo>
                    <a:pt x="153" y="380"/>
                  </a:lnTo>
                  <a:lnTo>
                    <a:pt x="0" y="3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68800" y="2021040"/>
              <a:ext cx="2557440" cy="2450880"/>
            </a:xfrm>
            <a:custGeom>
              <a:avLst/>
              <a:gdLst/>
              <a:ahLst/>
              <a:rect l="l" t="t" r="r" b="b"/>
              <a:pathLst>
                <a:path w="1611" h="1544">
                  <a:moveTo>
                    <a:pt x="0" y="0"/>
                  </a:moveTo>
                  <a:lnTo>
                    <a:pt x="102" y="65"/>
                  </a:lnTo>
                  <a:lnTo>
                    <a:pt x="153" y="97"/>
                  </a:lnTo>
                  <a:lnTo>
                    <a:pt x="305" y="202"/>
                  </a:lnTo>
                  <a:lnTo>
                    <a:pt x="314" y="210"/>
                  </a:lnTo>
                  <a:lnTo>
                    <a:pt x="458" y="307"/>
                  </a:lnTo>
                  <a:lnTo>
                    <a:pt x="517" y="356"/>
                  </a:lnTo>
                  <a:lnTo>
                    <a:pt x="611" y="420"/>
                  </a:lnTo>
                  <a:lnTo>
                    <a:pt x="712" y="501"/>
                  </a:lnTo>
                  <a:lnTo>
                    <a:pt x="763" y="542"/>
                  </a:lnTo>
                  <a:lnTo>
                    <a:pt x="890" y="647"/>
                  </a:lnTo>
                  <a:lnTo>
                    <a:pt x="916" y="663"/>
                  </a:lnTo>
                  <a:lnTo>
                    <a:pt x="1068" y="792"/>
                  </a:lnTo>
                  <a:lnTo>
                    <a:pt x="1068" y="792"/>
                  </a:lnTo>
                  <a:lnTo>
                    <a:pt x="1221" y="922"/>
                  </a:lnTo>
                  <a:lnTo>
                    <a:pt x="1229" y="938"/>
                  </a:lnTo>
                  <a:lnTo>
                    <a:pt x="1373" y="1067"/>
                  </a:lnTo>
                  <a:lnTo>
                    <a:pt x="1382" y="1083"/>
                  </a:lnTo>
                  <a:lnTo>
                    <a:pt x="1509" y="1229"/>
                  </a:lnTo>
                  <a:lnTo>
                    <a:pt x="1526" y="1245"/>
                  </a:lnTo>
                  <a:lnTo>
                    <a:pt x="1611" y="1375"/>
                  </a:lnTo>
                  <a:lnTo>
                    <a:pt x="1594" y="1520"/>
                  </a:lnTo>
                  <a:lnTo>
                    <a:pt x="1526" y="1544"/>
                  </a:lnTo>
                  <a:lnTo>
                    <a:pt x="1373" y="1536"/>
                  </a:lnTo>
                  <a:lnTo>
                    <a:pt x="1297" y="1520"/>
                  </a:lnTo>
                  <a:lnTo>
                    <a:pt x="1221" y="1512"/>
                  </a:lnTo>
                  <a:lnTo>
                    <a:pt x="1068" y="1455"/>
                  </a:lnTo>
                  <a:lnTo>
                    <a:pt x="916" y="1399"/>
                  </a:lnTo>
                  <a:lnTo>
                    <a:pt x="848" y="1375"/>
                  </a:lnTo>
                  <a:lnTo>
                    <a:pt x="763" y="1342"/>
                  </a:lnTo>
                  <a:lnTo>
                    <a:pt x="611" y="1269"/>
                  </a:lnTo>
                  <a:lnTo>
                    <a:pt x="509" y="1229"/>
                  </a:lnTo>
                  <a:lnTo>
                    <a:pt x="458" y="1205"/>
                  </a:lnTo>
                  <a:lnTo>
                    <a:pt x="305" y="1132"/>
                  </a:lnTo>
                  <a:lnTo>
                    <a:pt x="212" y="1083"/>
                  </a:lnTo>
                  <a:lnTo>
                    <a:pt x="153" y="1051"/>
                  </a:lnTo>
                  <a:lnTo>
                    <a:pt x="0" y="9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268800" y="3921120"/>
              <a:ext cx="2516040" cy="1206360"/>
            </a:xfrm>
            <a:custGeom>
              <a:avLst/>
              <a:gdLst/>
              <a:ahLst/>
              <a:rect l="l" t="t" r="r" b="b"/>
              <a:pathLst>
                <a:path w="1585" h="760">
                  <a:moveTo>
                    <a:pt x="0" y="0"/>
                  </a:moveTo>
                  <a:lnTo>
                    <a:pt x="60" y="32"/>
                  </a:lnTo>
                  <a:lnTo>
                    <a:pt x="153" y="81"/>
                  </a:lnTo>
                  <a:lnTo>
                    <a:pt x="305" y="161"/>
                  </a:lnTo>
                  <a:lnTo>
                    <a:pt x="331" y="178"/>
                  </a:lnTo>
                  <a:lnTo>
                    <a:pt x="458" y="242"/>
                  </a:lnTo>
                  <a:lnTo>
                    <a:pt x="611" y="315"/>
                  </a:lnTo>
                  <a:lnTo>
                    <a:pt x="619" y="323"/>
                  </a:lnTo>
                  <a:lnTo>
                    <a:pt x="763" y="396"/>
                  </a:lnTo>
                  <a:lnTo>
                    <a:pt x="916" y="469"/>
                  </a:lnTo>
                  <a:lnTo>
                    <a:pt x="916" y="469"/>
                  </a:lnTo>
                  <a:lnTo>
                    <a:pt x="1068" y="533"/>
                  </a:lnTo>
                  <a:lnTo>
                    <a:pt x="1221" y="606"/>
                  </a:lnTo>
                  <a:lnTo>
                    <a:pt x="1238" y="614"/>
                  </a:lnTo>
                  <a:lnTo>
                    <a:pt x="1373" y="663"/>
                  </a:lnTo>
                  <a:lnTo>
                    <a:pt x="1526" y="727"/>
                  </a:lnTo>
                  <a:lnTo>
                    <a:pt x="1585" y="7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268800" y="4176720"/>
              <a:ext cx="1803240" cy="950760"/>
            </a:xfrm>
            <a:custGeom>
              <a:avLst/>
              <a:gdLst/>
              <a:ahLst/>
              <a:rect l="l" t="t" r="r" b="b"/>
              <a:pathLst>
                <a:path w="1136" h="599">
                  <a:moveTo>
                    <a:pt x="0" y="0"/>
                  </a:moveTo>
                  <a:lnTo>
                    <a:pt x="17" y="17"/>
                  </a:lnTo>
                  <a:lnTo>
                    <a:pt x="153" y="89"/>
                  </a:lnTo>
                  <a:lnTo>
                    <a:pt x="280" y="162"/>
                  </a:lnTo>
                  <a:lnTo>
                    <a:pt x="305" y="170"/>
                  </a:lnTo>
                  <a:lnTo>
                    <a:pt x="458" y="251"/>
                  </a:lnTo>
                  <a:lnTo>
                    <a:pt x="560" y="308"/>
                  </a:lnTo>
                  <a:lnTo>
                    <a:pt x="611" y="332"/>
                  </a:lnTo>
                  <a:lnTo>
                    <a:pt x="763" y="413"/>
                  </a:lnTo>
                  <a:lnTo>
                    <a:pt x="839" y="453"/>
                  </a:lnTo>
                  <a:lnTo>
                    <a:pt x="916" y="486"/>
                  </a:lnTo>
                  <a:lnTo>
                    <a:pt x="1068" y="558"/>
                  </a:lnTo>
                  <a:lnTo>
                    <a:pt x="1136" y="5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19440" y="1892160"/>
              <a:ext cx="3040200" cy="2324160"/>
            </a:xfrm>
            <a:custGeom>
              <a:avLst/>
              <a:gdLst/>
              <a:ahLst/>
              <a:rect l="l" t="t" r="r" b="b"/>
              <a:pathLst>
                <a:path w="1915" h="1464">
                  <a:moveTo>
                    <a:pt x="1915" y="1464"/>
                  </a:moveTo>
                  <a:lnTo>
                    <a:pt x="1898" y="1456"/>
                  </a:lnTo>
                  <a:lnTo>
                    <a:pt x="1763" y="1318"/>
                  </a:lnTo>
                  <a:lnTo>
                    <a:pt x="1746" y="1310"/>
                  </a:lnTo>
                  <a:lnTo>
                    <a:pt x="1610" y="1189"/>
                  </a:lnTo>
                  <a:lnTo>
                    <a:pt x="1576" y="1164"/>
                  </a:lnTo>
                  <a:lnTo>
                    <a:pt x="1458" y="1059"/>
                  </a:lnTo>
                  <a:lnTo>
                    <a:pt x="1398" y="1019"/>
                  </a:lnTo>
                  <a:lnTo>
                    <a:pt x="1305" y="938"/>
                  </a:lnTo>
                  <a:lnTo>
                    <a:pt x="1220" y="873"/>
                  </a:lnTo>
                  <a:lnTo>
                    <a:pt x="1152" y="817"/>
                  </a:lnTo>
                  <a:lnTo>
                    <a:pt x="1034" y="728"/>
                  </a:lnTo>
                  <a:lnTo>
                    <a:pt x="1000" y="704"/>
                  </a:lnTo>
                  <a:lnTo>
                    <a:pt x="847" y="590"/>
                  </a:lnTo>
                  <a:lnTo>
                    <a:pt x="839" y="582"/>
                  </a:lnTo>
                  <a:lnTo>
                    <a:pt x="695" y="477"/>
                  </a:lnTo>
                  <a:lnTo>
                    <a:pt x="635" y="437"/>
                  </a:lnTo>
                  <a:lnTo>
                    <a:pt x="542" y="364"/>
                  </a:lnTo>
                  <a:lnTo>
                    <a:pt x="432" y="291"/>
                  </a:lnTo>
                  <a:lnTo>
                    <a:pt x="390" y="259"/>
                  </a:lnTo>
                  <a:lnTo>
                    <a:pt x="237" y="154"/>
                  </a:lnTo>
                  <a:lnTo>
                    <a:pt x="220" y="146"/>
                  </a:lnTo>
                  <a:lnTo>
                    <a:pt x="84" y="5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35600" y="1892160"/>
              <a:ext cx="2624040" cy="1900440"/>
            </a:xfrm>
            <a:custGeom>
              <a:avLst/>
              <a:gdLst/>
              <a:ahLst/>
              <a:rect l="l" t="t" r="r" b="b"/>
              <a:pathLst>
                <a:path w="1653" h="1197">
                  <a:moveTo>
                    <a:pt x="1653" y="1197"/>
                  </a:moveTo>
                  <a:lnTo>
                    <a:pt x="1602" y="1164"/>
                  </a:lnTo>
                  <a:lnTo>
                    <a:pt x="1501" y="1076"/>
                  </a:lnTo>
                  <a:lnTo>
                    <a:pt x="1416" y="1019"/>
                  </a:lnTo>
                  <a:lnTo>
                    <a:pt x="1348" y="962"/>
                  </a:lnTo>
                  <a:lnTo>
                    <a:pt x="1229" y="873"/>
                  </a:lnTo>
                  <a:lnTo>
                    <a:pt x="1196" y="841"/>
                  </a:lnTo>
                  <a:lnTo>
                    <a:pt x="1043" y="728"/>
                  </a:lnTo>
                  <a:lnTo>
                    <a:pt x="1035" y="728"/>
                  </a:lnTo>
                  <a:lnTo>
                    <a:pt x="890" y="615"/>
                  </a:lnTo>
                  <a:lnTo>
                    <a:pt x="840" y="582"/>
                  </a:lnTo>
                  <a:lnTo>
                    <a:pt x="738" y="509"/>
                  </a:lnTo>
                  <a:lnTo>
                    <a:pt x="636" y="437"/>
                  </a:lnTo>
                  <a:lnTo>
                    <a:pt x="585" y="396"/>
                  </a:lnTo>
                  <a:lnTo>
                    <a:pt x="433" y="291"/>
                  </a:lnTo>
                  <a:lnTo>
                    <a:pt x="424" y="291"/>
                  </a:lnTo>
                  <a:lnTo>
                    <a:pt x="280" y="186"/>
                  </a:lnTo>
                  <a:lnTo>
                    <a:pt x="212" y="146"/>
                  </a:lnTo>
                  <a:lnTo>
                    <a:pt x="128" y="8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dratic Models can only take certain for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47720" y="2733840"/>
            <a:ext cx="123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651760" y="2733840"/>
            <a:ext cx="118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22960" y="2733840"/>
            <a:ext cx="1568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ddle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19240" y="2733840"/>
            <a:ext cx="1998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ary 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514600" y="3422520"/>
            <a:ext cx="1511280" cy="133380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572000" y="3498840"/>
            <a:ext cx="1511280" cy="13334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6769080" y="3537000"/>
            <a:ext cx="1460520" cy="1257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4"/>
          <a:stretch/>
        </p:blipFill>
        <p:spPr>
          <a:xfrm>
            <a:off x="723960" y="3492360"/>
            <a:ext cx="14223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33240" y="6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onical Analys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371600" y="203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ables us to analyze systems of maxima and minima in many dimensions and, in particular to identify complicated ridge systems, where direct geometric representation is not possibl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wo Dimensional 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444600" y="1620720"/>
            <a:ext cx="2387520" cy="2664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211800" y="1595520"/>
            <a:ext cx="2370240" cy="26892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3289320" y="3054240"/>
            <a:ext cx="22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329000" y="1593720"/>
            <a:ext cx="7920" cy="27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465800" y="1486080"/>
            <a:ext cx="237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19440" y="155736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3654360" y="1693800"/>
            <a:ext cx="1041480" cy="2078280"/>
            <a:chOff x="3654360" y="1693800"/>
            <a:chExt cx="1041480" cy="2078280"/>
          </a:xfrm>
        </p:grpSpPr>
        <p:sp>
          <p:nvSpPr>
            <p:cNvPr id="520" name=""/>
            <p:cNvSpPr/>
            <p:nvPr/>
          </p:nvSpPr>
          <p:spPr>
            <a:xfrm>
              <a:off x="3654360" y="1700280"/>
              <a:ext cx="1041480" cy="207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911760" y="2232000"/>
              <a:ext cx="500040" cy="979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4146480" y="1693800"/>
              <a:ext cx="33480" cy="1019160"/>
              <a:chOff x="4146480" y="1693800"/>
              <a:chExt cx="33480" cy="1019160"/>
            </a:xfrm>
          </p:grpSpPr>
          <p:sp>
            <p:nvSpPr>
              <p:cNvPr id="523" name=""/>
              <p:cNvSpPr/>
              <p:nvPr/>
            </p:nvSpPr>
            <p:spPr>
              <a:xfrm>
                <a:off x="4146480" y="169380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8" y="0"/>
                    </a:moveTo>
                    <a:lnTo>
                      <a:pt x="20" y="25"/>
                    </a:lnTo>
                    <a:lnTo>
                      <a:pt x="8" y="17"/>
                    </a:lnTo>
                    <a:lnTo>
                      <a:pt x="0" y="2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146480" y="2679840"/>
                <a:ext cx="33480" cy="331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8" y="2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20" y="0"/>
                    </a:lnTo>
                    <a:lnTo>
                      <a:pt x="8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170240" y="1735200"/>
                <a:ext cx="0" cy="95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4324320" y="2563920"/>
              <a:ext cx="20016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32880" y="2505240"/>
              <a:ext cx="2332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52680" y="2540160"/>
              <a:ext cx="330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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16120" y="2592360"/>
              <a:ext cx="21348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24360" y="2066760"/>
              <a:ext cx="20952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28240" y="2003400"/>
              <a:ext cx="365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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16880" y="2073240"/>
              <a:ext cx="2196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32240" y="2573280"/>
              <a:ext cx="209520" cy="14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236120" y="2509920"/>
              <a:ext cx="365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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23320" y="2579760"/>
              <a:ext cx="2196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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4164120" y="2706840"/>
              <a:ext cx="531720" cy="33120"/>
              <a:chOff x="4164120" y="2706840"/>
              <a:chExt cx="531720" cy="33120"/>
            </a:xfrm>
          </p:grpSpPr>
          <p:sp>
            <p:nvSpPr>
              <p:cNvPr id="537" name=""/>
              <p:cNvSpPr/>
              <p:nvPr/>
            </p:nvSpPr>
            <p:spPr>
              <a:xfrm>
                <a:off x="4164120" y="2706840"/>
                <a:ext cx="42840" cy="33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8"/>
                    </a:moveTo>
                    <a:lnTo>
                      <a:pt x="26" y="0"/>
                    </a:lnTo>
                    <a:lnTo>
                      <a:pt x="17" y="8"/>
                    </a:lnTo>
                    <a:lnTo>
                      <a:pt x="26" y="2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53000" y="2706840"/>
                <a:ext cx="42840" cy="3312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26" y="8"/>
                    </a:moveTo>
                    <a:lnTo>
                      <a:pt x="0" y="20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26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205160" y="2730600"/>
                <a:ext cx="455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0" name=""/>
          <p:cNvSpPr/>
          <p:nvPr/>
        </p:nvSpPr>
        <p:spPr>
          <a:xfrm>
            <a:off x="5372280" y="3112920"/>
            <a:ext cx="237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27360" y="3182760"/>
            <a:ext cx="2196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2590920"/>
            <a:ext cx="75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6516720" y="4545000"/>
          <a:ext cx="1581120" cy="24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4545000"/>
                    <a:ext cx="158112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457200" y="4543560"/>
          <a:ext cx="2347920" cy="5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543560"/>
                    <a:ext cx="234792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1434960" y="1847880"/>
            <a:ext cx="954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50960" y="2914560"/>
            <a:ext cx="1778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7178760" y="3025800"/>
          <a:ext cx="142920" cy="15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78760" y="3025800"/>
                    <a:ext cx="142920" cy="1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"/>
          <p:cNvSpPr/>
          <p:nvPr/>
        </p:nvSpPr>
        <p:spPr>
          <a:xfrm>
            <a:off x="3565080" y="494820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3348000" y="4543560"/>
                <a:ext cx="22114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720" y="1022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dratic Response Surfa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28880" y="2536920"/>
            <a:ext cx="7200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y two quadratic surfaces with the same eigenvalues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’s) are just shifted and rotated versions of each other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version which is located at the origin and oriented along the axes is easy to interpret without plot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Importance of the Eigenvalu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71280" y="2247480"/>
            <a:ext cx="7296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hape of the surface is determined by the signs and magnitudes of the eigenvalu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23880" y="3809880"/>
            <a:ext cx="485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87800" y="3359160"/>
            <a:ext cx="0" cy="219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517760" y="426708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517760" y="472428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517760" y="518148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36520" y="3400560"/>
            <a:ext cx="189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of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91480" y="3857760"/>
            <a:ext cx="118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300320" y="4314960"/>
            <a:ext cx="1568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ddle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67000" y="4772160"/>
            <a:ext cx="123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95240" y="5191200"/>
            <a:ext cx="81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01880" y="3375000"/>
            <a:ext cx="151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gen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71040" y="3857760"/>
            <a:ext cx="2773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eigenvalues pos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371040" y="4314960"/>
            <a:ext cx="522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eigenvalues positive and some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71400" y="4772160"/>
            <a:ext cx="283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eigenvalues neg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371400" y="5191200"/>
            <a:ext cx="3255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least one eigenvalue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4520" y="201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esponse Surface Methodology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46160" y="4413240"/>
            <a:ext cx="6935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rategy of Experimental Design for finding optimum setting for factors. (Box and Wilson, 19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19040" y="123804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onary Ridges in a Response Surfa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42640" y="2457000"/>
            <a:ext cx="6743880" cy="139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xistence of stationary ridges can often be exploited to maintain high quality while reducing cost or complex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5308560" y="3811680"/>
            <a:ext cx="1725480" cy="167004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2044800" y="3887640"/>
            <a:ext cx="1752480" cy="16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3280" y="152280"/>
            <a:ext cx="441936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onse Surface Method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7800" y="2216160"/>
            <a:ext cx="2482920" cy="4446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4680" y="2265480"/>
            <a:ext cx="2549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iminate Inactive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19440" y="269244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83160" y="2225520"/>
            <a:ext cx="3111480" cy="425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30600" y="2265480"/>
            <a:ext cx="3216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ctional Factorials (Res I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279800" y="81756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623920" y="77940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20560" y="2927520"/>
            <a:ext cx="2597400" cy="444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39560" y="2976480"/>
            <a:ext cx="2759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d Path of Steepest A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819440" y="3397320"/>
            <a:ext cx="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25800" y="2870280"/>
            <a:ext cx="4426200" cy="558720"/>
          </a:xfrm>
          <a:prstGeom prst="roundRect">
            <a:avLst>
              <a:gd name="adj" fmla="val 1303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35600" y="2854440"/>
            <a:ext cx="4206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ctional Factorials (Higher Resolution from projection or additional ru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130400" y="3673440"/>
            <a:ext cx="1377720" cy="425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154160" y="3713040"/>
            <a:ext cx="1330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  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19440" y="4121280"/>
            <a:ext cx="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73680" y="3673440"/>
            <a:ext cx="4330440" cy="425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25880" y="3713040"/>
            <a:ext cx="4226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ngle Experiments until Improvement s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015920" y="4317840"/>
            <a:ext cx="1606680" cy="4446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20600" y="4367160"/>
            <a:ext cx="1597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d Curv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19440" y="478800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2640" y="4270320"/>
            <a:ext cx="5492520" cy="539640"/>
          </a:xfrm>
          <a:prstGeom prst="roundRect">
            <a:avLst>
              <a:gd name="adj" fmla="val 1303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03720" y="4245120"/>
            <a:ext cx="5670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nter Points (Curvature Che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ctional Factorials (Res &gt; III)  (Interactions &gt; Main Effec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15920" y="5118120"/>
            <a:ext cx="1606680" cy="4446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63720" y="5167440"/>
            <a:ext cx="171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 Curv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840200" y="5060880"/>
            <a:ext cx="2597400" cy="558720"/>
          </a:xfrm>
          <a:prstGeom prst="roundRect">
            <a:avLst>
              <a:gd name="adj" fmla="val 1303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789440" y="5045040"/>
            <a:ext cx="2698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ntral Composite De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t Full Quadratic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819440" y="55119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49160" y="5861160"/>
            <a:ext cx="228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inued on Next P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80880" y="1479240"/>
            <a:ext cx="0" cy="399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7360" y="1486080"/>
            <a:ext cx="19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374760" y="455292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0560" y="1324080"/>
            <a:ext cx="2597400" cy="615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9440" y="1949400"/>
            <a:ext cx="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83080" y="1419120"/>
            <a:ext cx="1511280" cy="425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8400" y="1459080"/>
            <a:ext cx="1521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rainsto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4640" y="1336680"/>
            <a:ext cx="2473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lect Factors and Level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393480" y="2419200"/>
            <a:ext cx="18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380880" y="5060520"/>
            <a:ext cx="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7160" y="1378080"/>
            <a:ext cx="1949400" cy="6537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41560" y="1407960"/>
            <a:ext cx="2054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derstand the shape of the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46560" y="493560"/>
            <a:ext cx="92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223960" y="4366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394080" y="1263600"/>
            <a:ext cx="5321160" cy="9018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89400" y="1293840"/>
            <a:ext cx="55213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nonical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-Form if Stationary Point is outside Experimental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-Form if Stationary Point is inside Experimental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62000" y="9968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65320" y="2311560"/>
            <a:ext cx="1949400" cy="1091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179360" y="2341440"/>
            <a:ext cx="20545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nd out what the optimum looks 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, Line, Plane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000160" y="2044800"/>
            <a:ext cx="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432240" y="2635200"/>
            <a:ext cx="4559400" cy="4446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89400" y="2703600"/>
            <a:ext cx="552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 the Canonical Form with the DLR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000160" y="3416400"/>
            <a:ext cx="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27160" y="3683160"/>
            <a:ext cx="1987560" cy="615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41560" y="3713040"/>
            <a:ext cx="2054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there is a rising ridge, then follow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70400" y="3664080"/>
            <a:ext cx="5207040" cy="6350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465360" y="3713040"/>
            <a:ext cx="5521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late the reduced model back and optimum formula back to original coord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558720" y="4851360"/>
            <a:ext cx="56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539640" y="1060200"/>
            <a:ext cx="12960" cy="3809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419640" y="4807080"/>
            <a:ext cx="5206680" cy="6350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40160" y="4856040"/>
            <a:ext cx="5521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anslate the reduced model back and optimum formula back to original coord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00160" y="42926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127160" y="4597560"/>
            <a:ext cx="2178000" cy="1187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141560" y="4627440"/>
            <a:ext cx="21812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there is a stationary ridge, then find the cheapest place that is optim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048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onse Surface Methodolo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048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you are a long way from the top of the mountain, a slope may be a good approxi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can probably use first–order designs that fit a linear approxi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you are close to an optimum you need quadratic models and second–order designs to model curvatu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ponse Surfa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65320" y="2406600"/>
            <a:ext cx="28450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rst Order Strate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82880" y="2432160"/>
            <a:ext cx="31240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cond Order Strate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35160" y="2546280"/>
            <a:ext cx="290844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dratic Models can only take certain for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7720" y="2733840"/>
            <a:ext cx="123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51760" y="2733840"/>
            <a:ext cx="118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22960" y="2733840"/>
            <a:ext cx="1568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ddle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19240" y="2733840"/>
            <a:ext cx="1998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ary 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14600" y="3422520"/>
            <a:ext cx="1511280" cy="1333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0" y="3498840"/>
            <a:ext cx="1511280" cy="1333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769080" y="3537000"/>
            <a:ext cx="1460520" cy="1257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23960" y="3492360"/>
            <a:ext cx="1422360" cy="137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2T23:09:46Z</dcterms:created>
  <dc:creator/>
  <dc:description/>
  <dc:language>en-US</dc:language>
  <cp:lastModifiedBy>Kiamkia</cp:lastModifiedBy>
  <cp:lastPrinted>1998-04-09T00:13:34Z</cp:lastPrinted>
  <dcterms:modified xsi:type="dcterms:W3CDTF">2002-02-08T23:19:30Z</dcterms:modified>
  <cp:revision>59</cp:revision>
  <dc:subject/>
  <dc:title>Blocking Fractional Factorials and  Factors with More than 2 Levels</dc:title>
</cp:coreProperties>
</file>