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1040" y="387360"/>
            <a:ext cx="8597880" cy="6083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3880" y="6524640"/>
            <a:ext cx="104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fld id="{C527D549-959F-45DC-8F2F-D3D0AEA5D5A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4960" y="2361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304920"/>
            <a:ext cx="8331480" cy="11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tial Assembly of Experimental Designs as Nee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7040" y="4530600"/>
            <a:ext cx="2909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ional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6040" y="4340160"/>
            <a:ext cx="22964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Facto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/Cent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atur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67680" y="4435560"/>
            <a:ext cx="3604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Composit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quadra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38080" y="2133720"/>
            <a:ext cx="1447560" cy="1428120"/>
            <a:chOff x="838080" y="2133720"/>
            <a:chExt cx="1447560" cy="1428120"/>
          </a:xfrm>
        </p:grpSpPr>
        <p:sp>
          <p:nvSpPr>
            <p:cNvPr id="91" name=""/>
            <p:cNvSpPr/>
            <p:nvPr/>
          </p:nvSpPr>
          <p:spPr>
            <a:xfrm>
              <a:off x="1279800" y="2231280"/>
              <a:ext cx="914400" cy="903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946440" y="313164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39320" y="3131640"/>
              <a:ext cx="25128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946440" y="2228760"/>
              <a:ext cx="330120" cy="24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39320" y="2228760"/>
              <a:ext cx="251280" cy="24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6840" y="2133720"/>
              <a:ext cx="208800" cy="2026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81880" y="3017880"/>
              <a:ext cx="202680" cy="2091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0200" y="2449080"/>
              <a:ext cx="9756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96120" y="3106800"/>
              <a:ext cx="10368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49320" y="2475000"/>
              <a:ext cx="99360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2377080"/>
              <a:ext cx="209880" cy="208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1680" y="3354120"/>
              <a:ext cx="20880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15000" y="1600200"/>
            <a:ext cx="2514600" cy="2666880"/>
            <a:chOff x="5715000" y="1600200"/>
            <a:chExt cx="2514600" cy="2666880"/>
          </a:xfrm>
        </p:grpSpPr>
        <p:sp>
          <p:nvSpPr>
            <p:cNvPr id="104" name=""/>
            <p:cNvSpPr/>
            <p:nvPr/>
          </p:nvSpPr>
          <p:spPr>
            <a:xfrm>
              <a:off x="6613560" y="2232000"/>
              <a:ext cx="914400" cy="903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281280" y="313200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273440" y="3132000"/>
              <a:ext cx="2509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281280" y="2228760"/>
              <a:ext cx="3301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73440" y="2228760"/>
              <a:ext cx="2509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0600" y="21337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6720" y="3017880"/>
              <a:ext cx="203040" cy="209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3960" y="2449440"/>
              <a:ext cx="982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29520" y="3106800"/>
              <a:ext cx="1047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3440" y="2475000"/>
              <a:ext cx="99360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2200" y="2378160"/>
              <a:ext cx="21096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5800" y="3354480"/>
              <a:ext cx="20988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7120" y="21337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3352680"/>
              <a:ext cx="209520" cy="208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1520" y="30481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477120" y="2133720"/>
              <a:ext cx="76176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1320" y="28195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4320" y="16765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1600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2057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2920" y="23623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76720" y="2133720"/>
            <a:ext cx="1447560" cy="1428480"/>
            <a:chOff x="3276720" y="2133720"/>
            <a:chExt cx="1447560" cy="1428480"/>
          </a:xfrm>
        </p:grpSpPr>
        <p:sp>
          <p:nvSpPr>
            <p:cNvPr id="133" name=""/>
            <p:cNvSpPr/>
            <p:nvPr/>
          </p:nvSpPr>
          <p:spPr>
            <a:xfrm>
              <a:off x="3718080" y="2232000"/>
              <a:ext cx="914400" cy="903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85800" y="313200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377960" y="3132000"/>
              <a:ext cx="2509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85800" y="2228760"/>
              <a:ext cx="3301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377960" y="2228760"/>
              <a:ext cx="2509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4760" y="21337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21240" y="3017880"/>
              <a:ext cx="203040" cy="209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78120" y="2449440"/>
              <a:ext cx="9864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34040" y="3106800"/>
              <a:ext cx="1047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7600" y="2475000"/>
              <a:ext cx="99396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378160"/>
              <a:ext cx="21096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70320" y="335448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21337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352680"/>
              <a:ext cx="209520" cy="208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680" y="30481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20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23623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960" y="95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Improving Yield of a Chemical Proces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3640" y="6148440"/>
            <a:ext cx="137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22440" y="3024360"/>
          <a:ext cx="789912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024360"/>
                    <a:ext cx="78991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527800" y="2612880"/>
            <a:ext cx="1267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29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33480" y="2444400"/>
            <a:ext cx="5453280" cy="18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t a first order mod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a curvature check to determine next ste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46332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a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actorial Desig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9000" y="1563840"/>
            <a:ext cx="234540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3800" y="22050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3800" y="59389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3800" y="1595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ot the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84640" y="2019240"/>
            <a:ext cx="2894040" cy="239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11800" y="2638440"/>
            <a:ext cx="29196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11800" y="359100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5480" y="3570120"/>
            <a:ext cx="2923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5480" y="2619360"/>
            <a:ext cx="292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2800" y="2927520"/>
            <a:ext cx="291960" cy="5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2040" y="452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3200" y="452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4680" y="3948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4680" y="1990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14680" y="29703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310760" y="34891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09120" y="48830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3440" y="3440160"/>
            <a:ext cx="365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3440" y="2962440"/>
            <a:ext cx="365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86280" y="3605040"/>
            <a:ext cx="3636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3195720"/>
            <a:ext cx="365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0880" y="2660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0880" y="3614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6280" y="2660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75760" y="257796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15320" y="257796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5320" y="352908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77200" y="352728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7240" y="2876400"/>
            <a:ext cx="65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5120" y="65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ing Equ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76160" y="2119320"/>
                <a:ext cx="939492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iginal Unit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erage of Original Unit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nge of Original Unit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4670280" y="4510080"/>
          <a:ext cx="4051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0280" y="4510080"/>
                    <a:ext cx="405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82640" y="4410000"/>
          <a:ext cx="3575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410000"/>
                    <a:ext cx="3575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835200" y="1363680"/>
          <a:ext cx="74386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363680"/>
                    <a:ext cx="74386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571320"/>
            <a:ext cx="8902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 From First Factorial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by Intera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large two factor interactions?  If not, then there is probably not significant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re are many large interaction effects then we should not follow a path of steepest ascent because there is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" y="4662360"/>
            <a:ext cx="7439040" cy="87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.7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9.0, and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*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1.3, so the main effects are larger and thus there is little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080" y="585360"/>
            <a:ext cx="7629480" cy="6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7800" y="1290240"/>
            <a:ext cx="7162560" cy="19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e the average of the factorial points,    , with the average of the center points,      .  If they are close then there is probably no curvatu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0640" y="3222720"/>
            <a:ext cx="236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 Tes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214280" y="491004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972480" y="1314360"/>
                <a:ext cx="952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95880" y="1657440"/>
                <a:ext cx="768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000240" y="3309840"/>
                <a:ext cx="584388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#of points in factorial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#of points in cente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tandard deviation of points in cente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734000" y="4805280"/>
            <a:ext cx="38908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zero is in the confidence interval then there is no evidence of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428920" y="240984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557520" y="368136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598840" y="4722840"/>
            <a:ext cx="379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Evidence of Curvatur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9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68960" y="1677960"/>
            <a:ext cx="2207880" cy="3141720"/>
            <a:chOff x="3468960" y="1677960"/>
            <a:chExt cx="2207880" cy="3141720"/>
          </a:xfrm>
        </p:grpSpPr>
        <p:grpSp>
          <p:nvGrpSpPr>
            <p:cNvPr id="43" name=""/>
            <p:cNvGrpSpPr/>
            <p:nvPr/>
          </p:nvGrpSpPr>
          <p:grpSpPr>
            <a:xfrm>
              <a:off x="3505320" y="1692360"/>
              <a:ext cx="2171520" cy="3127320"/>
              <a:chOff x="3505320" y="1692360"/>
              <a:chExt cx="2171520" cy="3127320"/>
            </a:xfrm>
          </p:grpSpPr>
          <p:sp>
            <p:nvSpPr>
              <p:cNvPr id="44" name=""/>
              <p:cNvSpPr/>
              <p:nvPr/>
            </p:nvSpPr>
            <p:spPr>
              <a:xfrm>
                <a:off x="3505320" y="1692360"/>
                <a:ext cx="1085760" cy="104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91080" y="1692360"/>
                <a:ext cx="1085760" cy="1042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05320" y="2735280"/>
                <a:ext cx="1085760" cy="104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505320" y="3776400"/>
                <a:ext cx="1085760" cy="104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591080" y="2735280"/>
                <a:ext cx="1085760" cy="10411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3468960" y="1677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43640" y="167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7400" y="2698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7400" y="269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7400" y="373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71760" y="4854600"/>
            <a:ext cx="453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 Few Continuous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st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ox, Hunter &amp; Hu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94640" y="833400"/>
            <a:ext cx="6332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t the First Ord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95400" y="2941560"/>
            <a:ext cx="71452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5240" y="1244520"/>
            <a:ext cx="89661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h of Steepest Ascent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 4.50 Units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 2.35 Units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9360" y="3174840"/>
            <a:ext cx="4406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valently, for e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unit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 4.50/2.35=1.9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ts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42080" y="3206880"/>
            <a:ext cx="2705040" cy="260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35640" y="3244680"/>
            <a:ext cx="87480" cy="2148120"/>
            <a:chOff x="6335640" y="3244680"/>
            <a:chExt cx="87480" cy="2148120"/>
          </a:xfrm>
        </p:grpSpPr>
        <p:sp>
          <p:nvSpPr>
            <p:cNvPr id="220" name=""/>
            <p:cNvSpPr/>
            <p:nvPr/>
          </p:nvSpPr>
          <p:spPr>
            <a:xfrm>
              <a:off x="6335640" y="3244680"/>
              <a:ext cx="87480" cy="176400"/>
            </a:xfrm>
            <a:custGeom>
              <a:avLst/>
              <a:gdLst/>
              <a:ahLst/>
              <a:rect l="l" t="t" r="r" b="b"/>
              <a:pathLst>
                <a:path w="55" h="111">
                  <a:moveTo>
                    <a:pt x="23" y="0"/>
                  </a:moveTo>
                  <a:lnTo>
                    <a:pt x="55" y="111"/>
                  </a:lnTo>
                  <a:lnTo>
                    <a:pt x="23" y="111"/>
                  </a:lnTo>
                  <a:lnTo>
                    <a:pt x="0" y="1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2360" y="3421080"/>
              <a:ext cx="144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72360" y="5342040"/>
            <a:ext cx="2149200" cy="88920"/>
            <a:chOff x="6372360" y="5342040"/>
            <a:chExt cx="2149200" cy="88920"/>
          </a:xfrm>
        </p:grpSpPr>
        <p:sp>
          <p:nvSpPr>
            <p:cNvPr id="223" name=""/>
            <p:cNvSpPr/>
            <p:nvPr/>
          </p:nvSpPr>
          <p:spPr>
            <a:xfrm>
              <a:off x="8345520" y="5342040"/>
              <a:ext cx="176040" cy="8892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111" y="32"/>
                  </a:moveTo>
                  <a:lnTo>
                    <a:pt x="0" y="56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72360" y="5392800"/>
              <a:ext cx="19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232760" y="3813120"/>
            <a:ext cx="1440" cy="15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813120"/>
            <a:ext cx="86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73800" y="3813120"/>
            <a:ext cx="858960" cy="1579680"/>
            <a:chOff x="6373800" y="3813120"/>
            <a:chExt cx="858960" cy="1579680"/>
          </a:xfrm>
        </p:grpSpPr>
        <p:sp>
          <p:nvSpPr>
            <p:cNvPr id="228" name=""/>
            <p:cNvSpPr/>
            <p:nvPr/>
          </p:nvSpPr>
          <p:spPr>
            <a:xfrm>
              <a:off x="7105680" y="3813120"/>
              <a:ext cx="127080" cy="17784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80" y="0"/>
                  </a:moveTo>
                  <a:lnTo>
                    <a:pt x="48" y="112"/>
                  </a:lnTo>
                  <a:lnTo>
                    <a:pt x="24" y="96"/>
                  </a:lnTo>
                  <a:lnTo>
                    <a:pt x="0" y="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373800" y="3967200"/>
              <a:ext cx="770040" cy="14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139160" y="549432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53960" y="375120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4400" y="545616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76920" y="5619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26240" y="4722480"/>
            <a:ext cx="144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72360" y="4722840"/>
            <a:ext cx="36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0760" y="461016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4080" y="54943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82560" y="32194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89120" y="33829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ath in the Original Fac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59080" y="2211480"/>
            <a:ext cx="3059280" cy="26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3920" y="366876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03920" y="428940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56120" y="4276800"/>
            <a:ext cx="19836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56120" y="365616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6640" y="3857760"/>
            <a:ext cx="198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35080" y="3285720"/>
            <a:ext cx="1464120" cy="1464120"/>
            <a:chOff x="3835080" y="3285720"/>
            <a:chExt cx="1464120" cy="1464120"/>
          </a:xfrm>
        </p:grpSpPr>
        <p:sp>
          <p:nvSpPr>
            <p:cNvPr id="248" name=""/>
            <p:cNvSpPr/>
            <p:nvPr/>
          </p:nvSpPr>
          <p:spPr>
            <a:xfrm rot="484200">
              <a:off x="3919320" y="336996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1280" y="417132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2000" y="386064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0080" y="360612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2880" y="342360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0472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644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960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132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77240" y="4522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7240" y="1971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7240" y="2608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7240" y="3246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77240" y="3884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337760" y="3392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49800" y="52484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02080" y="41911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2080" y="38797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2120" y="42991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02080" y="40323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16520" y="3683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16520" y="430524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02120" y="3683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26160" y="362916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37320" y="362916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37320" y="42498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27600" y="42480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9000" y="382428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616280" y="2626920"/>
            <a:ext cx="971640" cy="14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00" y="63504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ing Equ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209680"/>
          <a:ext cx="357480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3574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794120" y="2152800"/>
          <a:ext cx="405144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4120" y="2152800"/>
                    <a:ext cx="405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914480" y="4308480"/>
          <a:ext cx="516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4480" y="4308480"/>
                    <a:ext cx="516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454040" y="5375160"/>
          <a:ext cx="608328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4040" y="5375160"/>
                    <a:ext cx="6083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11040" y="3733920"/>
            <a:ext cx="836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217600" y="2349360"/>
          <a:ext cx="596772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7600" y="2349360"/>
                    <a:ext cx="596772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833400" y="3917880"/>
          <a:ext cx="1362240" cy="1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3400" y="3917880"/>
                    <a:ext cx="13622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853920" y="4157640"/>
          <a:ext cx="152424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920" y="4157640"/>
                    <a:ext cx="15242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799920"/>
            <a:ext cx="908676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ints on the Path of Steepest Asc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90920" y="1208160"/>
            <a:ext cx="4495680" cy="42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301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81600" y="1565280"/>
            <a:ext cx="5414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8840" y="2741760"/>
            <a:ext cx="5270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333600" y="4011480"/>
            <a:ext cx="1162080" cy="1041120"/>
            <a:chOff x="3333600" y="4011480"/>
            <a:chExt cx="1162080" cy="1041120"/>
          </a:xfrm>
        </p:grpSpPr>
        <p:sp>
          <p:nvSpPr>
            <p:cNvPr id="325" name=""/>
            <p:cNvSpPr/>
            <p:nvPr/>
          </p:nvSpPr>
          <p:spPr>
            <a:xfrm>
              <a:off x="3733920" y="479880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4487400"/>
              <a:ext cx="247680" cy="1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33600" y="490680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33920" y="46400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48000" y="42908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48000" y="491292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33600" y="42908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9280" y="4011480"/>
              <a:ext cx="24732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55840" y="3962520"/>
            <a:ext cx="4424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loring the Path of Steepest As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56000" y="2120760"/>
            <a:ext cx="1650960" cy="12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135080"/>
            <a:ext cx="4495680" cy="42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348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5120" y="251928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4799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44877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33600" y="490680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64040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480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48000" y="491328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336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25960" y="326556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80160" y="326556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80160" y="198900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5960" y="1989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cond Fac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660680" y="1306440"/>
          <a:ext cx="582444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306440"/>
                    <a:ext cx="582444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902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 of Second Factorial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by Intera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8720" y="2328840"/>
            <a:ext cx="7439040" cy="123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4.05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.65, and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*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9.75, so the interaction term is the largest, so there appears to be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35040" y="406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w Scaling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435400" y="2629080"/>
          <a:ext cx="36064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2629080"/>
                    <a:ext cx="36064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2451240" y="4191120"/>
          <a:ext cx="40510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1240" y="4191120"/>
                    <a:ext cx="4051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6600" y="1392120"/>
            <a:ext cx="1895400" cy="154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392120"/>
            <a:ext cx="1895400" cy="154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2935440"/>
            <a:ext cx="1895400" cy="15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76600" y="4476600"/>
            <a:ext cx="1895400" cy="154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935440"/>
            <a:ext cx="1895400" cy="1541160"/>
          </a:xfrm>
          <a:prstGeom prst="rect">
            <a:avLst/>
          </a:prstGeom>
          <a:solidFill>
            <a:srgbClr val="91919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5616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376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06920" y="288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9440" y="288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6920" y="4414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48240" y="3314880"/>
            <a:ext cx="222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Center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Composite 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x-Behnken D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87720" y="274320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92560" y="18540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97280" y="265428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40280" y="35434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40280" y="17272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2120760"/>
            <a:ext cx="1650960" cy="12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22960" y="26416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135080"/>
            <a:ext cx="4495680" cy="42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411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5120" y="251928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7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4799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3920" y="44877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3600" y="490680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464040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480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48000" y="491328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336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25960" y="326556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0160" y="326556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80160" y="198900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25960" y="1989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entral Composite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2120" y="261000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57800" y="2610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5120" y="349884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5120" y="170820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2201760" y="932040"/>
          <a:ext cx="4311720" cy="51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932040"/>
                    <a:ext cx="4311720" cy="51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3952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entral Composite Design and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74680" y="3282840"/>
            <a:ext cx="6743880" cy="1994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932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Use Regression to find the Predictive Eq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34000" y="2308320"/>
            <a:ext cx="689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Model in Coded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76520" y="3619440"/>
          <a:ext cx="57402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19440"/>
                    <a:ext cx="57402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30280" y="3282840"/>
            <a:ext cx="8012160" cy="149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932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Use Regression to find the Predictive Eq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20160" y="2308320"/>
            <a:ext cx="722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Model in Original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85800" y="3625920"/>
                <a:ext cx="7623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rPr>
                            <m:lit/>
                            <m:nor/>
                          </m:rPr>
                          <m:t xml:space="preserve">397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7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47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m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517920" y="373392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60920" y="46227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60920" y="28065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37209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5856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6172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6344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66600" y="52401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1280" y="5238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44120" y="36590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44120" y="4295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44120" y="4933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44120" y="3021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44120" y="23828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1304640" y="39034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55389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95760" y="359892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7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46600" y="43448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00800" y="43448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00800" y="30686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46600" y="30686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343080"/>
            <a:ext cx="840744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tted Surface in the Region of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52760" y="36892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78440" y="368928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95760" y="45784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95760" y="27874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68800" y="2521080"/>
            <a:ext cx="484200" cy="603000"/>
          </a:xfrm>
          <a:custGeom>
            <a:avLst/>
            <a:gdLst/>
            <a:ahLst/>
            <a:rect l="l" t="t" r="r" b="b"/>
            <a:pathLst>
              <a:path w="305" h="380">
                <a:moveTo>
                  <a:pt x="0" y="0"/>
                </a:moveTo>
                <a:lnTo>
                  <a:pt x="43" y="41"/>
                </a:lnTo>
                <a:lnTo>
                  <a:pt x="153" y="138"/>
                </a:lnTo>
                <a:lnTo>
                  <a:pt x="212" y="186"/>
                </a:lnTo>
                <a:lnTo>
                  <a:pt x="305" y="316"/>
                </a:lnTo>
                <a:lnTo>
                  <a:pt x="305" y="332"/>
                </a:lnTo>
                <a:lnTo>
                  <a:pt x="305" y="380"/>
                </a:lnTo>
                <a:lnTo>
                  <a:pt x="153" y="380"/>
                </a:lnTo>
                <a:lnTo>
                  <a:pt x="0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25960" y="1892160"/>
            <a:ext cx="3441600" cy="323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68800" y="1892160"/>
            <a:ext cx="3390840" cy="3235320"/>
            <a:chOff x="3268800" y="1892160"/>
            <a:chExt cx="3390840" cy="3235320"/>
          </a:xfrm>
        </p:grpSpPr>
        <p:sp>
          <p:nvSpPr>
            <p:cNvPr id="495" name=""/>
            <p:cNvSpPr/>
            <p:nvPr/>
          </p:nvSpPr>
          <p:spPr>
            <a:xfrm>
              <a:off x="3268800" y="2521080"/>
              <a:ext cx="484200" cy="603000"/>
            </a:xfrm>
            <a:custGeom>
              <a:avLst/>
              <a:gdLst/>
              <a:ahLst/>
              <a:rect l="l" t="t" r="r" b="b"/>
              <a:pathLst>
                <a:path w="305" h="380">
                  <a:moveTo>
                    <a:pt x="0" y="0"/>
                  </a:moveTo>
                  <a:lnTo>
                    <a:pt x="43" y="41"/>
                  </a:lnTo>
                  <a:lnTo>
                    <a:pt x="153" y="138"/>
                  </a:lnTo>
                  <a:lnTo>
                    <a:pt x="212" y="186"/>
                  </a:lnTo>
                  <a:lnTo>
                    <a:pt x="305" y="316"/>
                  </a:lnTo>
                  <a:lnTo>
                    <a:pt x="305" y="332"/>
                  </a:lnTo>
                  <a:lnTo>
                    <a:pt x="305" y="380"/>
                  </a:lnTo>
                  <a:lnTo>
                    <a:pt x="153" y="380"/>
                  </a:lnTo>
                  <a:lnTo>
                    <a:pt x="0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68800" y="2021040"/>
              <a:ext cx="2557440" cy="2450880"/>
            </a:xfrm>
            <a:custGeom>
              <a:avLst/>
              <a:gdLst/>
              <a:ahLst/>
              <a:rect l="l" t="t" r="r" b="b"/>
              <a:pathLst>
                <a:path w="1611" h="1544">
                  <a:moveTo>
                    <a:pt x="0" y="0"/>
                  </a:moveTo>
                  <a:lnTo>
                    <a:pt x="102" y="65"/>
                  </a:lnTo>
                  <a:lnTo>
                    <a:pt x="153" y="97"/>
                  </a:lnTo>
                  <a:lnTo>
                    <a:pt x="305" y="202"/>
                  </a:lnTo>
                  <a:lnTo>
                    <a:pt x="314" y="210"/>
                  </a:lnTo>
                  <a:lnTo>
                    <a:pt x="458" y="307"/>
                  </a:lnTo>
                  <a:lnTo>
                    <a:pt x="517" y="356"/>
                  </a:lnTo>
                  <a:lnTo>
                    <a:pt x="611" y="420"/>
                  </a:lnTo>
                  <a:lnTo>
                    <a:pt x="712" y="501"/>
                  </a:lnTo>
                  <a:lnTo>
                    <a:pt x="763" y="542"/>
                  </a:lnTo>
                  <a:lnTo>
                    <a:pt x="890" y="647"/>
                  </a:lnTo>
                  <a:lnTo>
                    <a:pt x="916" y="663"/>
                  </a:lnTo>
                  <a:lnTo>
                    <a:pt x="1068" y="792"/>
                  </a:lnTo>
                  <a:lnTo>
                    <a:pt x="1068" y="792"/>
                  </a:lnTo>
                  <a:lnTo>
                    <a:pt x="1221" y="922"/>
                  </a:lnTo>
                  <a:lnTo>
                    <a:pt x="1229" y="938"/>
                  </a:lnTo>
                  <a:lnTo>
                    <a:pt x="1373" y="1067"/>
                  </a:lnTo>
                  <a:lnTo>
                    <a:pt x="1382" y="1083"/>
                  </a:lnTo>
                  <a:lnTo>
                    <a:pt x="1509" y="1229"/>
                  </a:lnTo>
                  <a:lnTo>
                    <a:pt x="1526" y="1245"/>
                  </a:lnTo>
                  <a:lnTo>
                    <a:pt x="1611" y="1375"/>
                  </a:lnTo>
                  <a:lnTo>
                    <a:pt x="1594" y="1520"/>
                  </a:lnTo>
                  <a:lnTo>
                    <a:pt x="1526" y="1544"/>
                  </a:lnTo>
                  <a:lnTo>
                    <a:pt x="1373" y="1536"/>
                  </a:lnTo>
                  <a:lnTo>
                    <a:pt x="1297" y="1520"/>
                  </a:lnTo>
                  <a:lnTo>
                    <a:pt x="1221" y="1512"/>
                  </a:lnTo>
                  <a:lnTo>
                    <a:pt x="1068" y="1455"/>
                  </a:lnTo>
                  <a:lnTo>
                    <a:pt x="916" y="1399"/>
                  </a:lnTo>
                  <a:lnTo>
                    <a:pt x="848" y="1375"/>
                  </a:lnTo>
                  <a:lnTo>
                    <a:pt x="763" y="1342"/>
                  </a:lnTo>
                  <a:lnTo>
                    <a:pt x="611" y="1269"/>
                  </a:lnTo>
                  <a:lnTo>
                    <a:pt x="509" y="1229"/>
                  </a:lnTo>
                  <a:lnTo>
                    <a:pt x="458" y="1205"/>
                  </a:lnTo>
                  <a:lnTo>
                    <a:pt x="305" y="1132"/>
                  </a:lnTo>
                  <a:lnTo>
                    <a:pt x="212" y="1083"/>
                  </a:lnTo>
                  <a:lnTo>
                    <a:pt x="153" y="1051"/>
                  </a:lnTo>
                  <a:lnTo>
                    <a:pt x="0" y="9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68800" y="3921120"/>
              <a:ext cx="2516040" cy="1206360"/>
            </a:xfrm>
            <a:custGeom>
              <a:avLst/>
              <a:gdLst/>
              <a:ahLst/>
              <a:rect l="l" t="t" r="r" b="b"/>
              <a:pathLst>
                <a:path w="1585" h="760">
                  <a:moveTo>
                    <a:pt x="0" y="0"/>
                  </a:moveTo>
                  <a:lnTo>
                    <a:pt x="60" y="32"/>
                  </a:lnTo>
                  <a:lnTo>
                    <a:pt x="153" y="81"/>
                  </a:lnTo>
                  <a:lnTo>
                    <a:pt x="305" y="161"/>
                  </a:lnTo>
                  <a:lnTo>
                    <a:pt x="331" y="178"/>
                  </a:lnTo>
                  <a:lnTo>
                    <a:pt x="458" y="242"/>
                  </a:lnTo>
                  <a:lnTo>
                    <a:pt x="611" y="315"/>
                  </a:lnTo>
                  <a:lnTo>
                    <a:pt x="619" y="323"/>
                  </a:lnTo>
                  <a:lnTo>
                    <a:pt x="763" y="396"/>
                  </a:lnTo>
                  <a:lnTo>
                    <a:pt x="916" y="469"/>
                  </a:lnTo>
                  <a:lnTo>
                    <a:pt x="916" y="469"/>
                  </a:lnTo>
                  <a:lnTo>
                    <a:pt x="1068" y="533"/>
                  </a:lnTo>
                  <a:lnTo>
                    <a:pt x="1221" y="606"/>
                  </a:lnTo>
                  <a:lnTo>
                    <a:pt x="1238" y="614"/>
                  </a:lnTo>
                  <a:lnTo>
                    <a:pt x="1373" y="663"/>
                  </a:lnTo>
                  <a:lnTo>
                    <a:pt x="1526" y="727"/>
                  </a:lnTo>
                  <a:lnTo>
                    <a:pt x="1585" y="7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68800" y="4176720"/>
              <a:ext cx="1803240" cy="950760"/>
            </a:xfrm>
            <a:custGeom>
              <a:avLst/>
              <a:gdLst/>
              <a:ahLst/>
              <a:rect l="l" t="t" r="r" b="b"/>
              <a:pathLst>
                <a:path w="1136" h="599">
                  <a:moveTo>
                    <a:pt x="0" y="0"/>
                  </a:moveTo>
                  <a:lnTo>
                    <a:pt x="17" y="17"/>
                  </a:lnTo>
                  <a:lnTo>
                    <a:pt x="153" y="89"/>
                  </a:lnTo>
                  <a:lnTo>
                    <a:pt x="280" y="162"/>
                  </a:lnTo>
                  <a:lnTo>
                    <a:pt x="305" y="170"/>
                  </a:lnTo>
                  <a:lnTo>
                    <a:pt x="458" y="251"/>
                  </a:lnTo>
                  <a:lnTo>
                    <a:pt x="560" y="308"/>
                  </a:lnTo>
                  <a:lnTo>
                    <a:pt x="611" y="332"/>
                  </a:lnTo>
                  <a:lnTo>
                    <a:pt x="763" y="413"/>
                  </a:lnTo>
                  <a:lnTo>
                    <a:pt x="839" y="453"/>
                  </a:lnTo>
                  <a:lnTo>
                    <a:pt x="916" y="486"/>
                  </a:lnTo>
                  <a:lnTo>
                    <a:pt x="1068" y="558"/>
                  </a:lnTo>
                  <a:lnTo>
                    <a:pt x="1136" y="5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19440" y="1892160"/>
              <a:ext cx="3040200" cy="2324160"/>
            </a:xfrm>
            <a:custGeom>
              <a:avLst/>
              <a:gdLst/>
              <a:ahLst/>
              <a:rect l="l" t="t" r="r" b="b"/>
              <a:pathLst>
                <a:path w="1915" h="1464">
                  <a:moveTo>
                    <a:pt x="1915" y="1464"/>
                  </a:moveTo>
                  <a:lnTo>
                    <a:pt x="1898" y="1456"/>
                  </a:lnTo>
                  <a:lnTo>
                    <a:pt x="1763" y="1318"/>
                  </a:lnTo>
                  <a:lnTo>
                    <a:pt x="1746" y="1310"/>
                  </a:lnTo>
                  <a:lnTo>
                    <a:pt x="1610" y="1189"/>
                  </a:lnTo>
                  <a:lnTo>
                    <a:pt x="1576" y="1164"/>
                  </a:lnTo>
                  <a:lnTo>
                    <a:pt x="1458" y="1059"/>
                  </a:lnTo>
                  <a:lnTo>
                    <a:pt x="1398" y="1019"/>
                  </a:lnTo>
                  <a:lnTo>
                    <a:pt x="1305" y="938"/>
                  </a:lnTo>
                  <a:lnTo>
                    <a:pt x="1220" y="873"/>
                  </a:lnTo>
                  <a:lnTo>
                    <a:pt x="1152" y="817"/>
                  </a:lnTo>
                  <a:lnTo>
                    <a:pt x="1034" y="728"/>
                  </a:lnTo>
                  <a:lnTo>
                    <a:pt x="1000" y="704"/>
                  </a:lnTo>
                  <a:lnTo>
                    <a:pt x="847" y="590"/>
                  </a:lnTo>
                  <a:lnTo>
                    <a:pt x="839" y="582"/>
                  </a:lnTo>
                  <a:lnTo>
                    <a:pt x="695" y="477"/>
                  </a:lnTo>
                  <a:lnTo>
                    <a:pt x="635" y="437"/>
                  </a:lnTo>
                  <a:lnTo>
                    <a:pt x="542" y="364"/>
                  </a:lnTo>
                  <a:lnTo>
                    <a:pt x="432" y="291"/>
                  </a:lnTo>
                  <a:lnTo>
                    <a:pt x="390" y="259"/>
                  </a:lnTo>
                  <a:lnTo>
                    <a:pt x="237" y="154"/>
                  </a:lnTo>
                  <a:lnTo>
                    <a:pt x="220" y="146"/>
                  </a:lnTo>
                  <a:lnTo>
                    <a:pt x="84" y="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35600" y="1892160"/>
              <a:ext cx="2624040" cy="1900440"/>
            </a:xfrm>
            <a:custGeom>
              <a:avLst/>
              <a:gdLst/>
              <a:ahLst/>
              <a:rect l="l" t="t" r="r" b="b"/>
              <a:pathLst>
                <a:path w="1653" h="1197">
                  <a:moveTo>
                    <a:pt x="1653" y="1197"/>
                  </a:moveTo>
                  <a:lnTo>
                    <a:pt x="1602" y="1164"/>
                  </a:lnTo>
                  <a:lnTo>
                    <a:pt x="1501" y="1076"/>
                  </a:lnTo>
                  <a:lnTo>
                    <a:pt x="1416" y="1019"/>
                  </a:lnTo>
                  <a:lnTo>
                    <a:pt x="1348" y="962"/>
                  </a:lnTo>
                  <a:lnTo>
                    <a:pt x="1229" y="873"/>
                  </a:lnTo>
                  <a:lnTo>
                    <a:pt x="1196" y="841"/>
                  </a:lnTo>
                  <a:lnTo>
                    <a:pt x="1043" y="728"/>
                  </a:lnTo>
                  <a:lnTo>
                    <a:pt x="1035" y="728"/>
                  </a:lnTo>
                  <a:lnTo>
                    <a:pt x="890" y="615"/>
                  </a:lnTo>
                  <a:lnTo>
                    <a:pt x="840" y="582"/>
                  </a:lnTo>
                  <a:lnTo>
                    <a:pt x="738" y="509"/>
                  </a:lnTo>
                  <a:lnTo>
                    <a:pt x="636" y="437"/>
                  </a:lnTo>
                  <a:lnTo>
                    <a:pt x="585" y="396"/>
                  </a:lnTo>
                  <a:lnTo>
                    <a:pt x="433" y="291"/>
                  </a:lnTo>
                  <a:lnTo>
                    <a:pt x="424" y="291"/>
                  </a:lnTo>
                  <a:lnTo>
                    <a:pt x="280" y="186"/>
                  </a:lnTo>
                  <a:lnTo>
                    <a:pt x="212" y="146"/>
                  </a:lnTo>
                  <a:lnTo>
                    <a:pt x="128" y="8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Models can only take certain for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7720" y="273384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51760" y="273384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22960" y="273384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9240" y="27338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14600" y="3422520"/>
            <a:ext cx="1511280" cy="1333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572000" y="3498840"/>
            <a:ext cx="1511280" cy="1333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6769080" y="3537000"/>
            <a:ext cx="1460520" cy="1257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723960" y="3492360"/>
            <a:ext cx="1422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33240" y="6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onical Analy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203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ables us to analyze systems of maxima and minima in many dimensions and, in particular to identify complicated ridge systems, where direct geometric representation is not possibl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Dimensional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44600" y="1620720"/>
            <a:ext cx="2387520" cy="2664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211800" y="1595520"/>
            <a:ext cx="2370240" cy="2689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289320" y="305424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329000" y="1593720"/>
            <a:ext cx="7920" cy="27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65800" y="1486080"/>
            <a:ext cx="237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19440" y="155736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654360" y="1693800"/>
            <a:ext cx="1041480" cy="2078280"/>
            <a:chOff x="3654360" y="1693800"/>
            <a:chExt cx="1041480" cy="2078280"/>
          </a:xfrm>
        </p:grpSpPr>
        <p:sp>
          <p:nvSpPr>
            <p:cNvPr id="520" name=""/>
            <p:cNvSpPr/>
            <p:nvPr/>
          </p:nvSpPr>
          <p:spPr>
            <a:xfrm>
              <a:off x="3654360" y="1700280"/>
              <a:ext cx="1041480" cy="207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11760" y="2232000"/>
              <a:ext cx="500040" cy="97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4146480" y="1693800"/>
              <a:ext cx="33480" cy="1019160"/>
              <a:chOff x="4146480" y="1693800"/>
              <a:chExt cx="33480" cy="1019160"/>
            </a:xfrm>
          </p:grpSpPr>
          <p:sp>
            <p:nvSpPr>
              <p:cNvPr id="523" name=""/>
              <p:cNvSpPr/>
              <p:nvPr/>
            </p:nvSpPr>
            <p:spPr>
              <a:xfrm>
                <a:off x="4146480" y="169380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8" y="0"/>
                    </a:moveTo>
                    <a:lnTo>
                      <a:pt x="20" y="25"/>
                    </a:lnTo>
                    <a:lnTo>
                      <a:pt x="8" y="17"/>
                    </a:lnTo>
                    <a:lnTo>
                      <a:pt x="0" y="2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46480" y="267984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8" y="2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0" y="0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70240" y="1735200"/>
                <a:ext cx="0" cy="9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324320" y="2563920"/>
              <a:ext cx="20016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32880" y="2505240"/>
              <a:ext cx="2332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52680" y="2540160"/>
              <a:ext cx="330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6120" y="2592360"/>
              <a:ext cx="2134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24360" y="2066760"/>
              <a:ext cx="2095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28240" y="2003400"/>
              <a:ext cx="365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16880" y="2073240"/>
              <a:ext cx="2196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32240" y="2573280"/>
              <a:ext cx="2095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36120" y="2509920"/>
              <a:ext cx="365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23320" y="2579760"/>
              <a:ext cx="2196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164120" y="2706840"/>
              <a:ext cx="531720" cy="33120"/>
              <a:chOff x="4164120" y="2706840"/>
              <a:chExt cx="531720" cy="33120"/>
            </a:xfrm>
          </p:grpSpPr>
          <p:sp>
            <p:nvSpPr>
              <p:cNvPr id="537" name=""/>
              <p:cNvSpPr/>
              <p:nvPr/>
            </p:nvSpPr>
            <p:spPr>
              <a:xfrm>
                <a:off x="4164120" y="27068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8"/>
                    </a:moveTo>
                    <a:lnTo>
                      <a:pt x="26" y="0"/>
                    </a:lnTo>
                    <a:lnTo>
                      <a:pt x="17" y="8"/>
                    </a:lnTo>
                    <a:lnTo>
                      <a:pt x="26" y="2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53000" y="27068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8"/>
                    </a:moveTo>
                    <a:lnTo>
                      <a:pt x="0" y="20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2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05160" y="2730600"/>
                <a:ext cx="45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5372280" y="3112920"/>
            <a:ext cx="237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27360" y="318276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259092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6516720" y="4545000"/>
          <a:ext cx="1581120" cy="2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545000"/>
                    <a:ext cx="15811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457200" y="4543560"/>
          <a:ext cx="234792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543560"/>
                    <a:ext cx="2347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434960" y="1847880"/>
            <a:ext cx="95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50960" y="2914560"/>
            <a:ext cx="1778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178760" y="3025800"/>
          <a:ext cx="142920" cy="15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78760" y="3025800"/>
                    <a:ext cx="14292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3565080" y="494820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348000" y="4543560"/>
                <a:ext cx="2211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1022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Response Su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28880" y="253692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two quadratic surfaces with the same eigenvalues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s) are just shifted and rotated versions of each oth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ersion which is located at the origin and oriented along the axes is easy to interpret without plo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mportance of the Eigenval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71280" y="2247480"/>
            <a:ext cx="7296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hape of the surface is determined by the signs and magnitudes of the eigenval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23880" y="3809880"/>
            <a:ext cx="485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87800" y="33591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17760" y="42670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17760" y="47242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17760" y="51814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36520" y="3400560"/>
            <a:ext cx="18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of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91480" y="385776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00320" y="431496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7000" y="477216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95240" y="519120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01880" y="3375000"/>
            <a:ext cx="151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71040" y="3857760"/>
            <a:ext cx="27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eigenvalue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71040" y="4314960"/>
            <a:ext cx="522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igenvalues positive and some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71400" y="4772160"/>
            <a:ext cx="283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eigenvalue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71400" y="5191200"/>
            <a:ext cx="325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least one eigenvalue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4520" y="20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6160" y="4413240"/>
            <a:ext cx="6935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ategy of Experimental Design for finding optimum setting for factors. (Box and Wilson, 19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9040" y="12380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onary Ridges in a Response Surfa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42640" y="2457000"/>
            <a:ext cx="674388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stationary ridges can often be exploited to maintain high quality while reducing cost or complex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08560" y="3811680"/>
            <a:ext cx="1725480" cy="1670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044800" y="3887640"/>
            <a:ext cx="175248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3280" y="152280"/>
            <a:ext cx="441936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2216160"/>
            <a:ext cx="248292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4680" y="2265480"/>
            <a:ext cx="2549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iminate Inactive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19440" y="26924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83160" y="2225520"/>
            <a:ext cx="311148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30600" y="2265480"/>
            <a:ext cx="321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Res 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79800" y="81756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23920" y="7794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0560" y="2927520"/>
            <a:ext cx="2597400" cy="444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9560" y="2976480"/>
            <a:ext cx="275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Path of Steepest A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19440" y="339732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25800" y="2870280"/>
            <a:ext cx="4426200" cy="55872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35600" y="2854440"/>
            <a:ext cx="4206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Higher Resolution from projection or additional ru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30400" y="3673440"/>
            <a:ext cx="137772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54160" y="3713040"/>
            <a:ext cx="133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 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19440" y="412128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73680" y="3673440"/>
            <a:ext cx="433044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5880" y="3713040"/>
            <a:ext cx="422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gle Experiments until Improvement s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4317840"/>
            <a:ext cx="160668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0600" y="4367160"/>
            <a:ext cx="1597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19440" y="4788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2640" y="4270320"/>
            <a:ext cx="5492520" cy="53964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3720" y="4245120"/>
            <a:ext cx="567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er Points (Curvature Che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Res &gt; III)  (Interactions &gt; Main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15920" y="5118120"/>
            <a:ext cx="160668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63720" y="5167440"/>
            <a:ext cx="171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40200" y="5060880"/>
            <a:ext cx="2597400" cy="55872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89440" y="5045040"/>
            <a:ext cx="2698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 Composite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t Full Quadratic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19440" y="5511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9160" y="5861160"/>
            <a:ext cx="228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inued on Next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80880" y="1479240"/>
            <a:ext cx="0" cy="399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7360" y="1486080"/>
            <a:ext cx="1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74760" y="455292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0560" y="1324080"/>
            <a:ext cx="2597400" cy="615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9440" y="1949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83080" y="1419120"/>
            <a:ext cx="151128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8400" y="1459080"/>
            <a:ext cx="152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4640" y="1336680"/>
            <a:ext cx="247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Factors and Leve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93480" y="241920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80880" y="50605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7160" y="1378080"/>
            <a:ext cx="1949400" cy="653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1560" y="1407960"/>
            <a:ext cx="2054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 the shape of the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560" y="49356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3960" y="4366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94080" y="1263600"/>
            <a:ext cx="532116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89400" y="1293840"/>
            <a:ext cx="5521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onic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Form if Stationary Point is outside Experimen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-Form if Stationary Point is inside Experimen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62000" y="996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65320" y="2311560"/>
            <a:ext cx="1949400" cy="1091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79360" y="2341440"/>
            <a:ext cx="20545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out what the optimum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, Line, Plan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00160" y="204480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32240" y="2635200"/>
            <a:ext cx="455940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9400" y="2703600"/>
            <a:ext cx="552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Canonical Form with the DLR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00160" y="341640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27160" y="3683160"/>
            <a:ext cx="1987560" cy="615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1560" y="3713040"/>
            <a:ext cx="2054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ere is a rising ridge, then follow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70400" y="3664080"/>
            <a:ext cx="5207040" cy="635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65360" y="3713040"/>
            <a:ext cx="552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e the reduced model back and optimum formula back to original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58720" y="4851360"/>
            <a:ext cx="5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39640" y="1060200"/>
            <a:ext cx="1296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19640" y="4807080"/>
            <a:ext cx="5206680" cy="635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40160" y="4856040"/>
            <a:ext cx="552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e the reduced model back and optimum formula back to original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00160" y="42926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27160" y="4597560"/>
            <a:ext cx="2178000" cy="1187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41560" y="4627440"/>
            <a:ext cx="21812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ere is a stationary ridge, then find the cheapest place that is opti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4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you are a long way from the top of the mountain, a slope may be a good approx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probably use first–order designs that fit a linear approx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you are close to an optimum you need quadratic models and second–order designs to model curv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onse Surfa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65320" y="2406600"/>
            <a:ext cx="28450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 Order Strate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82880" y="2432160"/>
            <a:ext cx="3124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rder Strate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35160" y="2546280"/>
            <a:ext cx="29084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Models can only take certain for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7720" y="273384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1760" y="273384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22960" y="273384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19240" y="27338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4600" y="3422520"/>
            <a:ext cx="1511280" cy="133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3498840"/>
            <a:ext cx="15112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69080" y="3537000"/>
            <a:ext cx="1460520" cy="125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23960" y="3492360"/>
            <a:ext cx="1422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2T23:09:46Z</dcterms:created>
  <dc:creator/>
  <dc:description/>
  <dc:language>en-US</dc:language>
  <cp:lastModifiedBy>Kiamkia</cp:lastModifiedBy>
  <cp:lastPrinted>1998-04-09T00:13:34Z</cp:lastPrinted>
  <dcterms:modified xsi:type="dcterms:W3CDTF">2002-02-08T23:19:30Z</dcterms:modified>
  <cp:revision>59</cp:revision>
  <dc:subject/>
  <dc:title>Blocking Fractional Factorials and  Factors with More than 2 Levels</dc:title>
</cp:coreProperties>
</file>