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CF29-1076-4639-86F5-D63F7825F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E877-5AD9-4E8E-822F-C804B26CF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E521-6B6B-4A54-80B6-E4EEDD634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1BFA-7529-4722-9CA0-759D3B023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9DEB-0CBD-4141-A6AA-D87B820F7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5FC2-2871-4D8B-BCAA-8F9CCE065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1AB8-8B47-4F55-95FB-CCB790F95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694C-5063-4FD2-8335-63E29D476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DABB-4507-46EA-B360-4568EC790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3695-F450-4343-87F8-CFD935F30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1DFF-0DCB-45E1-850F-D39125D5A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FEB5-9044-4C55-A95A-83AE56544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3C92-92BF-4E22-A4F6-3A0F661D7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544E6C7-1028-498E-A6E8-C42B1CD65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538A064-0309-4E2C-B179-0ED3FB90A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F71EF8E-5DFA-47BD-B5A8-E4D6CF6683D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B017EA9-C9BB-4EB6-803E-9532DEDFC6B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B6E91-8DB8-4F7A-9E06-C34B9A97E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40B2A-D01B-4E26-9DEB-B29377033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EEA4A-30E4-4730-939D-7AB6D34FB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CCCBF-50D6-4277-BCAE-4919BE0C4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9D384-B222-4705-88EE-7B8E596A4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DB9C0-6649-497B-853B-B09895208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DACDF-2A3E-41EC-8322-71301EA15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22EC0F4-06CC-455F-BF05-215CA911D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981B9-E6E5-40C6-A29A-6FFCE6609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80592-86B4-4CE0-B2D5-1DBAA81AC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5C708-5A02-4C1D-A4CF-B0BA7A113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CCBBA-D984-4025-ACD1-1D233BA9F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BDFF0-D298-47B3-8B99-C01EB8757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C11FD30-7753-406B-997F-5B7265B60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8897425-C812-4D14-A8B6-5DE3E2848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74FF3BC-A5D5-4CB3-B61D-41D945A0A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1B407B0-BE68-4C13-BD66-417A00EBE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5AA784A-5F69-4165-AEEF-A70018B75F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2B30540-D7F0-44BD-BAA8-1F09084BE5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78009A6-3B56-4739-BAA0-FD39D452CFE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8B6B-E69C-469C-B646-EFEC352A671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FB8A-51D9-40FF-8D92-05DA768BC89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5D25-A312-4A09-B85E-74B1240C54D4}" type="datetime3">
              <a:rPr b="0" lang="en-US" sz="900" spc="-1" strike="noStrike">
                <a:solidFill>
                  <a:srgbClr val="4d4d4d"/>
                </a:solidFill>
                <a:latin typeface="Arial"/>
              </a:rPr>
              <a:t>July 31,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0C88-2C47-4571-8E56-F45F05A2E172}"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C4D9-E3B7-41B9-8B02-B4AA2191EAA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051C-1A87-43C0-B7A0-39E6EDD0ECF5}"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6672-449B-43C1-A5FF-D5005BE0982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6DF1-DDF0-40B4-BC38-920E2177276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7214-299A-4154-BE8C-A64D41982F2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BBFB-BEFD-44DD-8079-9B99195B04C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118C-7375-43CC-B6D1-1D627D26111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8779-6D5F-44C3-8659-8D0A8FDC84A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5BC1-E105-41CA-86C3-BF02177FAA4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387A-E5D7-4ECE-A756-DB5B50B81165}"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0699-ACA6-4131-A01A-DCD9BB5736A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7798-FBE4-4BE7-B4FE-677D680BBCE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3025-C054-4972-A600-47EDB1AA4A9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264A-731E-4B94-8244-4579A178DFE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DB73-5982-43B3-A231-2EBB5CE1DC2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E711-2CF4-400C-B454-78672525E0C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1F25-0A53-4195-9EEE-0B059C3FFE0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CB46-E5A6-489B-9B70-DCC7D1B227F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470B-606A-40D9-9003-A8CC9E71D8A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7E75-2FED-48F2-BB20-D2B2CE413BB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AB19-EDB9-4093-BFF9-ED8D03B3CFB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2BB8-8562-4145-87DB-E9A4E813CD25}"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8F7D-7BD5-4B70-867A-DD8880A24F1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8EF1-E184-40E1-B017-09C7FB4C937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8574-76C3-436F-98B4-1A75592E582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5CFD-F4C3-4600-8686-E6B47EF5D80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16F2-0A03-4C1C-9622-3D2F51C5BE4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EC6E-93E6-4DB7-ADA0-DFF85AE7978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5365-5A98-4FCC-A42B-24A05194C82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18FB-7A57-479F-9EB6-05D2338AFFD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98B0-1B0A-423E-9597-9D5F8008817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14FD-B604-484E-86F8-1321BBBBE80C}"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8BA4-1026-49D3-A1E3-2C2899EB56D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A029-6B33-4F3B-900D-BDCB28E70BB2}"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420C-5460-4ADB-939D-7B3DC756E1E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7911-3B8B-4717-834A-9455BEBC143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7984-1433-4217-A28B-DFDB33EA520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941A-B0E5-4A6C-B0F3-D69A871DAF0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7CEC-EA64-47F6-8F62-8FF3F1101FF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EAB9-8515-4712-84DE-5F7C35B4096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7A2E-DCD3-4A15-AE7A-480BE2F08CD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2B1A-B9CE-4373-86AC-8D7B0AFF547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6AA6-F232-4990-B19C-9CC799DAD66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FC1B-077C-404F-9E93-1DD5036ED63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1FAD-BDC8-46BC-BD4B-C4B461004CD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481B-73A5-4E90-A44A-3CF37DB44FA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97A6-78BF-4B33-87DA-FD729EB679C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AA9F-8A97-46C6-A550-25ACA3ADAA0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4BFD-52EB-46CD-BE2E-7997F207A2F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5523-320E-417C-81C3-179D18382EB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C11B-AC38-4969-B76D-9E500A63346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EEE7-58A2-4E0E-9D8B-57A8E346092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4456-A5E2-46D4-8D52-873F1DA063D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3327-58F8-464C-993B-C0CF7038F021}"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56CC-ED06-4939-9C4B-900D302CFE4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94C9-D488-453D-8FE7-FBC47EED6A9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0C56-DDCE-415F-8FF1-54206A00F66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830F-24B2-4AF2-B42B-D754040442A4}"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461A-8274-4302-BD76-6A0EFF100E2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3FE8-C36D-4273-8562-68A784E94E2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62FE-C6B9-4724-A82A-852E8161B02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AFB0-F574-44E0-89A3-8D074D5E36F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1B77-AC6E-4529-96F5-70827A4CAA6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0489-0D34-4868-9D60-9311F31F7BBC}"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9F61-7C8D-4191-B148-F144751A1D3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19C9-F2E7-4D93-95EC-96AF166DADCF}"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CE72-2594-4E0C-8226-25B8F394572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1C57-601C-4030-9DC5-2E1237916460}"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3B6E-E0B0-475C-9973-7F185D0489D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D58C-480C-46C9-9993-45BCE4973CB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D3CC-1320-49AB-82F1-6511E8385EB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9055-2E81-4567-B553-9CF23E0CCDB3}"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49BD-8C77-49D5-8F23-FD594BD321F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E0F8-D177-44F9-8B6C-C1BFE46C13C5}"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9A74-8273-4974-BE5D-B0C41BA4EAB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002B-3836-4DBE-BC46-2974FA047EAD}"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6796-9A92-4873-B475-BF2457EB421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1BFF-D1E6-465A-90DD-EBD79F5B6F1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E236-C7F4-40F6-8CC5-C7A90932AEA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A5E0-683B-448A-9549-512684366ED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AA84-F742-474A-9D22-7E98868365B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9E95-92DD-4A33-A175-441CA2A2431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73CB-CEF9-48D8-8AE1-DFFE9949CE5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4B0E-9420-4706-B3A4-8673AAD582CB}"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4393-0F0C-4197-8DDC-B40D99DD569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C9D0-0561-4475-939A-B79BABD98EC7}"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7DE3-C572-4E4A-A77C-BD29749E61F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E350-388A-4E10-BC76-0271BDF763F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AD84-1905-4880-8E33-69459DB5662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A6D2-726F-4541-9489-0B80EC34C1D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30A8-9BF5-4DEC-A674-E566DFD4233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2384-B442-485E-B081-98342C1CF89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A007-D419-4AFC-A5E0-F4213FC0045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4493-5E93-4029-93E9-105CE6BF8C26}"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8C1B-AB04-4E73-980D-3EF244E2BA6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4B55-03B4-4C80-AC1F-D81FB84752C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872B-BEBB-47F3-8D26-E0CEF8CC74E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26AB-F9DF-41DE-9F6E-4C37467807F9}"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0974-3820-4F18-9706-7AC80F29C78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F69A-8050-4ADF-8CBE-4B29F89AE46A}"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F340-1BB8-4E5D-A635-598DF136AA1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EB56-D5FE-4749-953D-6830732C922B}"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5E7F-E86B-4D28-894E-D4D1B9DF2D0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C22D-65CC-48D6-B199-8374E0921F08}"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97CF-11FB-4237-B266-38BD7C2630A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02A2-9628-4F33-AE14-A5B908E32AEE}" type="datetime3">
              <a:rPr b="0" lang="en-US" sz="800" spc="-1" strike="noStrike">
                <a:solidFill>
                  <a:srgbClr val="4d4d4d"/>
                </a:solidFill>
                <a:latin typeface="Arial"/>
              </a:rPr>
              <a:t>July 31,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