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12BA-ADE2-46A5-8622-4985B7AC0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E72B-D04B-49C1-9723-E53B97461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D578-0BC5-4B03-ACA8-9B1807C65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C71D-BBA0-4DFF-B080-56A6B0074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3939-E360-47F1-8704-F7BC3EA84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0B79-44C8-486A-876D-F13E4C8F5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97A5-20CA-42C2-BD78-09C3F51F4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D290-2548-4830-9717-2B68854DD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047D-7539-4CC6-98DA-BBFAB0F60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D3A6-AC8D-4304-83D8-CF9AD0F99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586A-F1AE-4EE6-AFC1-FF18392C7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2271-78F0-4FAD-96F9-83D2E14D0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C28E-44B0-49D3-B8A5-C880E0286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D23755D-CEB6-4F13-A83A-A83337D50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3F37D39-C575-43A9-BA29-3E024CE7F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BC8A23B-996A-4022-A03E-9E5DF54F459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D7E4D72-1C2D-4C56-8E38-3CC6610DF6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FE11D-2AF8-4D62-9D29-FC5DC033B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2C270-5360-4975-9C06-F0B72C598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C23C4-C1BC-4B71-B5EE-A5267ED9C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E6E2B-3DA8-4DCE-B116-88D47B232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28461-7D18-4CFA-89D5-A30410415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7AC87-5746-4A1D-9BC2-6C578537E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2164B-09ED-449D-B0E0-3426666D5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082CC7D-CC95-4571-8914-87D8FADEE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49691-D3AB-42AE-BD7C-CD7B3FF69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C609B-6712-4047-BB79-C77D61684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3751D-FDC8-4EE4-BDD3-ED6F8EBE9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1FC46-AD01-4486-8D08-6F2ED1F7B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08132-8D47-43DB-A91D-963D9C5C3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EB4059A-FD53-469D-8F65-D65EF34CC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DDC36B5-3619-4422-9918-B82CA82D7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5F4523F-4BE4-4C69-85EB-2F7E33AE5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01D7349-C61E-48F9-A076-42F256027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E57E835-2F1C-49ED-93E3-4117563982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2A85F9B-7191-4C3A-90D6-BCC6DD019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2FB68D-5984-4248-B493-3BBE7197F34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90D7-E4CE-4340-A888-C69D564C4D2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FC23-476B-4A3C-829D-EBC828BDF87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BDE1-037E-4C3B-BBD8-93E81716357B}" type="datetime3">
              <a:rPr b="0" lang="en-US" sz="900" spc="-1" strike="noStrike">
                <a:solidFill>
                  <a:srgbClr val="4d4d4d"/>
                </a:solidFill>
                <a:latin typeface="Arial"/>
              </a:rPr>
              <a:t>July 31,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B693-9065-46EC-B8B7-D0771ABBE687}"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2AC8-BA7C-4445-ADC5-6D3D19C3EF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D7BE-1B5A-4717-9F4A-DB5F33FE566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892C-101A-410A-A7C6-2766C50FC9A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8380-1D3A-47EC-AC1E-E77E1A56131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D003-E7C8-4436-9B68-DCF4E61147E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DE62-AE80-4933-9B9F-6588BB26DEF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837E-C2AA-4961-9D64-412E7F707D2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ABA4-564B-4526-B9FA-C4F54418A49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2CC2-53DA-4C26-A5C4-6CA0384A415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3A59-5914-4C00-89F5-15D6900FB64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B3A4-E0A7-4C8C-9E61-51A1E628DD5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C94E-E81B-4705-90DD-C62F99775F4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34A7-39D8-43F9-ACA9-C8645612F9F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30E7-BD35-461A-82CA-AD37665DFEC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1CB9-44CF-4B71-BF00-31EE97AAFBB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96E7-BD94-44B8-98C0-58156ABD638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ED1C-221E-4CEC-A0F9-6371EB3172E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84D5-992B-4C22-A084-F979F8E6A38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CB27-C41A-49F0-AD3F-9661C74CCF1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E13E-FDAB-47A7-B918-501328AF90C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D294-205B-4B6F-8B50-F2D8EFA007E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3A21-6479-4101-B848-933B02CA821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85E4-BD40-48CA-9BD6-ED437A627DD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C283-ACEF-462B-A3A2-E1F2EEDF63E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8715-0AA3-4A0C-ABFF-E57DAEAA1A2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4A24-A51F-4784-ABBB-FCA9B5B1331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6D3F-45D5-4902-B82D-3144E0DF57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5DF7-7A16-495E-A309-746C98FAAE9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ABBA-EAD3-4AD7-B37F-BB975AC3BA2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32DB-2CAD-448F-ABB9-540330BCA93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655A-F961-4039-8657-AE0FF6C17AA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C2D3-A88C-4896-9B2C-223C3987595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CA64-2B8B-459E-8A7B-7F932C68D5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9110-B2CB-4411-80BE-1A5D8BF42DD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3267-2EC2-4977-B1DD-2BE6F30CC5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809B-7B0A-4275-83B5-5E41913FE79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656A-83D4-4D61-971A-892F469E146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889B-D313-4391-89C0-73443571FD1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396A-000D-4907-BE61-75DA92BC166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2EA8-23FD-4687-B690-FC5E9F59D46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9544-BF71-45EF-A7D2-DD46BD4095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6200-D1EE-4418-B63D-A105A7A2AA6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99DB-74F5-4C75-A907-BA37D3594DA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F007-9C59-455F-8C4F-CD2AA567436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5FCD-CC0E-4D61-88AB-47684AB411A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AA1E-4910-4599-880B-47E9A22978E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559A-6573-43E1-97F5-9F57DD3283C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7C53-B55A-44C3-823E-593D8570595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CEE5-3C04-4F10-A1C6-06B6B263862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E075-7E53-4807-AB43-7A1E9E625D0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26D9-6FC0-4D15-9C3A-CC4733CAA7F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A1CD-9CFE-42CF-A9B1-7A4F3431010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9B21-C0C6-4D82-AB76-52290B4ECD6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C196-571E-4A28-BC9B-91BA57F4831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6EA4-5EED-403E-8DD0-53FD42F5AFC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4DFD-6297-4E65-B141-6A544E56526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77FC-F9E5-4E83-9AE6-63C90647419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1E1D-C7C5-4B4C-AC70-EC1730B22A4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9658-CEBF-484D-9060-9DC28F5EC7C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3C9F-E97E-4C08-B6A3-143654EBCD1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26A3-C52A-4D21-AC74-B190ED9879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B4EE-E1C2-4F1A-B5DE-B28EC1C6684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C39A-0EA6-4D89-8788-86DBFCDB03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0B31-B42E-436C-9360-D9C3D9BAA78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C399-2412-4360-A719-0E6A9EF639E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6167-8B7F-44C8-B670-A1C965EF2B4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28D-E7F7-4478-A7C3-271040DAAB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98AF-BBCF-40B9-82D2-BBAD7BAA980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13B2-011F-4191-AACA-17B3F361550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5096-0ABC-4A4A-AC53-12DB3D3E4D9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1B4E-03C4-4216-8063-BED0A8F0A1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97E3-729A-43CA-8E3D-5BDD0621E03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0A86-26F8-4961-B5DF-880BFB2CEBE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C42F-5735-4F30-A09A-B39A1B598B8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BBA4-34D2-4FBD-8220-5EC4EACAAD9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A129-A65D-40E5-B390-714A72E34DA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6AA9-450B-43C4-84D9-7F480B89E07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A44F-76D7-4014-BF1E-3FE2796814E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617D-8C7D-43D0-A58F-AC7CCD63881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3875-3F0B-475C-8603-355462F2A35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29E8-20A1-4F9F-9E47-97109817BB4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AF1D-305B-423E-AD13-49C6B9241DE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1E6F-FFC8-4DBB-A6B1-1B6CA076D3B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EF87-0D8B-4D10-9DA1-088F49DFD43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E547-A84A-4D38-8B9D-B304F0F85F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E246-81EE-41D2-816B-71BD45BA86F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D652-4242-4CB1-A908-199C5689994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B9C1-5342-40BF-B5A2-05E39749E90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3A06-59F3-4D66-B8A7-7C2BCCE8CA4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9F7C-25EB-45BB-A098-0224851A68B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1749-9592-4E65-9754-A1783AAA95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8CA0-D218-4453-8123-CA9AD685CF6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6B91-6274-461B-8AED-57CFCAB9169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324F-E7E0-4459-B6E3-F6B3E62C265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AA17-C665-4C7A-A9DA-B77A9A2FD26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CD9C-EC83-4742-B1FD-68B8FB8C8EB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4FA3-3B25-4B85-8BF0-1E37C54C55B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1DE9-18CF-4963-8D79-FEA90FD2CAE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205B-9A0D-43F2-B661-3E28A8D4586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7D5F-A003-45D3-9A85-7E90245EE82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A6C0-0C2D-4A34-9150-14386A7FDE0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970B-4F13-4925-8E07-4CC2B3AD97D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7312-3060-4201-B9E9-0B0F9A0DACB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E687-0C12-4207-9CCD-AEA3D9AE522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2D30-3444-4F51-A0C5-9EF8AC10C11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2F52-8CF7-42A7-A9EF-0ECF2D4035E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