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EA6A-318E-4C4C-9CA8-A04C1280B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CBEF-8147-4787-A393-82E7139C0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65E5-8160-4672-BB88-97ED81327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6551-3C9A-4B84-97A0-BADE02126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2D66-E2EC-465A-838A-8564B55E9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379B-75AB-496A-A715-5A919CDF2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4799-CE0F-4DCF-9C15-FBC36BD48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4652-5F1F-4B1E-B71A-73C6C106A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9217-57C8-4697-9F87-78852EB0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0B74-FD41-4FA9-BA34-29307D97F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6511-1DCA-4D8D-8C0F-073CCFF0B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2EC9-ADA0-4E0F-83C2-A9EB683CA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FB98-9908-4D18-B183-D575D39B3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14FB8C0-BCDB-4483-81B9-47BBDE5C9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0ADA060-253E-47D6-BCD8-9EB33B412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6A3A6E2-1C30-4A66-A648-0BF73CC47F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F346631-D338-44FC-803B-63A441F55C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83011-46F5-45A0-988C-857A5559C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A706-29DB-4A4A-9B44-9917AB26D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4FB8-C0DF-4E69-BAC1-879991D33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17F97-2F58-498C-971A-E9AEB5D41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10F39-7D3F-47C4-995D-5382AFF6A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7480-8FD6-4C39-B0B2-0E5874C59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AA897-FEB9-430B-8F43-3191B21A0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B6FD56A-7C81-4DC3-B282-053401C2E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7B7E-4030-4E48-ABC9-460CF7B30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58AA1-8521-4783-BBFC-6291D6255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91D28-D977-4543-89EB-0E81008E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9B031-7FCA-4118-8575-298C69EDA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2460B-2B3E-4A02-A87B-42C63C35C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41EE16B-028A-4EB9-90B1-BB13E402B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D40CF70-E30D-45E8-9BAD-409384991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769C321-182F-4320-B57E-877C613A7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9504CBC-20CD-4214-B810-72DBA77E8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1F8F5E5-F133-4FE7-BC97-11664ADF9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959AFE3-626A-4F29-83FA-E2FFCB5BA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76CCBC7-5525-4B99-93D6-5A589314E2C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A519-F736-4B10-80DF-39A0D30674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F85F-2B0C-4D7D-80E7-C576199B19E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BF81-2AAD-40A3-8D05-F9E9402B89D3}" type="datetime3">
              <a:rPr b="0" lang="en-US" sz="900" spc="-1" strike="noStrike">
                <a:solidFill>
                  <a:srgbClr val="4d4d4d"/>
                </a:solidFill>
                <a:latin typeface="Arial"/>
              </a:rPr>
              <a:t>July 31,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A7B7-91B0-47A0-93FA-87558C88D755}"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A22E-225D-444C-BEF6-4C64B036FAC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6397-7E0A-4529-9E14-8B2517479CC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F5BB-449C-4A37-9A9C-8C9F5892C1C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CBEF-DA46-4EBE-B2CB-94EF8F8946D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1618-2BEA-4323-88D6-5D4478152B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A71B-6EBC-447E-AB5D-54076EE8117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38D4-5175-49C2-BDAC-E8CF7F21F7C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394C-5E34-4EB1-BFE0-81D55503BB8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A5B5-96B0-485D-A6E3-E79321C0A8D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FE7A-F6C6-4D16-A517-B5063AF966B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564B-E642-440D-8E9A-1D1D251245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265C-63A2-49E5-8BFD-A6ED1E326BF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EF1A-0F81-4021-AE99-F9C6555499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C954-6D62-48FD-89A1-5019B07F624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E797-1CAE-4386-BF7D-FBDA1C0877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36B7-85C1-480D-A8D8-16021432AD9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4426-C344-449A-8FD4-B45B8369BE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7621-CC9B-4CB1-BCBD-4400180BCD1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E976-80EF-494C-982E-5F28EF7C768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85C7-79A7-44D5-B9FE-7FE61D0D77D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26FA-3FE9-4A5F-9318-DBCE7E8EACD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6063-EC1B-4A1F-9B6A-C4606AB76D5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4A87-2A74-4566-A7A8-9101EDEDBD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BBAD-9B55-453E-9CA0-DAA6EAA3F6F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8D61-BBC7-493E-B423-ABD77B8520B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54AC-5ABA-41A3-B79A-1BE77B6E782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FFB3-8FBC-4F40-BF0C-8B2B44E12AA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EA96-3368-4DCD-AFAD-EBE3F8B1D3A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7BEB-D44A-4958-9C20-9D097C55CBF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4953-EACC-4D1E-9465-B9DCB5E50CB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9721-00BB-4545-9550-8BDEFCDC66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F174-6850-45BB-A63E-154058D4D19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5A65-AC10-4F67-83B8-2C6EBFB82E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4D0E-C878-4AE7-994C-4D1A9D2250E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CEEB-FAC4-47B2-83F6-8790073E117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1FD7-ED57-4725-899B-0EA25C5AB2F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16E1-64DB-4B38-A1DF-47E56F1D588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D418-7457-4862-9257-F76FBD38B21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06D7-5847-49D1-840B-E6E8487139B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145D-75EB-4FF0-A59F-7BF690B7C93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AD02-24BA-4044-90CC-34F087BDBAF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F4D9-3C54-4417-93A5-464304E3AAD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9B51-899A-4C66-9012-A1EAC0A2C4C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0BDA-D2CF-47A4-B8F8-C214786C0E7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36FD-D2BB-4C56-8980-27DF09EF4A4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0FF0-C189-4CF8-AE7B-6D741E41614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1E15-751D-4B6F-B84B-288781B17FB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F16D-02B5-4C07-A75B-F6224D3C911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DB38-9A1B-4E7E-AF5A-02BB4BC16B2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F095-8147-43F9-886D-22C4408D689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6D98-EB6B-4F62-A983-67FD58E1C9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1292-D40E-4208-A51C-F7CF238C6BD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94F2-7CA8-46AC-90E8-5AA7AF0A00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FB86-2073-44C2-AD9A-B2B8B989A0B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A68D-CF3E-4804-9EAA-6A71BB9FEC7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A634-B0F3-4034-BB09-7EFCE9AE4A8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EAD4-368E-42EF-9AC2-CF09FE6A585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D5E1-CE26-472F-81B8-19E433FA3FE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B10E-4F94-4EB2-A4CA-4283C43B4C4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7A39-5B88-4BC5-92AB-626C8EAB21D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6D93-28B8-4437-A4E2-66A23E7CE2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9F4C-2377-468D-930E-80890DC2603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0196-C9FE-403A-9856-FC7DFCBF90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9D7F-BA75-4F1C-A795-0B0061429A3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6062-BCD9-4E08-88E5-F72C501F6B0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A70C-3358-4E0B-8E2C-34BD84BFE73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A90C-23E5-4EC8-B889-A39FF82779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0504-06AC-4C1D-A87E-E34FD67A1AD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4AC8-0E30-4C19-B67A-622FA5F17A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4599-C912-4C08-B5FD-CB953EAC9B3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A3DC-7CF3-4ADF-BD99-F7CB1DFCB58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B5AB-8704-4B84-878C-6BCEC16ED46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E6DC-77AD-420C-A000-1B7F3D6932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2950-45F5-4655-9C7A-77EFB93C735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3EE2-2902-4793-AAEF-D7A6676E159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AB72-B861-4281-9629-AFB1542129D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3996-F87F-46B0-9668-BBF99BDA103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E623-4122-417C-AC64-9FC5A3B66BE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CBAB-FE7A-4F83-BBE0-BFE4CB43962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665B-E750-45BE-9CA1-057299E6FFE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8510-FE62-46EE-B760-DEDF418B24E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4731-5A37-4BDC-A3EB-5F31F7915ED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7B71-0F35-4415-970F-9F1CDF7270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A619-7F8A-4875-BB6B-D3ED8CCB780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0F43-EEAC-4E30-B4C4-8BEA506A48D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4AB1-AD41-4F22-8EFD-214ECC3200B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D06D-5990-464B-AC83-3CB1E6C7577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0797-7512-45A0-BF7C-2A1C85D8725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BE60-B018-4459-BAF1-F47E6881CB0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28A0-DAFD-4CC5-A7BA-4F7A1DEFF83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03B0-F114-45C2-8AEB-A4BC02A3BBC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91D5-5DFD-46E7-9C51-DDF9E3A5508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8B97-88A5-445D-8C27-04D91DE866B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C63C-5C5C-4546-B9E0-33BB3516C55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4440-B01A-40EF-AE16-A7319B22FF8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6707-8A30-4343-81F3-A47F6CC3876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9E68-4C2E-4E2D-903B-CCA84D1C319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0490-5E25-4F9D-B9F9-BF803E5C0AD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FCDB-A3DC-4760-9A4B-482F8A30C9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8CF6-2087-4B93-9E5F-EA3D964D72F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61AF-774B-4A73-90F4-330A3EA24E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158E-3365-43CC-8CA6-5DAD025F233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8463-3E61-4566-9C7A-327ABA5D373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E99B-8735-4BA8-9B11-001C55C1AC6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7942-C969-4D8D-804A-C844E9EF4E8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A543-9A4A-4EA6-9358-64330CD4929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