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36600" y="-360"/>
            <a:ext cx="300996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206360" y="681120"/>
            <a:ext cx="4546800" cy="3409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Click to move the slide</a:t>
            </a: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25200" y="4319640"/>
            <a:ext cx="509436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637120"/>
            <a:ext cx="3009960" cy="45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36600" y="8637120"/>
            <a:ext cx="3009960" cy="45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3A3200E-8568-4CFB-982A-1881BE7A04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206360" y="681120"/>
            <a:ext cx="4546800" cy="340992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25200" y="4319640"/>
            <a:ext cx="509436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, this will link to the latest lab results for sorptivity measured at different temperatures!  Also important to measure sorptivity at a low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ough internal RH (e.g., 60 %) so that intermediate RH sorptivities can be interpolated between this measured value and an assumed sorptivity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ero at 100 % R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206360" y="681120"/>
            <a:ext cx="4546800" cy="340992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25200" y="4319640"/>
            <a:ext cx="509436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del is a standard 1-D finite difference model and includes all the likel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s of heat transfer: conduction within the concrete and soil subbase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ction to the environment, incoming solar radiation, and radiation fro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ncrete to the “sky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key was finding realistic weather data for locations throughou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S.  Fortunately, the NREL had already taken care of this for us 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es the files on a CD-ROM for a large number of US geographic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BFRL(C)" descr=""/>
          <p:cNvPicPr/>
          <p:nvPr/>
        </p:nvPicPr>
        <p:blipFill>
          <a:blip r:embed="rId2"/>
          <a:stretch/>
        </p:blipFill>
        <p:spPr>
          <a:xfrm>
            <a:off x="7196040" y="5791320"/>
            <a:ext cx="1947960" cy="15192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304920" y="6615000"/>
            <a:ext cx="749124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3960" y="228600"/>
            <a:ext cx="836604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844120" y="228600"/>
            <a:ext cx="0" cy="638640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 flipV="1">
            <a:off x="304920" y="228600"/>
            <a:ext cx="0" cy="638640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04920" y="228600"/>
            <a:ext cx="18720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545680" y="6615000"/>
            <a:ext cx="29844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logoleft_2line_blue300" descr=""/>
          <p:cNvPicPr/>
          <p:nvPr/>
        </p:nvPicPr>
        <p:blipFill>
          <a:blip r:embed="rId3"/>
          <a:stretch/>
        </p:blipFill>
        <p:spPr>
          <a:xfrm>
            <a:off x="533520" y="6324480"/>
            <a:ext cx="2408040" cy="51444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CONCLIFE: Service Life Predictions for Concrete Pavements and Bridge Decks Exposed to Sulfate Attack and Freeze-Thaw Deterioration</a:t>
            </a: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90360" y="4266720"/>
            <a:ext cx="70102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ftware prepared for the FHWA b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ilding and Fire Research Laborat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Heat Transfer Model Features - II</a:t>
            </a: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vection coefficient based on equations provided in FEMMASSE software (Dutch company INTRON) --- similar to those used in HIPERPAV (FHWA produc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diation from concrete to (night) sky based on equations developed by Walton at NIST (for roofing and other applicatio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ails at: http://ciks.cbt.nist.gov/bentz/nistir65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Temperature Predictions for Concrete Pavement in Providence, RI (Spring)</a:t>
            </a:r>
            <a:endParaRPr b="1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533520" y="1817640"/>
          <a:ext cx="8153280" cy="4229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817640"/>
                    <a:ext cx="8153280" cy="42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Connection to Overall Project</a:t>
            </a: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e-of-wetness and time-of-freezing files are used as inputs to the CONCLIFE system to predict service life under conditions of sulfate attack and freeze-thaw deterio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rptivity coefficients are adjusted for concrete surface temperature (based on surface tension and viscosity of water as a function of T) and ambient RH (based on lab testing results) prior to the start of the wetting ev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Sulfate Attack Model - Basics</a:t>
            </a: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ed on model of Atkinson and Hear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ified to consider sorption as the dominant transport mechanism (instead of diffus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lfate ions penetrate due to sorption and react with cement to form expansive ettringite causing spalling of concrete lay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kinson, A., and Hearne, J.A., Mechanistic Model for the Durability of Concrete Barriers Exposed to Sulphate-Bearing Groundwaters, MRS Symp. Proc., Vol. 176, 149-156, 199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90200" y="4038480"/>
            <a:ext cx="58806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4000" spc="-1" strike="noStrike" baseline="-25000">
                <a:solidFill>
                  <a:srgbClr val="3333cc"/>
                </a:solidFill>
                <a:latin typeface="Times New Roman"/>
              </a:rPr>
              <a:t>spall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 = (2αγ</a:t>
            </a:r>
            <a:r>
              <a:rPr b="1" lang="en-US" sz="4000" spc="-1" strike="noStrike" baseline="-25000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(1-υ))/(E(βC</a:t>
            </a:r>
            <a:r>
              <a:rPr b="1" lang="en-US" sz="4000" spc="-1" strike="noStrike" baseline="-25000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1" lang="en-US" sz="40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Sulfate Attack Model- Procedure</a:t>
            </a: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3059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netration depth calculated based on sorptivity coefficient at current concrete surface temperature,  current “duration” of time-of-wetness, and concrete poro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lfate concentrations down to the penetration depth updated based on sulfate content of  “sorbed” water and concrete poro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itical buildup of sulfate (ettringite) results in spalling at depth 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cumulative spalling depth 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…) exceeds user-specified failure criteria, service life is reach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Freeze-Thaw Deterioration Model - Basics</a:t>
            </a:r>
            <a:endParaRPr b="1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ed on critical saturation concept of Fagerlund in Swed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es that sorption after the nick-point in the sorption vs. time curve is due to the slow imbibition of water by the concrete air void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a critical saturation level, the air void system is compromised and the next freezing event will result in the initiation of cracking (considered to be equal to the service lif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Freeze-Thaw Deterioration Model- Procedure</a:t>
            </a:r>
            <a:endParaRPr b="1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duration of current time-of-wetness event is greater than nick-point time, compute depth of penetration based on sorption coefficient and concrete poro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date air void saturation down to current depth of penetration based on concrete porosity and air void cont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saturation at some depth is greater than critical saturation, update “spalling” dep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ce again, when cumulative spalling depth 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…) exceeds user-specified failure criteria, service life is reach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Inputs for CONCLIFE</a:t>
            </a: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ather data (based on geographical loca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lfate ion concentration in rainwater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avement or bridge deck dimensions (and thermal properties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arly and late age concrete sorptivity functio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/(ρA) =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S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chanical properties of concre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tic modul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acture energ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rete porosity and air void cont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Auxiliary Features of CONCLIFE</a:t>
            </a: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r can create own weather data files based on geographical location, system geometry and concrete/soil thermal proper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r can analyze laboratory sorptivity data to determine “best-fit” sorptivity f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r can view U.S. map of weather data locations, graph of wetting events, graph of sorptivity function, or graph of spalling predi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User’s Manuals for CONCLIFE</a:t>
            </a: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hlen, M.A., and Bentz, D.P., “Service Life Predictions for Concrete Pavements and Bridge Decks Exposed to Sulfate Attack and Freeze-Thaw Deterioration, Volume I: CONCLIFE User’s Manual,” 2001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entz, D.P., Ferraris, C.F., and Winpigler, J., “Service Life Predictions for Concrete Pavements and Bridge Decks Exposed to Sulfate Attack and Freeze-Thaw Deterioration, Volume II: Technical Basis for CONCLIFE: Sorptivity Testing and Computer Models,” 2001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What is CONCLIFE?</a:t>
            </a: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ndow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T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based software for estimating the service life of concrete pavements and bridge dec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mited to degradation mechanisms of sulfate attack and freeze-thaw deteri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s only transport due to sorption (rainfall and condensation) by partially saturated concre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s “real” weather data from a wide variety of U.S. geographical lo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Additional Reports from the Project</a:t>
            </a:r>
            <a:endParaRPr b="1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1) Bentz, D.P., Clifton, J.R., Ferraris, C.F., and Garboczi, E.J., “Transport Properties and Durability of Concrete: Literature Review and Research Plan,” NISTIR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6395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U.S. Dept. of Commerce, Sept. 1999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2) Bentz, D.P., “A Computer Model to Predict the Surface Temperature and Time-of-Wetness of Concrete Pavements and Bridge Decks,” NISTIR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655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U.S. Dept. of Commerce, August 2000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3) Bentz, D.P., Ehlen, M.A., Ferraris, C.F., and Garboczi, E.J., “Sorptivity-Based Service Life Predictions for Concrete Pavements,” 7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nt’l. Conference on Concrete Pavements, Orlando, FL, Sept. 2001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Overall Project Objective</a:t>
            </a: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8080" y="2209680"/>
            <a:ext cx="77724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66680" y="4724280"/>
            <a:ext cx="7239240" cy="1373760"/>
          </a:xfrm>
          <a:prstGeom prst="rect">
            <a:avLst/>
          </a:prstGeom>
          <a:solidFill>
            <a:srgbClr val="ffcccc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 guidelines and softwar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(CONCLIFE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selecting, using, and interpreting the results of recommended test metho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219320" y="1600200"/>
            <a:ext cx="6705360" cy="1523880"/>
          </a:xfrm>
          <a:prstGeom prst="downArrowCallout">
            <a:avLst>
              <a:gd name="adj1" fmla="val 110015"/>
              <a:gd name="adj2" fmla="val 110005"/>
              <a:gd name="adj3" fmla="val 16667"/>
              <a:gd name="adj4" fmla="val 66667"/>
            </a:avLst>
          </a:prstGeom>
          <a:solidFill>
            <a:srgbClr val="ccffcc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termine relationships betwe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vice life and transport proper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371600" y="3200400"/>
            <a:ext cx="6705720" cy="1523880"/>
          </a:xfrm>
          <a:prstGeom prst="downArrowCallout">
            <a:avLst>
              <a:gd name="adj1" fmla="val 110021"/>
              <a:gd name="adj2" fmla="val 110011"/>
              <a:gd name="adj3" fmla="val 16667"/>
              <a:gd name="adj4" fmla="val 66667"/>
            </a:avLst>
          </a:prstGeom>
          <a:solidFill>
            <a:srgbClr val="cc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ess relevance of current tes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measuring transport proper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Transport Mechanisms</a:t>
            </a: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 project limited to transport mechanisms other than diffusion, determined that sorption by partially saturated concrete is most relevant transport mechanism for pavements and bridge dec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standard test for sorptivity exists at pres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osed ASTM standard test method to ASTM Committee C 09 as part of overall pro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ly 2nd draft is under ballo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Sorptivity test method</a:t>
            </a: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010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-condition the specimen to constant R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 days at 50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 and 80 % R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5 days in closed container to constant R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rption measur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ponding most relevant for CONCLIF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5029200" y="4343400"/>
            <a:ext cx="1905120" cy="1525320"/>
            <a:chOff x="5029200" y="4343400"/>
            <a:chExt cx="1905120" cy="1525320"/>
          </a:xfrm>
        </p:grpSpPr>
        <p:sp>
          <p:nvSpPr>
            <p:cNvPr id="67" name=""/>
            <p:cNvSpPr/>
            <p:nvPr/>
          </p:nvSpPr>
          <p:spPr>
            <a:xfrm>
              <a:off x="5092560" y="5006160"/>
              <a:ext cx="1770120" cy="75636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50000">
                  <a:srgbClr val="363636"/>
                </a:gs>
                <a:gs pos="100000">
                  <a:srgbClr val="777777"/>
                </a:gs>
              </a:gsLst>
              <a:lin ang="5400000"/>
            </a:gra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901200" y="4359960"/>
              <a:ext cx="2520" cy="14950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165640" y="4674600"/>
              <a:ext cx="1624320" cy="3315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762240" y="4778280"/>
              <a:ext cx="146880" cy="22788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055840" y="4778280"/>
              <a:ext cx="146520" cy="22788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029200" y="4343400"/>
              <a:ext cx="2520" cy="14950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029200" y="5867280"/>
              <a:ext cx="1905120" cy="1440"/>
            </a:xfrm>
            <a:prstGeom prst="line">
              <a:avLst/>
            </a:prstGeom>
            <a:ln w="11448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1752480" y="4267080"/>
            <a:ext cx="1600200" cy="1577880"/>
            <a:chOff x="1752480" y="4267080"/>
            <a:chExt cx="1600200" cy="1577880"/>
          </a:xfrm>
        </p:grpSpPr>
        <p:sp>
          <p:nvSpPr>
            <p:cNvPr id="75" name=""/>
            <p:cNvSpPr/>
            <p:nvPr/>
          </p:nvSpPr>
          <p:spPr>
            <a:xfrm>
              <a:off x="2209680" y="4321080"/>
              <a:ext cx="609480" cy="1143000"/>
            </a:xfrm>
            <a:prstGeom prst="rect">
              <a:avLst/>
            </a:prstGeom>
            <a:gradFill rotWithShape="0">
              <a:gsLst>
                <a:gs pos="0">
                  <a:srgbClr val="172f75"/>
                </a:gs>
                <a:gs pos="100000">
                  <a:srgbClr val="3366ff"/>
                </a:gs>
              </a:gsLst>
              <a:lin ang="5400000"/>
            </a:gra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752480" y="5464080"/>
              <a:ext cx="1600200" cy="3808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171520" y="4281120"/>
              <a:ext cx="0" cy="121932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863800" y="4267080"/>
              <a:ext cx="0" cy="121896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230200" y="4282920"/>
              <a:ext cx="609840" cy="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1676520" y="57913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pill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952880" y="594360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925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Sorptivity (Ponding test setup)</a:t>
            </a: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90720" y="2971800"/>
            <a:ext cx="2124000" cy="870120"/>
          </a:xfrm>
          <a:prstGeom prst="rect">
            <a:avLst/>
          </a:prstGeom>
          <a:gradFill rotWithShape="0">
            <a:gsLst>
              <a:gs pos="0">
                <a:srgbClr val="777777"/>
              </a:gs>
              <a:gs pos="50000">
                <a:srgbClr val="363636"/>
              </a:gs>
              <a:gs pos="100000">
                <a:srgbClr val="777777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160800" y="2228760"/>
            <a:ext cx="3240" cy="17193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077840" y="2590920"/>
            <a:ext cx="1949400" cy="380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994120" y="2709720"/>
            <a:ext cx="176040" cy="262080"/>
          </a:xfrm>
          <a:prstGeom prst="ellipse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46080" y="2709720"/>
            <a:ext cx="176400" cy="262080"/>
          </a:xfrm>
          <a:prstGeom prst="ellipse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05320" y="1295280"/>
            <a:ext cx="4876560" cy="53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cc0099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ertical surfaces are covered with a high-quality ta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0099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ottom surface is protected with saran wrap held by a rubber b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0099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watertight dike should be built “above” the speci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0099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igh the specimen regularly after removing the water and patting dry the top su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0099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cul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cc0099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lope of mass/surface area vs. square root of ti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14400" y="2209680"/>
            <a:ext cx="3240" cy="17193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14400" y="3962520"/>
            <a:ext cx="2286000" cy="0"/>
          </a:xfrm>
          <a:prstGeom prst="line">
            <a:avLst/>
          </a:prstGeom>
          <a:ln w="1144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Three major sub-models in CONCLIFE</a:t>
            </a: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at transfer model for predicting concrete surface temperature, time-of-wetness, and time-of-freez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lfate attack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eze-thaw deterioration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Times New Roman"/>
              </a:rPr>
              <a:t>Heat Transfer Model for Pavements</a:t>
            </a:r>
            <a:endParaRPr b="1" lang="en-US" sz="38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94" name="fhwapan3" descr=""/>
          <p:cNvPicPr/>
          <p:nvPr/>
        </p:nvPicPr>
        <p:blipFill>
          <a:blip r:embed="rId1"/>
          <a:stretch/>
        </p:blipFill>
        <p:spPr>
          <a:xfrm>
            <a:off x="685800" y="1050840"/>
            <a:ext cx="7620120" cy="51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Heat Transfer Model Features - I</a:t>
            </a: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-D finite difference sche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ludes heat transfer due to conduction, convection, and radi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tilizes Typical Meteorological Year (TMY2DATA) weather data from the National Renewable Energy Laboratory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239 stations nationwide- http://www.nrel.gov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dicts surface temperature, time-of-wetness due to both precipitation and condensation, and time-of-freez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06T16:24:39Z</dcterms:created>
  <dc:creator>Dale P. Bentz</dc:creator>
  <dc:description/>
  <dc:language>en-US</dc:language>
  <cp:lastModifiedBy>Dale Bentz</cp:lastModifiedBy>
  <cp:lastPrinted>2000-04-10T15:19:31Z</cp:lastPrinted>
  <dcterms:modified xsi:type="dcterms:W3CDTF">2001-07-15T12:54:26Z</dcterms:modified>
  <cp:revision>44</cp:revision>
  <dc:subject/>
  <dc:title>Draft Presentation overviewing the CONCLIFE software system</dc:title>
</cp:coreProperties>
</file>