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36600" y="-36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3712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36600" y="863712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3D8845-D789-4D72-8BAA-66AF8D91B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this will link to the latest lab results for sorptivity measured at different temperatures!  Also important to measure sorptivity at a l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ough internal RH (e.g., 60 %) so that intermediate RH sorptivities can be interpolated between this measured value and an assumed sorptivity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at 100 % R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l is a standard 1-D finite difference model and includes all the like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s of heat transfer: conduction within the concrete and soil subbas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to the environment, incoming solar radiation, and radiation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rete to the “sk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key was finding realistic weather data for locations through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.  Fortunately, the NREL had already taken care of this for u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s the files on a CD-ROM for a large number of US geograph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FRL(C)" descr=""/>
          <p:cNvPicPr/>
          <p:nvPr/>
        </p:nvPicPr>
        <p:blipFill>
          <a:blip r:embed="rId2"/>
          <a:stretch/>
        </p:blipFill>
        <p:spPr>
          <a:xfrm>
            <a:off x="7196040" y="5791320"/>
            <a:ext cx="1947960" cy="151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04920" y="6615000"/>
            <a:ext cx="74912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3960" y="228600"/>
            <a:ext cx="83660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844120" y="228600"/>
            <a:ext cx="0" cy="6386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304920" y="228600"/>
            <a:ext cx="0" cy="6386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228600"/>
            <a:ext cx="1872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45680" y="6615000"/>
            <a:ext cx="298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ogoleft_2line_blue300" descr=""/>
          <p:cNvPicPr/>
          <p:nvPr/>
        </p:nvPicPr>
        <p:blipFill>
          <a:blip r:embed="rId3"/>
          <a:stretch/>
        </p:blipFill>
        <p:spPr>
          <a:xfrm>
            <a:off x="533520" y="6324480"/>
            <a:ext cx="2408040" cy="5144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CLIFE: Service Life Predictions for Concrete Pavements and Bridge Decks Exposed to Sulfate Attack and Freeze-Thaw Deterioration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360" y="42667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prepared for the FHWA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ing and Fire Research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Heat Transfer Model Features - II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ction coefficient based on equations provided in FEMMASSE software (Dutch company INTRON) --- similar to those used in HIPERPAV (FHWA produ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ation from concrete to (night) sky based on equations developed by Walton at NIST (for roofing and other applica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s at: http://ciks.cbt.nist.gov/bentz/nistir65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Temperature Predictions for Concrete Pavement in Providence, RI (Spring)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817640"/>
          <a:ext cx="8153280" cy="422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17640"/>
                    <a:ext cx="815328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onnection to Overall Project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-of-wetness and time-of-freezing files are used as inputs to the CONCLIFE system to predict service life under conditions of sulfate attack and freeze-thaw deteri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ptivity coefficients are adjusted for concrete surface temperature (based on surface tension and viscosity of water as a function of T) and ambient RH (based on lab testing results) prior to the start of the wetting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ulfate Attack Model - Basics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model of Atkinson and Hea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ed to consider sorption as the dominant transport mechanism (instead of diffu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ions penetrate due to sorption and react with cement to form expansive ettringite causing spalling of concrete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kinson, A., and Hearne, J.A., Mechanistic Model for the Durability of Concrete Barriers Exposed to Sulphate-Bearing Groundwaters, MRS Symp. Proc., Vol. 176, 149-156, 19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90200" y="4038480"/>
            <a:ext cx="5880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spall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= (2αγ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(1-υ))/(E(βC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ulfate Attack Model- Procedur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etration depth calculated based on sorptivity coefficient at current concrete surface temperature,  current “duration” of time-of-wetness,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concentrations down to the penetration depth updated based on sulfate content of  “sorbed” water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buildup of sulfate (ettringite) results in spalling at depth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umulative spalling depth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…) exceeds user-specified failure criteria, service life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reeze-Thaw Deterioration Model - Basics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critical saturation concept of Fagerlund in Sw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that sorption after the nick-point in the sorption vs. time curve is due to the slow imbibition of water by the concrete air voi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a critical saturation level, the air void system is compromised and the next freezing event will result in the initiation of cracking (considered to be equal to the service lif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reeze-Thaw Deterioration Model- Procedure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duration of current time-of-wetness event is greater than nick-point time, compute depth of penetration based on sorption coefficient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air void saturation down to current depth of penetration based on concrete porosity and air void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aturation at some depth is greater than critical saturation, update “spalling”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gain, when cumulative spalling depth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…) exceeds user-specified failure criteria, service life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Inputs for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 data (based on geographical lo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ion concentration in rainwater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vement or bridge deck dimensions (and thermal properti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arly and late age concrete sorptivity func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/(ρA)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 properties of concr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tic mod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cture ener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rete porosity and air void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uxiliary Features of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create own weather data files based on geographical location, system geometry and concrete/soil thermal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analyze laboratory sorptivity data to determine “best-fit” sorptivity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view U.S. map of weather data locations, graph of wetting events, graph of sorptivity function, or graph of spalling 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User’s Manuals for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hlen, M.A., and Bentz, D.P., “Service Life Predictions for Concrete Pavements and Bridge Decks Exposed to Sulfate Attack and Freeze-Thaw Deterioration, Volume I: CONCLIFE User’s Manual,” 200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ntz, D.P., Ferraris, C.F., and Winpigler, J., “Service Life Predictions for Concrete Pavements and Bridge Decks Exposed to Sulfate Attack and Freeze-Thaw Deterioration, Volume II: Technical Basis for CONCLIFE: Sorptivity Testing and Computer Models,” 200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What is CONCLIFE?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ased software for estimating the service life of concrete pavements and bridge d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to degradation mechanisms of sulfate attack and freeze-thaw deteri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s only transport due to sorption (rainfall and condensation) by partially saturated con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“real” weather data from a wide variety of U.S. geographical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dditional Reports from the Project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) Bentz, D.P., Clifton, J.R., Ferraris, C.F., and Garboczi, E.J., “Transport Properties and Durability of Concrete: Literature Review and Research Plan,” NISTI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39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U.S. Dept. of Commerce, Sept. 1999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) Bentz, D.P., “A Computer Model to Predict the Surface Temperature and Time-of-Wetness of Concrete Pavements and Bridge Decks,” NISTI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55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U.S. Dept. of Commerce, August 200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) Bentz, D.P., Ehlen, M.A., Ferraris, C.F., and Garboczi, E.J., “Sorptivity-Based Service Life Predictions for Concrete Pavements,” 7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t’l. Conference on Concrete Pavements, Orlando, FL, Sept. 200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verall Project Objectiv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20968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724280"/>
            <a:ext cx="7239240" cy="1373760"/>
          </a:xfrm>
          <a:prstGeom prst="rect">
            <a:avLst/>
          </a:prstGeom>
          <a:solidFill>
            <a:srgbClr val="ffcccc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guidelines and softw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CONCLIF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electing, using, and interpreting the results of recommended test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1600200"/>
            <a:ext cx="6705360" cy="1523880"/>
          </a:xfrm>
          <a:prstGeom prst="downArrowCallout">
            <a:avLst>
              <a:gd name="adj1" fmla="val 110015"/>
              <a:gd name="adj2" fmla="val 110005"/>
              <a:gd name="adj3" fmla="val 16667"/>
              <a:gd name="adj4" fmla="val 66667"/>
            </a:avLst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relationships betwe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life and transport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3200400"/>
            <a:ext cx="6705720" cy="1523880"/>
          </a:xfrm>
          <a:prstGeom prst="downArrowCallout">
            <a:avLst>
              <a:gd name="adj1" fmla="val 110021"/>
              <a:gd name="adj2" fmla="val 110011"/>
              <a:gd name="adj3" fmla="val 16667"/>
              <a:gd name="adj4" fmla="val 66667"/>
            </a:avLst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 relevance of current tes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easuring transport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Transport Mechanisms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roject limited to transport mechanisms other than diffusion, determined that sorption by partially saturated concrete is most relevant transport mechanism for pavements and bridge d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tandard test for sorptivity exists at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ASTM standard test method to ASTM Committee C 09 as part of overall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2nd draft is under ballo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orptivity test method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-condition the specimen to constant 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days at 5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and 80 % 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 days in closed container to constant 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ption meas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onding most relevant for CONCLI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029200" y="4343400"/>
            <a:ext cx="1905120" cy="1525320"/>
            <a:chOff x="5029200" y="4343400"/>
            <a:chExt cx="1905120" cy="1525320"/>
          </a:xfrm>
        </p:grpSpPr>
        <p:sp>
          <p:nvSpPr>
            <p:cNvPr id="67" name=""/>
            <p:cNvSpPr/>
            <p:nvPr/>
          </p:nvSpPr>
          <p:spPr>
            <a:xfrm>
              <a:off x="5092560" y="5006160"/>
              <a:ext cx="1770120" cy="7563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01200" y="4359960"/>
              <a:ext cx="2520" cy="149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65640" y="4674600"/>
              <a:ext cx="1624320" cy="331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62240" y="4778280"/>
              <a:ext cx="146880" cy="2278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55840" y="4778280"/>
              <a:ext cx="146520" cy="2278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9200" y="4343400"/>
              <a:ext cx="2520" cy="149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29200" y="5867280"/>
              <a:ext cx="1905120" cy="1440"/>
            </a:xfrm>
            <a:prstGeom prst="line">
              <a:avLst/>
            </a:prstGeom>
            <a:ln w="1144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752480" y="4267080"/>
            <a:ext cx="1600200" cy="1577880"/>
            <a:chOff x="1752480" y="4267080"/>
            <a:chExt cx="1600200" cy="1577880"/>
          </a:xfrm>
        </p:grpSpPr>
        <p:sp>
          <p:nvSpPr>
            <p:cNvPr id="75" name=""/>
            <p:cNvSpPr/>
            <p:nvPr/>
          </p:nvSpPr>
          <p:spPr>
            <a:xfrm>
              <a:off x="2209680" y="4321080"/>
              <a:ext cx="609480" cy="1143000"/>
            </a:xfrm>
            <a:prstGeom prst="rect">
              <a:avLst/>
            </a:prstGeom>
            <a:gradFill rotWithShape="0">
              <a:gsLst>
                <a:gs pos="0">
                  <a:srgbClr val="172f75"/>
                </a:gs>
                <a:gs pos="100000">
                  <a:srgbClr val="3366ff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2480" y="5464080"/>
              <a:ext cx="16002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1520" y="4281120"/>
              <a:ext cx="0" cy="1219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63800" y="4267080"/>
              <a:ext cx="0" cy="1218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30200" y="4282920"/>
              <a:ext cx="60984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676520" y="5791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5943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orptivity (Ponding test setup)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2971800"/>
            <a:ext cx="2124000" cy="87012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50000">
                <a:srgbClr val="363636"/>
              </a:gs>
              <a:gs pos="100000">
                <a:srgbClr val="777777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0800" y="2228760"/>
            <a:ext cx="3240" cy="171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77840" y="2590920"/>
            <a:ext cx="19494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94120" y="2709720"/>
            <a:ext cx="176040" cy="262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46080" y="2709720"/>
            <a:ext cx="176400" cy="262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295280"/>
            <a:ext cx="4876560" cy="53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ertical surfaces are covered with a high-quality 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ttom surface is protected with saran wrap held by a rubber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atertight dike should be built “above” the speci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 the specimen regularly after removing the water and patting dry the top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pe of mass/surface area vs. square root of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209680"/>
            <a:ext cx="3240" cy="171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962520"/>
            <a:ext cx="2286000" cy="0"/>
          </a:xfrm>
          <a:prstGeom prst="line">
            <a:avLst/>
          </a:prstGeom>
          <a:ln w="114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Three major sub-models in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transfer model for predicting concrete surface temperature, time-of-wetness, and time-of-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lfate attack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ze-thaw deteriorati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Times New Roman"/>
              </a:rPr>
              <a:t>Heat Transfer Model for Pavements</a:t>
            </a:r>
            <a:endParaRPr b="1" lang="en-US" sz="3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4" name="fhwapan3" descr=""/>
          <p:cNvPicPr/>
          <p:nvPr/>
        </p:nvPicPr>
        <p:blipFill>
          <a:blip r:embed="rId1"/>
          <a:stretch/>
        </p:blipFill>
        <p:spPr>
          <a:xfrm>
            <a:off x="685800" y="1050840"/>
            <a:ext cx="76201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Heat Transfer Model Features - I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D finite difference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heat transfer due to conduction, convection, and ra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es Typical Meteorological Year (TMY2DATA) weather data from the National Renewable Energy Laboratory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39 stations nationwide- http://www.nrel.g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s surface temperature, time-of-wetness due to both precipitation and condensation, and time-of-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16:24:39Z</dcterms:created>
  <dc:creator>Dale P. Bentz</dc:creator>
  <dc:description/>
  <dc:language>en-US</dc:language>
  <cp:lastModifiedBy>Dale Bentz</cp:lastModifiedBy>
  <cp:lastPrinted>2000-04-10T15:19:31Z</cp:lastPrinted>
  <dcterms:modified xsi:type="dcterms:W3CDTF">2001-07-15T12:54:26Z</dcterms:modified>
  <cp:revision>44</cp:revision>
  <dc:subject/>
  <dc:title>Draft Presentation overviewing the CONCLIFE software system</dc:title>
</cp:coreProperties>
</file>