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936600" y="-36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936600" y="8637120"/>
            <a:ext cx="3009960" cy="453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96590C7-85C3-4FEE-BA8F-EDEAF30B7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this will link to the latest lab results for sorptivity measured at different temperatures!  Also important to measure sorptivity at a 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ough internal RH (e.g., 60 %) so that intermediate RH sorptivities can be interpolated between this measured value and an assumed sorptivity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at 100 % R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06360" y="681120"/>
            <a:ext cx="4546800" cy="340992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25200" y="4319640"/>
            <a:ext cx="509436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l is a standard 1-D finite difference model and includes all the like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heat transfer: conduction within the concrete and soil subbas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to the environment, incoming solar radiation, and radiation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crete to the “sk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key was finding realistic weather data for locations through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.  Fortunately, the NREL had already taken care of this for us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ributes the files on a CD-ROM for a large number of US geographic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FRL(C)" descr=""/>
          <p:cNvPicPr/>
          <p:nvPr/>
        </p:nvPicPr>
        <p:blipFill>
          <a:blip r:embed="rId2"/>
          <a:stretch/>
        </p:blipFill>
        <p:spPr>
          <a:xfrm>
            <a:off x="7196040" y="5791320"/>
            <a:ext cx="1947960" cy="151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04920" y="6615000"/>
            <a:ext cx="74912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3960" y="228600"/>
            <a:ext cx="83660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441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304920" y="228600"/>
            <a:ext cx="0" cy="6386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228600"/>
            <a:ext cx="1872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45680" y="6615000"/>
            <a:ext cx="298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ogoleft_2line_blue300" descr=""/>
          <p:cNvPicPr/>
          <p:nvPr/>
        </p:nvPicPr>
        <p:blipFill>
          <a:blip r:embed="rId3"/>
          <a:stretch/>
        </p:blipFill>
        <p:spPr>
          <a:xfrm>
            <a:off x="533520" y="6324480"/>
            <a:ext cx="2408040" cy="514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CONCLIFE: Service Life Predictions for Concrete Pavements and Bridge Decks Exposed to Sulfate Attack and Freeze-Thaw Deterioration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360" y="4266720"/>
            <a:ext cx="7010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prepared for the FHWA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nd Fire Research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tion coefficient based on equations provided in FEMMASSE software (Dutch company INTRON) --- similar to those used in HIPERPAV (FHWA produ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ation from concrete to (night) sky based on equations developed by Walton at NIST (for roofing and other appl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ils at: http://ciks.cbt.nist.gov/bentz/nistir65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Temperature Predictions for Concrete Pavement in Providence, RI (Spring)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817640"/>
          <a:ext cx="8153280" cy="422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17640"/>
                    <a:ext cx="815328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Connection to Overall Project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-of-wetness and time-of-freezing files are used as inputs to the CONCLIFE system to predict service life under conditions of sulfate attack and freeze-thaw deteri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vity coefficients are adjusted for concrete surface temperature (based on surface tension and viscosity of water as a function of T) and ambient RH (based on lab testing results) prior to the start of the wetting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ulfate Attack Model - Basic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model of Atkinson and Hear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to consider sorption as the dominant transport mechanism (instead of diff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s penetrate due to sorption and react with cement to form expansive ettringite causing spalling of concrete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kinson, A., and Hearne, J.A., Mechanistic Model for the Durability of Concrete Barriers Exposed to Sulphate-Bearing Groundwaters, MRS Symp. Proc., Vol. 176, 149-156, 199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90200" y="4038480"/>
            <a:ext cx="58806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spall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= (2αγ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f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(1-υ))/(E(βC</a:t>
            </a:r>
            <a:r>
              <a:rPr b="1" lang="en-US" sz="4000" spc="-1" strike="noStrike" baseline="-25000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ulfate Attack Model- Procedur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etration depth calculated based on sorptivity coefficient at current concrete surface temperature,  current “duration” of time-of-wetness,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concentrations down to the penetration depth updated based on sulfate content of  “sorbed” water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buildup of sulfate (ettringite) results in spalling at depth 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 - Basics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critical saturation concept of Fagerlund in Swe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s that sorption after the nick-point in the sorption vs. time curve is due to the slow imbibition of water by the concrete air voi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a critical saturation level, the air void system is compromised and the next freezing event will result in the initiation of cracking (considered to be equal to the service lif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reeze-Thaw Deterioration Model- Procedure</a:t>
            </a:r>
            <a:endParaRPr b="1" lang="en-US" sz="32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uration of current time-of-wetness event is greater than nick-point time, compute depth of penetration based on sorption coefficient and concrete poro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air void saturation down to current depth of penetration based on concrete porosity and air voi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saturation at some depth is greater than critical saturation, update “spalling”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gain, when cumulative spalling depth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…) exceeds user-specified failure criteria, service life is reac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Input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 data (based on geographical loc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lfate ion concentration in rainwater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vement or bridge deck dimensions (and thermal propertie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arly and late age concrete sorptivity func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/(ρA) = 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properties of concr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tic mod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cture energ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rete porosity and air void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Auxiliary Features of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create own weather data files based on geographical location, system geometry and concrete/soil thermal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analyze laboratory sorptivity data to determine “best-fit” sorptivity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can view U.S. map of weather data locations, graph of wetting events, graph of sorptivity function, or graph of spalling predi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User’s Manuals for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hlen, M.A., and Bentz, D.P., “Service Life Predictions for Concrete Pavements and Bridge Decks Exposed to Sulfate Attack and Freeze-Thaw Deterioration, Volume I: CONCLIFE User’s Manual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entz, D.P., Ferraris, C.F., and Winpigler, J., “Service Life Predictions for Concrete Pavements and Bridge Decks Exposed to Sulfate Attack and Freeze-Thaw Deterioration, Volume II: Technical Basis for CONCLIFE: Sorptivity Testing and Computer Models,” 2001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at is CONCLIFE?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sed software for estimating the service life of concrete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to degradation mechanisms of sulfate attack and freeze-thaw deteri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s only transport due to sorption (rainfall and condensation) by partially saturated con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“real” weather data from a wide variety of U.S. geographical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Additional Reports from the Project</a:t>
            </a:r>
            <a:endParaRPr b="1" lang="en-US" sz="3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) Bentz, D.P., Clifton, J.R., Ferraris, C.F., and Garboczi, E.J., “Transport Properties and Durability of Concrete: Literature Review and Research Plan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395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Sept. 1999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) Bentz, D.P., “A Computer Model to Predict the Surface Temperature and Time-of-Wetness of Concrete Pavements and Bridge Decks,” NISTIR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655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U.S. Dept. of Commerce, August 2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3) Bentz, D.P., Ehlen, M.A., Ferraris, C.F., and Garboczi, E.J., “Sorptivity-Based Service Life Predictions for Concrete Pavements,” 7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t’l. Conference on Concrete Pavements, Orlando, FL, Sept. 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all Project Objectiv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209680"/>
            <a:ext cx="7772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4724280"/>
            <a:ext cx="7239240" cy="1373760"/>
          </a:xfrm>
          <a:prstGeom prst="rect">
            <a:avLst/>
          </a:prstGeom>
          <a:solidFill>
            <a:srgbClr val="ffcccc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 guidelines and softw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(CONCLIFE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selecting, using, and interpreting the results of recommended test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1600200"/>
            <a:ext cx="6705360" cy="1523880"/>
          </a:xfrm>
          <a:prstGeom prst="downArrowCallout">
            <a:avLst>
              <a:gd name="adj1" fmla="val 110015"/>
              <a:gd name="adj2" fmla="val 110005"/>
              <a:gd name="adj3" fmla="val 16667"/>
              <a:gd name="adj4" fmla="val 66667"/>
            </a:avLst>
          </a:prstGeom>
          <a:solidFill>
            <a:srgbClr val="cc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relationships betw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life and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3200400"/>
            <a:ext cx="6705720" cy="1523880"/>
          </a:xfrm>
          <a:prstGeom prst="downArrowCallout">
            <a:avLst>
              <a:gd name="adj1" fmla="val 110021"/>
              <a:gd name="adj2" fmla="val 110011"/>
              <a:gd name="adj3" fmla="val 16667"/>
              <a:gd name="adj4" fmla="val 66667"/>
            </a:avLst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relevance of current tes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measuring transport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ransport Mechanisms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project limited to transport mechanisms other than diffusion, determined that sorption by partially saturated concrete is most relevant transport mechanism for pavements and bridge de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tandard test for sorptivity exists at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ASTM standard test method to ASTM Committee C 09 as part of overall pro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2nd draft is under ballo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test method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-condition the specimen to constant R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days at 5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nd 80 %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 days in closed container to constant R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rption meas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onding most relevant for CONCLI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029200" y="4343400"/>
            <a:ext cx="1905120" cy="1525320"/>
            <a:chOff x="5029200" y="4343400"/>
            <a:chExt cx="1905120" cy="1525320"/>
          </a:xfrm>
        </p:grpSpPr>
        <p:sp>
          <p:nvSpPr>
            <p:cNvPr id="67" name=""/>
            <p:cNvSpPr/>
            <p:nvPr/>
          </p:nvSpPr>
          <p:spPr>
            <a:xfrm>
              <a:off x="5092560" y="5006160"/>
              <a:ext cx="1770120" cy="75636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50000">
                  <a:srgbClr val="363636"/>
                </a:gs>
                <a:gs pos="100000">
                  <a:srgbClr val="777777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01200" y="435996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65640" y="4674600"/>
              <a:ext cx="1624320" cy="331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762240" y="4778280"/>
              <a:ext cx="14688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55840" y="4778280"/>
              <a:ext cx="146520" cy="22788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29200" y="4343400"/>
              <a:ext cx="2520" cy="1495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029200" y="5867280"/>
              <a:ext cx="1905120" cy="1440"/>
            </a:xfrm>
            <a:prstGeom prst="line">
              <a:avLst/>
            </a:prstGeom>
            <a:ln w="11448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752480" y="4267080"/>
            <a:ext cx="1600200" cy="1577880"/>
            <a:chOff x="1752480" y="4267080"/>
            <a:chExt cx="1600200" cy="1577880"/>
          </a:xfrm>
        </p:grpSpPr>
        <p:sp>
          <p:nvSpPr>
            <p:cNvPr id="75" name=""/>
            <p:cNvSpPr/>
            <p:nvPr/>
          </p:nvSpPr>
          <p:spPr>
            <a:xfrm>
              <a:off x="2209680" y="4321080"/>
              <a:ext cx="609480" cy="1143000"/>
            </a:xfrm>
            <a:prstGeom prst="rect">
              <a:avLst/>
            </a:prstGeom>
            <a:gradFill rotWithShape="0">
              <a:gsLst>
                <a:gs pos="0">
                  <a:srgbClr val="172f75"/>
                </a:gs>
                <a:gs pos="100000">
                  <a:srgbClr val="3366ff"/>
                </a:gs>
              </a:gsLst>
              <a:lin ang="5400000"/>
            </a:gra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52480" y="5464080"/>
              <a:ext cx="16002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1520" y="4281120"/>
              <a:ext cx="0" cy="12193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63800" y="4267080"/>
              <a:ext cx="0" cy="12189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30200" y="4282920"/>
              <a:ext cx="609840" cy="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67652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ll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5943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Sorptivity (Ponding test setup)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2971800"/>
            <a:ext cx="2124000" cy="870120"/>
          </a:xfrm>
          <a:prstGeom prst="rect">
            <a:avLst/>
          </a:prstGeom>
          <a:gradFill rotWithShape="0">
            <a:gsLst>
              <a:gs pos="0">
                <a:srgbClr val="777777"/>
              </a:gs>
              <a:gs pos="50000">
                <a:srgbClr val="363636"/>
              </a:gs>
              <a:gs pos="100000">
                <a:srgbClr val="777777"/>
              </a:gs>
            </a:gsLst>
            <a:lin ang="5400000"/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60800" y="222876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77840" y="2590920"/>
            <a:ext cx="1949400" cy="380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94120" y="2709720"/>
            <a:ext cx="17604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46080" y="2709720"/>
            <a:ext cx="176400" cy="262080"/>
          </a:xfrm>
          <a:prstGeom prst="ellipse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295280"/>
            <a:ext cx="4876560" cy="53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ertical surfaces are covered with a high-quality 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ottom surface is protected with saran wrap held by a rubber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watertight dike should be built “above” the speci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igh the specimen regularly after removing the water and patting dry the top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cc0099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pe of mass/surface area vs. square root of ti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209680"/>
            <a:ext cx="3240" cy="1719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962520"/>
            <a:ext cx="2286000" cy="0"/>
          </a:xfrm>
          <a:prstGeom prst="line">
            <a:avLst/>
          </a:prstGeom>
          <a:ln w="1144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Three major sub-models in CONCLIFE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transfer model for predicting concrete surface temperature, time-of-wetness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lfate attack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ze-thaw deterior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Times New Roman"/>
              </a:rPr>
              <a:t>Heat Transfer Model for Pavements</a:t>
            </a:r>
            <a:endParaRPr b="1" lang="en-US" sz="38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94" name="fhwapan3" descr=""/>
          <p:cNvPicPr/>
          <p:nvPr/>
        </p:nvPicPr>
        <p:blipFill>
          <a:blip r:embed="rId1"/>
          <a:stretch/>
        </p:blipFill>
        <p:spPr>
          <a:xfrm>
            <a:off x="685800" y="1050840"/>
            <a:ext cx="76201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Heat Transfer Model Features - I</a:t>
            </a:r>
            <a:endParaRPr b="1" lang="en-US" sz="40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D finite difference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heat transfer due to conduction, convection, and ra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ilizes Typical Meteorological Year (TMY2DATA) weather data from the National Renewable Energy Laborator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39 stations nationwide- http://www.nrel.go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surface temperature, time-of-wetness due to both precipitation and condensation, and time-of-freez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16:24:39Z</dcterms:created>
  <dc:creator>Dale P. Bentz</dc:creator>
  <dc:description/>
  <dc:language>en-US</dc:language>
  <cp:lastModifiedBy>Dale Bentz</cp:lastModifiedBy>
  <cp:lastPrinted>2000-04-10T15:19:31Z</cp:lastPrinted>
  <dcterms:modified xsi:type="dcterms:W3CDTF">2001-07-15T12:54:26Z</dcterms:modified>
  <cp:revision>44</cp:revision>
  <dc:subject/>
  <dc:title>Draft Presentation overviewing the CONCLIFE software system</dc:title>
</cp:coreProperties>
</file>