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FEDF-738D-42FB-9C65-169B8A503696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tem 2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4) Introduction to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43400" y="3276720"/>
            <a:ext cx="3238200" cy="1218960"/>
            <a:chOff x="4343400" y="3276720"/>
            <a:chExt cx="3238200" cy="1218960"/>
          </a:xfrm>
        </p:grpSpPr>
        <p:sp>
          <p:nvSpPr>
            <p:cNvPr id="104" name=""/>
            <p:cNvSpPr/>
            <p:nvPr/>
          </p:nvSpPr>
          <p:spPr>
            <a:xfrm>
              <a:off x="4343400" y="3276720"/>
              <a:ext cx="228600" cy="12189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5240" y="3657600"/>
              <a:ext cx="30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PRESS-X rel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10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7" idx="3"/>
              <a:endCxn id="110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10" idx="3"/>
              <a:endCxn id="108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4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9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4" idx="2"/>
              <a:endCxn id="115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line “manual” on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2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 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no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generation of CC long form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2000-04-04T15:03:29Z</dcterms:modified>
  <cp:revision>49</cp:revision>
  <dc:subject/>
  <dc:title>AISC CIS/2  Workshop #I</dc:title>
</cp:coreProperties>
</file>