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99AF-54A3-4AA2-954F-C5F256EB01B4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1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ormance Classes: Revision plus Changes since CIS/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8" idx="2"/>
            <a:endCxn id="99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2" name=""/>
          <p:cNvCxnSpPr>
            <a:stCxn id="98" idx="2"/>
            <a:endCxn id="100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4" name=""/>
            <p:cNvCxnSpPr>
              <a:stCxn id="100" idx="3"/>
              <a:endCxn id="9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2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2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riefly revise the topic of Conformance Classes (C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some CC related changes since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.e. from CIS/2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release to CIS/2 Publ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64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6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03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1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1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22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29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32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37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38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4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259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6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6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71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83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86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Chang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CIS/2 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ole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rol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formance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also serve important practical rol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y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ing what data exchange i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o Easy Solu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s always recognised as the single most difficult ar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 scope of the LP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exchange between dissimilar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ady-made solution (STEP or I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to industrial deploymen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orous pre-defined “building-block”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ed any conceivable CC combination to be crea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saged that “industry” would determine which CC combinations would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c 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ut how to sta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reviewers found the concept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ocumented, did not allow fully for the constraining effect of the WHERE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quire some BASE-CCs to be used in comb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ing the effective number of BASE-CCs  (and thus their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incompletenes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has since been rev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number of entities has increa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still more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er/sub-type trees simplified (less 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many less </a:t>
            </a: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roach involving less “permutations” require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 Chang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er pre-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will be added a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e based-on the generic STEP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Cs defined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le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n Excel spreadsheet to specify which entities are in each 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Revis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from Day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omplet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CC Now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o the structure of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DOR constr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ssociative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act of WHERE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some cases where there is a choice over which entity to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judgement applied to decide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pragmatic evolutionary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r to underst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en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STEP toolkit to generate “long form” schema for each CC (and CC combin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subset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cus on the relevant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ole in conformance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ignificant repackaging of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ffers significant bene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nderlying industrial/commercial issues rema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CC (and CC combinations) to imp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for compatible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rability of evolutionary convergence (plus innov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w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built round a base ent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ed by a reference number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eadsheet specifies which entities are included in which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lso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es which types, entities, functions and rules are included from the full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-228960" y="2209320"/>
            <a:ext cx="937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PM5_CC1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_ent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typ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entit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f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r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SCHEMA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ffff"/>
                </a:solidFill>
                <a:latin typeface="Courier New"/>
              </a:rPr>
              <a:t>LPM5_CC001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;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date_and_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US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date_and_time);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Base Ent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Enti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alendar_date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oordinated_universal_time_offset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te, local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Typ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ahead_or_behind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y_in_month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hour_in_day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inute_in_hou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onth_in_year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second_in_minute, year_number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leap_yea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valid_calendar_date, valid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END_SCHEM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orts entity definitions from one schema to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    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item explicitly imported into a schema will implicitly reference other items it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modelling practice to explicitly import all required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first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(can have instances independent of being used by some other 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ERENC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second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have instances only if referenced by another instan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ms may b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ities, types, functions,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finition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743200" y="1979640"/>
            <a:ext cx="2208960" cy="3049200"/>
            <a:chOff x="2743200" y="1979640"/>
            <a:chExt cx="2208960" cy="3049200"/>
          </a:xfrm>
        </p:grpSpPr>
        <p:grpSp>
          <p:nvGrpSpPr>
            <p:cNvPr id="323" name=""/>
            <p:cNvGrpSpPr/>
            <p:nvPr/>
          </p:nvGrpSpPr>
          <p:grpSpPr>
            <a:xfrm>
              <a:off x="2743200" y="2971800"/>
              <a:ext cx="2208960" cy="2057040"/>
              <a:chOff x="2743200" y="2971800"/>
              <a:chExt cx="2208960" cy="20570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3809880" y="2971800"/>
                <a:ext cx="990720" cy="1676520"/>
                <a:chOff x="3809880" y="2971800"/>
                <a:chExt cx="990720" cy="16765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190760" y="29718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114800" y="30481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038480" y="31240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962160" y="32004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886200" y="32767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09880" y="33526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2743200" y="3962520"/>
                <a:ext cx="91440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101120" y="4418640"/>
                <a:ext cx="850680" cy="61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65" y="13467"/>
                    </a:moveTo>
                    <a:arcTo wR="10800" hR="10800" stAng="857907" swAng="12845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65" y="13467"/>
                    </a:moveTo>
                    <a:arcTo wR="10800" hR="10800" stAng="857907" swAng="1284525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73788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743200" y="1979640"/>
            <a:ext cx="4331520" cy="3963600"/>
            <a:chOff x="2743200" y="1979640"/>
            <a:chExt cx="4331520" cy="3963600"/>
          </a:xfrm>
        </p:grpSpPr>
        <p:grpSp>
          <p:nvGrpSpPr>
            <p:cNvPr id="335" name=""/>
            <p:cNvGrpSpPr/>
            <p:nvPr/>
          </p:nvGrpSpPr>
          <p:grpSpPr>
            <a:xfrm>
              <a:off x="5943600" y="2971800"/>
              <a:ext cx="990360" cy="2590920"/>
              <a:chOff x="5943600" y="2971800"/>
              <a:chExt cx="990360" cy="259092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4480" y="29718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48160" y="30481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2200" y="31240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095880" y="32004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19560" y="32767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943600" y="33526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4952880" y="3962520"/>
              <a:ext cx="9144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5181480"/>
              <a:ext cx="312408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158520" y="5333040"/>
              <a:ext cx="850680" cy="61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5" y="13467"/>
                  </a:moveTo>
                  <a:arcTo wR="10800" hR="10800" stAng="857907" swAng="12845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5" y="13467"/>
                  </a:moveTo>
                  <a:arcTo wR="10800" hR="10800" stAng="857907" swAng="12845257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756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9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48040" y="1905120"/>
            <a:ext cx="2257920" cy="4495680"/>
            <a:chOff x="1148040" y="1905120"/>
            <a:chExt cx="2257920" cy="4495680"/>
          </a:xfrm>
        </p:grpSpPr>
        <p:sp>
          <p:nvSpPr>
            <p:cNvPr id="347" name=""/>
            <p:cNvSpPr/>
            <p:nvPr/>
          </p:nvSpPr>
          <p:spPr>
            <a:xfrm>
              <a:off x="1981080" y="3276720"/>
              <a:ext cx="609840" cy="3124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48040" y="1905120"/>
              <a:ext cx="225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UCTURAL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CHE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723120" y="5603760"/>
            <a:ext cx="114696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62920" y="4343400"/>
            <a:ext cx="119052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6880" y="2971800"/>
            <a:ext cx="1774800" cy="11912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001 to CC0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CCs that are used only as building blocks in the definition of other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about 3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agement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0 + CC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Cs which, when combined with other Specific CCs, add-in data management con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f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2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omplete and coherent CCs which, alone or combined with other Specific CCs, provide a practically useful conformance un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some 20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Specific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anslator is specified as being able to translate one, or more than one, Specific CC or Combination of Specific C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, CC124, CC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CC111+CC222), CC3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formance of an application’s import and export translators may dif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0492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9" name=""/>
            <p:cNvCxnSpPr>
              <a:stCxn id="80" idx="2"/>
              <a:endCxn id="81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2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80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0" idx="2"/>
                <a:endCxn id="83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5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6" name=""/>
            <p:cNvCxnSpPr>
              <a:stCxn id="83" idx="3"/>
              <a:endCxn id="80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7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22:44:42Z</dcterms:modified>
  <cp:revision>42</cp:revision>
  <dc:subject/>
  <dc:title>AISC CIS/2  Workshop #I</dc:title>
</cp:coreProperties>
</file>