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CC16B5-F0F9-4461-8249-DCF10F214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D625B-DA67-4292-9D47-1B35F870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54C59-009F-4615-ABE1-8BCF99BC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0191EF-0F56-4CAB-B905-B5F86E0D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0F42A-3F98-4FCB-BB56-1952F91A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93735-8E28-4D27-A690-10B6A151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18C83-35AC-40B8-AD4A-2417C791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337BA-D0C3-4DCC-996F-B0A96681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9A776-D0D9-4E40-A842-5634F989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FDD25-C66B-4D48-B182-F15FD0DB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F5983-AAB7-4E0C-844A-9A5BCFBD9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E71F2-E1C1-420D-9135-0429E03BE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8963"/>
                </a:solidFill>
                <a:latin typeface="Times New Roman"/>
              </a:rPr>
              <a:t>Seat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01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AISC CIS/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GA Tech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14300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8080" y="6114960"/>
            <a:ext cx="1752840" cy="742680"/>
            <a:chOff x="838080" y="6114960"/>
            <a:chExt cx="1752840" cy="742680"/>
          </a:xfrm>
        </p:grpSpPr>
        <p:sp>
          <p:nvSpPr>
            <p:cNvPr id="6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2200" y="611496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8080" y="682668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0240" y="682992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945720" y="634392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107360" y="638712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23444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61880" y="638712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440000" y="638712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721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61640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753560" y="634392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6080" y="634680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1355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7680" y="639036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34680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507760" y="641196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77840" y="660384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58920" y="653580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61880" y="65732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89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16400" y="653580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05480" y="660384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98360" y="653580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00880" y="653904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81520" y="660384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08960" y="660384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F980-4625-47DB-AB53-A170866A9BDC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90720" y="198108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MIS Interface with Fabtro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3048120"/>
            <a:ext cx="6019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Frank Wa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huck Eastma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2971800" y="1143000"/>
          <a:ext cx="5014800" cy="518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1143000"/>
                    <a:ext cx="50148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33520" y="30492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Definition of Main Assembly (1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6483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item_property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arries a description and a proerty valu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3276720" y="1371600"/>
          <a:ext cx="5333760" cy="473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1371600"/>
                    <a:ext cx="5333760" cy="47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533520" y="30492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Definition of Main Assembly (2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43434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Structural_frame_item_relationship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carries a description and a lab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553080" y="4876920"/>
            <a:ext cx="129564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80880" y="1828800"/>
          <a:ext cx="7694640" cy="383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828800"/>
                    <a:ext cx="769464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4572000" y="1523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art I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art Mark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48520" y="1676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art Nam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1905120"/>
            <a:ext cx="533520" cy="10666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86600" y="2133720"/>
            <a:ext cx="380880" cy="15238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905120" y="3733560"/>
            <a:ext cx="2438280" cy="1522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4572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Part Identifi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149400" y="1373040"/>
          <a:ext cx="8769240" cy="445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9400" y="1373040"/>
                    <a:ext cx="876924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457200" y="3808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Section Profile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00600" y="3808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Section profile defined in flavor fi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895480" y="1066680"/>
            <a:ext cx="1981440" cy="5335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12193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Section profile defined in item_proper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43800" y="2057400"/>
            <a:ext cx="762120" cy="25146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2T03:16:57Z</dcterms:created>
  <dc:creator>Eastman</dc:creator>
  <dc:description/>
  <dc:language>en-US</dc:language>
  <cp:lastModifiedBy>fwang</cp:lastModifiedBy>
  <dcterms:modified xsi:type="dcterms:W3CDTF">2002-05-06T15:46:04Z</dcterms:modified>
  <cp:revision>2</cp:revision>
  <dc:subject/>
  <dc:title>No Slide Title</dc:title>
</cp:coreProperties>
</file>