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" name="Logo" descr=""/>
          <p:cNvPicPr/>
          <p:nvPr/>
        </p:nvPicPr>
        <p:blipFill>
          <a:blip r:embed="rId2"/>
          <a:stretch/>
        </p:blipFill>
        <p:spPr>
          <a:xfrm>
            <a:off x="76320" y="6218280"/>
            <a:ext cx="914400" cy="5983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478720" y="6242040"/>
            <a:ext cx="59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A645F-3416-42CA-847E-80E9F73155D8}" type="slidenum">
              <a:rPr b="0" lang="en-US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048280" y="6410160"/>
            <a:ext cx="121932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3 November,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71640" y="6404040"/>
            <a:ext cx="28954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60560" y="6281640"/>
            <a:ext cx="7458120" cy="93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3968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01520" algn="ctr"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336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IS/2 Workshop 5, Houston, TX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13</a:t>
            </a:r>
            <a:r>
              <a:rPr b="1" lang="en-US" sz="36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Nov 2000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914040" y="2819520"/>
            <a:ext cx="746748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Conformance Classes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4920" y="160020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hort Form Schema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 shorthand defini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eferences pre-defined elements from existing EXPRESS schem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declarations of TYPES, ENTITIES, FUNC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FROM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FERENCE FRO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 STEP toolkit will automatically generate the corresponding “long form” schem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TEP Short to Long Form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371600" y="3429000"/>
            <a:ext cx="60948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086600" y="3429000"/>
            <a:ext cx="609480" cy="2666880"/>
          </a:xfrm>
          <a:prstGeom prst="rect">
            <a:avLst/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00400" y="2133720"/>
            <a:ext cx="609480" cy="1295280"/>
          </a:xfrm>
          <a:prstGeom prst="rect">
            <a:avLst/>
          </a:prstGeom>
          <a:solidFill>
            <a:srgbClr val="ffff66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114800" y="2133720"/>
            <a:ext cx="609480" cy="1295280"/>
          </a:xfrm>
          <a:prstGeom prst="rect">
            <a:avLst/>
          </a:prstGeom>
          <a:solidFill>
            <a:srgbClr val="ffff66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952880" y="2133720"/>
            <a:ext cx="609840" cy="1295280"/>
          </a:xfrm>
          <a:prstGeom prst="rect">
            <a:avLst/>
          </a:prstGeom>
          <a:solidFill>
            <a:srgbClr val="ffff66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209680" y="4114800"/>
            <a:ext cx="464832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505320" y="3581280"/>
            <a:ext cx="380880" cy="60984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419720" y="3581280"/>
            <a:ext cx="428400" cy="68580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257800" y="3581280"/>
            <a:ext cx="523800" cy="83844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32600" y="4952880"/>
            <a:ext cx="194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hort 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(specific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70920" y="5029200"/>
            <a:ext cx="228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ng 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(implement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715720" y="2286000"/>
            <a:ext cx="131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C Short to Long Form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371600" y="3429000"/>
            <a:ext cx="60948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086600" y="3429000"/>
            <a:ext cx="609480" cy="2666880"/>
          </a:xfrm>
          <a:prstGeom prst="rect">
            <a:avLst/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62320" y="1676520"/>
            <a:ext cx="2209680" cy="1752480"/>
          </a:xfrm>
          <a:prstGeom prst="rect">
            <a:avLst/>
          </a:prstGeom>
          <a:solidFill>
            <a:srgbClr val="ffff66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LPM/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Times New Roman"/>
              </a:rPr>
              <a:t>(implement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952880" y="2133720"/>
            <a:ext cx="609840" cy="1295280"/>
          </a:xfrm>
          <a:prstGeom prst="rect">
            <a:avLst/>
          </a:prstGeom>
          <a:solidFill>
            <a:srgbClr val="ffff66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209680" y="4114800"/>
            <a:ext cx="464832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505320" y="3581280"/>
            <a:ext cx="380880" cy="609840"/>
          </a:xfrm>
          <a:prstGeom prst="line">
            <a:avLst/>
          </a:prstGeom>
          <a:ln w="38160">
            <a:solidFill>
              <a:srgbClr val="cc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257800" y="3581280"/>
            <a:ext cx="523800" cy="838440"/>
          </a:xfrm>
          <a:prstGeom prst="line">
            <a:avLst/>
          </a:prstGeom>
          <a:ln w="38160">
            <a:solidFill>
              <a:srgbClr val="cc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74280" y="4952880"/>
            <a:ext cx="206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C Short 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(specific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852800" y="5181480"/>
            <a:ext cx="204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C Long 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(test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716080" y="2286000"/>
            <a:ext cx="206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C Short 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hort Form for CC001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95120" y="914400"/>
            <a:ext cx="86346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CHEMA LPM5_CC001;  -- date_and_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USE FROM STRUCTURAL_FRAME_SCHEMA (date_and_time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-- Base Entity - frequently used in other C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REFERENCE FROM STRUCTURAL_FRAME_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alendar_dat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ordinated_universal_time_offset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at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local_tim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hort Form for CC001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52280" y="1143000"/>
            <a:ext cx="8686800" cy="50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FERENCE FROM STRUCTURAL_FRAME_SCHEMA ahead_or_behind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ay_in_month_numbe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ur_in_da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inute_in_hou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nth_in_year_numbe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cond_in_minut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ear_numbe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FERENCE FROM STRUCTURAL_FRAME_SCHEMA leap_yea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alid_calendar_dat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alid_tim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D_SCHEM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ong Form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Generated from the short form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ing a STEP toolki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panded schema result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ecific to that CC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ther types or entities may be pulled i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LECTS may also be pulled in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Numbering of CC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56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C001 - CC035 …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Common Resourc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C100 …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MC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C101 …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dvanced DMC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C102 - CC339 …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Specific CC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us, a given translator might support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C104, CC123, CC223”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 particular CCC is denoted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CC201+CC203)”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us, a given translator might support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C105, (CC201+CC203)”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066680" y="2362320"/>
            <a:ext cx="3657600" cy="2895480"/>
          </a:xfrm>
          <a:prstGeom prst="cloudCallout">
            <a:avLst>
              <a:gd name="adj1" fmla="val 37717"/>
              <a:gd name="adj2" fmla="val -149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219320" y="3276720"/>
            <a:ext cx="3200400" cy="1752480"/>
          </a:xfrm>
          <a:prstGeom prst="cloudCallout">
            <a:avLst>
              <a:gd name="adj1" fmla="val -23462"/>
              <a:gd name="adj2" fmla="val 3713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Translator Scope - Expor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791320" y="2179800"/>
            <a:ext cx="2514600" cy="1191240"/>
          </a:xfrm>
          <a:prstGeom prst="borderCallout2">
            <a:avLst>
              <a:gd name="adj1" fmla="val 18750"/>
              <a:gd name="adj2" fmla="val -8333"/>
              <a:gd name="adj3" fmla="val 9328"/>
              <a:gd name="adj4" fmla="val -13953"/>
              <a:gd name="adj5" fmla="val 57972"/>
              <a:gd name="adj6" fmla="val -57370"/>
            </a:avLst>
          </a:prstGeom>
          <a:solidFill>
            <a:srgbClr val="ffffff"/>
          </a:solidFill>
          <a:ln w="381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ll information scope of the 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286000" y="2895480"/>
            <a:ext cx="1752480" cy="1752840"/>
          </a:xfrm>
          <a:prstGeom prst="ellipse">
            <a:avLst/>
          </a:prstGeom>
          <a:solidFill>
            <a:srgbClr val="ffff66"/>
          </a:solidFill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791320" y="3889440"/>
            <a:ext cx="2514600" cy="825480"/>
          </a:xfrm>
          <a:prstGeom prst="borderCallout2">
            <a:avLst>
              <a:gd name="adj1" fmla="val 18750"/>
              <a:gd name="adj2" fmla="val -8333"/>
              <a:gd name="adj3" fmla="val 13282"/>
              <a:gd name="adj4" fmla="val -17740"/>
              <a:gd name="adj5" fmla="val -24930"/>
              <a:gd name="adj6" fmla="val -69180"/>
            </a:avLst>
          </a:prstGeom>
          <a:solidFill>
            <a:srgbClr val="ffff66"/>
          </a:solidFill>
          <a:ln w="381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ll CCC sco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transl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971800" y="3200400"/>
            <a:ext cx="990720" cy="990720"/>
          </a:xfrm>
          <a:prstGeom prst="ellipse">
            <a:avLst/>
          </a:prstGeom>
          <a:noFill/>
          <a:ln w="28440">
            <a:solidFill>
              <a:srgbClr val="00cc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362320" y="3200400"/>
            <a:ext cx="990360" cy="990720"/>
          </a:xfrm>
          <a:prstGeom prst="ellipse">
            <a:avLst/>
          </a:prstGeom>
          <a:noFill/>
          <a:ln w="28440">
            <a:solidFill>
              <a:srgbClr val="00cc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590920" y="3352680"/>
            <a:ext cx="1295280" cy="1295640"/>
          </a:xfrm>
          <a:prstGeom prst="ellipse">
            <a:avLst/>
          </a:prstGeom>
          <a:noFill/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819520" y="3657600"/>
            <a:ext cx="914400" cy="914400"/>
          </a:xfrm>
          <a:prstGeom prst="ellipse">
            <a:avLst/>
          </a:prstGeom>
          <a:noFill/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581280" y="5105520"/>
            <a:ext cx="2514600" cy="825480"/>
          </a:xfrm>
          <a:prstGeom prst="borderCallout2">
            <a:avLst>
              <a:gd name="adj1" fmla="val 18750"/>
              <a:gd name="adj2" fmla="val -8333"/>
              <a:gd name="adj3" fmla="val 13282"/>
              <a:gd name="adj4" fmla="val -14268"/>
              <a:gd name="adj5" fmla="val -61462"/>
              <a:gd name="adj6" fmla="val -54032"/>
            </a:avLst>
          </a:prstGeom>
          <a:solidFill>
            <a:srgbClr val="000000"/>
          </a:solidFill>
          <a:ln w="381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rt populated information sco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809880" y="1295280"/>
            <a:ext cx="4648320" cy="459720"/>
          </a:xfrm>
          <a:prstGeom prst="borderCallout2">
            <a:avLst>
              <a:gd name="adj1" fmla="val 18750"/>
              <a:gd name="adj2" fmla="val -8333"/>
              <a:gd name="adj3" fmla="val 23078"/>
              <a:gd name="adj4" fmla="val -4884"/>
              <a:gd name="adj5" fmla="val 451407"/>
              <a:gd name="adj6" fmla="val -16560"/>
            </a:avLst>
          </a:prstGeom>
          <a:solidFill>
            <a:srgbClr val="ffffff"/>
          </a:solidFill>
          <a:ln w="381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opulated lesser (supported) CC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457200" y="1981080"/>
            <a:ext cx="3809880" cy="38102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981080" y="3048120"/>
            <a:ext cx="2895840" cy="28954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Translator Scope - Impor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066680" y="2666880"/>
            <a:ext cx="3657600" cy="2895840"/>
          </a:xfrm>
          <a:prstGeom prst="cloudCallout">
            <a:avLst>
              <a:gd name="adj1" fmla="val -26777"/>
              <a:gd name="adj2" fmla="val 4221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791320" y="2560680"/>
            <a:ext cx="2514600" cy="1191240"/>
          </a:xfrm>
          <a:prstGeom prst="borderCallout2">
            <a:avLst>
              <a:gd name="adj1" fmla="val 18750"/>
              <a:gd name="adj2" fmla="val -8333"/>
              <a:gd name="adj3" fmla="val 9328"/>
              <a:gd name="adj4" fmla="val -13888"/>
              <a:gd name="adj5" fmla="val 49453"/>
              <a:gd name="adj6" fmla="val -52013"/>
            </a:avLst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ll information scope of the 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286000" y="3276720"/>
            <a:ext cx="6019920" cy="1819080"/>
            <a:chOff x="2286000" y="3276720"/>
            <a:chExt cx="6019920" cy="1819080"/>
          </a:xfrm>
        </p:grpSpPr>
        <p:sp>
          <p:nvSpPr>
            <p:cNvPr id="191" name=""/>
            <p:cNvSpPr/>
            <p:nvPr/>
          </p:nvSpPr>
          <p:spPr>
            <a:xfrm>
              <a:off x="2286000" y="3276720"/>
              <a:ext cx="1752480" cy="1752480"/>
            </a:xfrm>
            <a:prstGeom prst="ellipse">
              <a:avLst/>
            </a:prstGeom>
            <a:solidFill>
              <a:srgbClr val="ffff66"/>
            </a:solidFill>
            <a:ln w="572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791320" y="4270320"/>
              <a:ext cx="2514600" cy="825480"/>
            </a:xfrm>
            <a:prstGeom prst="borderCallout2">
              <a:avLst>
                <a:gd name="adj1" fmla="val 18750"/>
                <a:gd name="adj2" fmla="val -8333"/>
                <a:gd name="adj3" fmla="val 13282"/>
                <a:gd name="adj4" fmla="val -17740"/>
                <a:gd name="adj5" fmla="val -24930"/>
                <a:gd name="adj6" fmla="val -69180"/>
              </a:avLst>
            </a:prstGeom>
            <a:solidFill>
              <a:srgbClr val="ffff66"/>
            </a:solidFill>
            <a:ln w="3816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ull CCC scope of import translat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5562720" y="5486400"/>
            <a:ext cx="3352680" cy="459720"/>
          </a:xfrm>
          <a:prstGeom prst="borderCallout2">
            <a:avLst>
              <a:gd name="adj1" fmla="val 18750"/>
              <a:gd name="adj2" fmla="val -8333"/>
              <a:gd name="adj3" fmla="val 23078"/>
              <a:gd name="adj4" fmla="val -17472"/>
              <a:gd name="adj5" fmla="val 17291"/>
              <a:gd name="adj6" fmla="val -33236"/>
            </a:avLst>
          </a:prstGeom>
          <a:solidFill>
            <a:srgbClr val="000000"/>
          </a:solidFill>
          <a:ln w="381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99"/>
                </a:solidFill>
                <a:latin typeface="Times New Roman"/>
              </a:rPr>
              <a:t>Populated greater CC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onformance Clas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lnSpc>
                <a:spcPct val="110000"/>
              </a:lnSpc>
              <a:spcBef>
                <a:spcPts val="1049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erm borrowed from ISO10303 (STEP)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lnSpc>
                <a:spcPct val="110000"/>
              </a:lnSpc>
              <a:spcBef>
                <a:spcPts val="1049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ach CC a logical subset of LPM/5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d for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specifying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ranslator scop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d for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testing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ranslator compli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lnSpc>
                <a:spcPct val="110000"/>
              </a:lnSpc>
              <a:spcBef>
                <a:spcPts val="1049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Cs have hard boundari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l entities within must be supported in full!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onformance Clas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lnSpc>
                <a:spcPct val="110000"/>
              </a:lnSpc>
              <a:spcBef>
                <a:spcPts val="1049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e CIS/2 documentation pre-defines 275 modular CC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lnSpc>
                <a:spcPct val="110000"/>
              </a:lnSpc>
              <a:spcBef>
                <a:spcPts val="1049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ach is focused on a different base entit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arting point for defining a CC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ther entities where pulled-in thu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lnSpc>
                <a:spcPct val="110000"/>
              </a:lnSpc>
              <a:spcBef>
                <a:spcPts val="675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tities it references directl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lnSpc>
                <a:spcPct val="110000"/>
              </a:lnSpc>
              <a:spcBef>
                <a:spcPts val="675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tities that must point at i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lnSpc>
                <a:spcPct val="110000"/>
              </a:lnSpc>
              <a:spcBef>
                <a:spcPts val="1049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efines those CCs that are most likely to be needed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nly selected bases entiti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C Combina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lnSpc>
                <a:spcPct val="110000"/>
              </a:lnSpc>
              <a:spcBef>
                <a:spcPts val="1049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ach CC is designed to be minima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small coherent building block within a much larger LPM/5 </a:t>
            </a:r>
            <a:r>
              <a:rPr b="1" i="1" lang="en-US" sz="2400" spc="-1" strike="noStrike">
                <a:solidFill>
                  <a:srgbClr val="00cc99"/>
                </a:solidFill>
                <a:latin typeface="Arial"/>
              </a:rPr>
              <a:t>(atom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legitimate set of dat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t necessarily a meaningful set of data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lnSpc>
                <a:spcPct val="110000"/>
              </a:lnSpc>
              <a:spcBef>
                <a:spcPts val="1049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Cs can be used individually or in combination </a:t>
            </a:r>
            <a:r>
              <a:rPr b="1" i="1" lang="en-US" sz="2800" spc="-1" strike="noStrike">
                <a:solidFill>
                  <a:srgbClr val="00cc99"/>
                </a:solidFill>
                <a:latin typeface="Arial"/>
              </a:rPr>
              <a:t>(molecules)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 which CC Combinations to us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1593720" y="1574640"/>
            <a:ext cx="6951600" cy="4495680"/>
            <a:chOff x="1593720" y="1574640"/>
            <a:chExt cx="6951600" cy="4495680"/>
          </a:xfrm>
        </p:grpSpPr>
        <p:sp>
          <p:nvSpPr>
            <p:cNvPr id="95" name=""/>
            <p:cNvSpPr/>
            <p:nvPr/>
          </p:nvSpPr>
          <p:spPr>
            <a:xfrm>
              <a:off x="4049280" y="1650960"/>
              <a:ext cx="4496040" cy="220968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593720" y="1574640"/>
              <a:ext cx="5943600" cy="4495680"/>
              <a:chOff x="1593720" y="1574640"/>
              <a:chExt cx="5943600" cy="4495680"/>
            </a:xfrm>
          </p:grpSpPr>
          <p:sp>
            <p:nvSpPr>
              <p:cNvPr id="97" name=""/>
              <p:cNvSpPr/>
              <p:nvPr/>
            </p:nvSpPr>
            <p:spPr>
              <a:xfrm>
                <a:off x="4870080" y="2031840"/>
                <a:ext cx="2667240" cy="1523880"/>
              </a:xfrm>
              <a:prstGeom prst="roundRect">
                <a:avLst>
                  <a:gd name="adj" fmla="val 16667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5400000">
                <a:off x="2202840" y="3174840"/>
                <a:ext cx="1066680" cy="1219320"/>
              </a:xfrm>
              <a:custGeom>
                <a:avLst/>
                <a:gdLst>
                  <a:gd name="textAreaLeft" fmla="*/ 51840 w 1066680"/>
                  <a:gd name="textAreaRight" fmla="*/ 1014840 w 1066680"/>
                  <a:gd name="textAreaTop" fmla="*/ 51840 h 1219320"/>
                  <a:gd name="textAreaBottom" fmla="*/ 1167480 h 1219320"/>
                </a:gdLst>
                <a:ahLst/>
                <a:rect l="textAreaLeft" t="textAreaTop" r="textAreaRight" b="textAreaBottom"/>
                <a:pathLst>
                  <a:path w="21600" h="24690">
                    <a:moveTo>
                      <a:pt x="3600" y="0"/>
                    </a:moveTo>
                    <a:arcTo wR="3600" hR="3600" stAng="16200000" swAng="-5400000"/>
                    <a:lnTo>
                      <a:pt x="0" y="21090"/>
                    </a:lnTo>
                    <a:arcTo wR="3600" hR="3600" stAng="10800000" swAng="-5400000"/>
                    <a:lnTo>
                      <a:pt x="18000" y="2469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5400000">
                <a:off x="450360" y="2717640"/>
                <a:ext cx="4495680" cy="2209680"/>
              </a:xfrm>
              <a:prstGeom prst="roundRect">
                <a:avLst>
                  <a:gd name="adj" fmla="val 16667"/>
                </a:avLst>
              </a:prstGeom>
              <a:solidFill>
                <a:srgbClr val="ffcc00"/>
              </a:solidFill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0" name=""/>
          <p:cNvSpPr/>
          <p:nvPr/>
        </p:nvSpPr>
        <p:spPr>
          <a:xfrm>
            <a:off x="233280" y="3391920"/>
            <a:ext cx="1776600" cy="1483920"/>
          </a:xfrm>
          <a:prstGeom prst="wedgeRoundRectCallout">
            <a:avLst>
              <a:gd name="adj1" fmla="val 55263"/>
              <a:gd name="adj2" fmla="val -80972"/>
              <a:gd name="adj3" fmla="val 16667"/>
            </a:avLst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0086"/>
                </a:solidFill>
                <a:latin typeface="Times New Roman"/>
              </a:rPr>
              <a:t>Potential data scope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0086"/>
                </a:solidFill>
                <a:latin typeface="Times New Roman"/>
              </a:rPr>
              <a:t>importing application</a:t>
            </a:r>
            <a:r>
              <a:rPr b="1" lang="en-US" sz="2400" spc="-1" strike="noStrike">
                <a:solidFill>
                  <a:srgbClr val="b2b2b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032600" y="4622760"/>
            <a:ext cx="1762200" cy="1418400"/>
          </a:xfrm>
          <a:prstGeom prst="wedgeRoundRectCallout">
            <a:avLst>
              <a:gd name="adj1" fmla="val -17587"/>
              <a:gd name="adj2" fmla="val -77731"/>
              <a:gd name="adj3" fmla="val 16667"/>
            </a:avLst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0086"/>
                </a:solidFill>
                <a:latin typeface="Times New Roman"/>
              </a:rPr>
              <a:t>Potential data scope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0086"/>
                </a:solidFill>
                <a:latin typeface="Times New Roman"/>
              </a:rPr>
              <a:t>exporting app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100400" y="4858560"/>
            <a:ext cx="2097360" cy="759960"/>
          </a:xfrm>
          <a:prstGeom prst="wedgeRoundRectCallout">
            <a:avLst>
              <a:gd name="adj1" fmla="val -34111"/>
              <a:gd name="adj2" fmla="val -160888"/>
              <a:gd name="adj3" fmla="val 16667"/>
            </a:avLst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0086"/>
                </a:solidFill>
                <a:latin typeface="Times New Roman"/>
              </a:rPr>
              <a:t>Scope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0086"/>
                </a:solidFill>
                <a:latin typeface="Times New Roman"/>
              </a:rPr>
              <a:t>exchang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921120" y="2665440"/>
            <a:ext cx="1542960" cy="842760"/>
          </a:xfrm>
          <a:prstGeom prst="cloudCallout">
            <a:avLst>
              <a:gd name="adj1" fmla="val -6069"/>
              <a:gd name="adj2" fmla="val 593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800cc"/>
                </a:solidFill>
                <a:latin typeface="Times New Roman"/>
              </a:rPr>
              <a:t>Neut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800cc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7316640" y="885960"/>
            <a:ext cx="1408320" cy="903240"/>
          </a:xfrm>
          <a:prstGeom prst="cloudCallout">
            <a:avLst>
              <a:gd name="adj1" fmla="val -10541"/>
              <a:gd name="adj2" fmla="val -8175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800cc"/>
                </a:solidFill>
                <a:latin typeface="Times New Roman"/>
              </a:rPr>
              <a:t>N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800cc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47680" y="1521000"/>
            <a:ext cx="1425600" cy="973080"/>
          </a:xfrm>
          <a:prstGeom prst="cloudCallout">
            <a:avLst>
              <a:gd name="adj1" fmla="val 222"/>
              <a:gd name="adj2" fmla="val 3342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800cc"/>
                </a:solidFill>
                <a:latin typeface="Times New Roman"/>
              </a:rPr>
              <a:t>N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800cc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cope of Data Exchang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12760" y="1957320"/>
            <a:ext cx="1955880" cy="169380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0086"/>
                </a:solidFill>
                <a:latin typeface="Times New Roman"/>
              </a:rPr>
              <a:t>Scop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0086"/>
                </a:solidFill>
                <a:latin typeface="Times New Roman"/>
              </a:rPr>
              <a:t>Translator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0960" y="4073400"/>
            <a:ext cx="1940040" cy="169416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0086"/>
                </a:solidFill>
                <a:latin typeface="Times New Roman"/>
              </a:rPr>
              <a:t>Scop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0086"/>
                </a:solidFill>
                <a:latin typeface="Times New Roman"/>
              </a:rPr>
              <a:t>Translator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456240" y="3049560"/>
            <a:ext cx="1957680" cy="169380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0086"/>
                </a:solidFill>
                <a:latin typeface="Times New Roman"/>
              </a:rPr>
              <a:t>Scop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0086"/>
                </a:solidFill>
                <a:latin typeface="Times New Roman"/>
              </a:rPr>
              <a:t>Translator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421320" y="1125360"/>
            <a:ext cx="1976400" cy="169416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0086"/>
                </a:solidFill>
                <a:latin typeface="Times New Roman"/>
              </a:rPr>
              <a:t>Scop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0086"/>
                </a:solidFill>
                <a:latin typeface="Times New Roman"/>
              </a:rPr>
              <a:t>Translator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457440" y="950760"/>
            <a:ext cx="1730520" cy="5132520"/>
          </a:xfrm>
          <a:prstGeom prst="rect">
            <a:avLst/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LPM/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22640" y="3652920"/>
            <a:ext cx="12348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22640" y="1976400"/>
            <a:ext cx="12348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205000" y="4076640"/>
            <a:ext cx="12351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205000" y="5753160"/>
            <a:ext cx="12351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222880" y="1147680"/>
            <a:ext cx="12351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40160" y="2790720"/>
            <a:ext cx="11653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221440" y="4730760"/>
            <a:ext cx="12348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221440" y="3071880"/>
            <a:ext cx="12348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2205000" y="1957320"/>
            <a:ext cx="4199040" cy="847800"/>
            <a:chOff x="2205000" y="1957320"/>
            <a:chExt cx="4199040" cy="847800"/>
          </a:xfrm>
        </p:grpSpPr>
        <p:sp>
          <p:nvSpPr>
            <p:cNvPr id="121" name=""/>
            <p:cNvSpPr/>
            <p:nvPr/>
          </p:nvSpPr>
          <p:spPr>
            <a:xfrm>
              <a:off x="2205000" y="1957320"/>
              <a:ext cx="4199040" cy="830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572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873520" y="1974960"/>
              <a:ext cx="2911320" cy="830160"/>
            </a:xfrm>
            <a:prstGeom prst="leftRightArrow">
              <a:avLst>
                <a:gd name="adj1" fmla="val 50000"/>
                <a:gd name="adj2" fmla="val 69814"/>
              </a:avLst>
            </a:prstGeom>
            <a:solidFill>
              <a:srgbClr val="acaf1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2224080" y="2944800"/>
            <a:ext cx="4199040" cy="830160"/>
            <a:chOff x="2224080" y="2944800"/>
            <a:chExt cx="4199040" cy="830160"/>
          </a:xfrm>
        </p:grpSpPr>
        <p:sp>
          <p:nvSpPr>
            <p:cNvPr id="124" name=""/>
            <p:cNvSpPr/>
            <p:nvPr/>
          </p:nvSpPr>
          <p:spPr>
            <a:xfrm>
              <a:off x="2224080" y="3070080"/>
              <a:ext cx="4199040" cy="6192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572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873520" y="2944800"/>
              <a:ext cx="2911320" cy="830160"/>
            </a:xfrm>
            <a:prstGeom prst="leftRightArrow">
              <a:avLst>
                <a:gd name="adj1" fmla="val 50000"/>
                <a:gd name="adj2" fmla="val 69814"/>
              </a:avLst>
            </a:prstGeom>
            <a:solidFill>
              <a:srgbClr val="acaf1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2205000" y="3986280"/>
            <a:ext cx="4199040" cy="830160"/>
            <a:chOff x="2205000" y="3986280"/>
            <a:chExt cx="4199040" cy="830160"/>
          </a:xfrm>
        </p:grpSpPr>
        <p:sp>
          <p:nvSpPr>
            <p:cNvPr id="127" name=""/>
            <p:cNvSpPr/>
            <p:nvPr/>
          </p:nvSpPr>
          <p:spPr>
            <a:xfrm>
              <a:off x="2205000" y="4075200"/>
              <a:ext cx="4199040" cy="6541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572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73520" y="3986280"/>
              <a:ext cx="2911320" cy="830160"/>
            </a:xfrm>
            <a:prstGeom prst="leftRightArrow">
              <a:avLst>
                <a:gd name="adj1" fmla="val 50000"/>
                <a:gd name="adj2" fmla="val 69814"/>
              </a:avLst>
            </a:prstGeom>
            <a:solidFill>
              <a:srgbClr val="acaf1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Entities in a CC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52280" y="685800"/>
          <a:ext cx="8944200" cy="548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685800"/>
                    <a:ext cx="894420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"/>
          <p:cNvSpPr/>
          <p:nvPr/>
        </p:nvSpPr>
        <p:spPr>
          <a:xfrm>
            <a:off x="1904760" y="5715000"/>
            <a:ext cx="567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C1 = entities A1+A11+A111+B1+B11+C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Entities in a CC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88920" y="838080"/>
          <a:ext cx="8996400" cy="519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920" y="838080"/>
                    <a:ext cx="8996400" cy="519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2284920" y="5410080"/>
            <a:ext cx="411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C2 = entities B1+B12+D1+E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Hard Boundari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lnSpc>
                <a:spcPct val="105000"/>
              </a:lnSpc>
              <a:spcBef>
                <a:spcPts val="1049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overall scope of a particular translator corresponds to a particular CCC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lnSpc>
                <a:spcPct val="105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rrectly translate </a:t>
            </a:r>
            <a:r>
              <a:rPr b="1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all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data within that valid sub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lnSpc>
                <a:spcPct val="105000"/>
              </a:lnSpc>
              <a:spcBef>
                <a:spcPts val="675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very entity, an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lnSpc>
                <a:spcPct val="105000"/>
              </a:lnSpc>
              <a:spcBef>
                <a:spcPts val="675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very (non OPTIONAL) attribut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lnSpc>
                <a:spcPct val="105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ranslator may provide user control for exporting or importing lesser CCC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13T14:59:35Z</dcterms:created>
  <dc:creator>Andrew Crowley</dc:creator>
  <dc:description/>
  <dc:language>en-US</dc:language>
  <cp:lastModifiedBy>Andrew Crowley</cp:lastModifiedBy>
  <dcterms:modified xsi:type="dcterms:W3CDTF">2000-11-14T14:55:29Z</dcterms:modified>
  <cp:revision>8</cp:revision>
  <dc:subject/>
  <dc:title>CIS/2 Workshop 5, Houston, TX 13th Nov 2000</dc:title>
</cp:coreProperties>
</file>