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958B-549C-49BE-A7B5-A0367633894B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3057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680" y="4090680"/>
            <a:ext cx="885816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3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2"/>
            <a:endCxn id="154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1" idx="3"/>
            <a:endCxn id="160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61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60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2"/>
            <a:endCxn id="177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4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2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9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96" idx="3"/>
            <a:endCxn id="199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3800" y="1392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40600" y="2359080"/>
            <a:ext cx="690480" cy="592560"/>
            <a:chOff x="6240600" y="2359080"/>
            <a:chExt cx="690480" cy="592560"/>
          </a:xfrm>
        </p:grpSpPr>
        <p:sp>
          <p:nvSpPr>
            <p:cNvPr id="208" name=""/>
            <p:cNvSpPr/>
            <p:nvPr/>
          </p:nvSpPr>
          <p:spPr>
            <a:xfrm>
              <a:off x="6240600" y="2581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1160" y="2359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50040" y="2563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212" idx="2"/>
            <a:endCxn id="209" idx="0"/>
          </p:cNvCxnSpPr>
          <p:nvPr/>
        </p:nvCxnSpPr>
        <p:spPr>
          <a:xfrm>
            <a:off x="6584760" y="1832040"/>
            <a:ext cx="1080" cy="5133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7205760" y="3121200"/>
            <a:ext cx="1792440" cy="398880"/>
            <a:chOff x="7205760" y="3121200"/>
            <a:chExt cx="1792440" cy="398880"/>
          </a:xfrm>
        </p:grpSpPr>
        <p:sp>
          <p:nvSpPr>
            <p:cNvPr id="214" name=""/>
            <p:cNvSpPr/>
            <p:nvPr/>
          </p:nvSpPr>
          <p:spPr>
            <a:xfrm>
              <a:off x="7428960" y="312120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5760" y="3222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232760" y="3711600"/>
            <a:ext cx="1734840" cy="398880"/>
            <a:chOff x="7232760" y="3711600"/>
            <a:chExt cx="1734840" cy="398880"/>
          </a:xfrm>
        </p:grpSpPr>
        <p:sp>
          <p:nvSpPr>
            <p:cNvPr id="217" name=""/>
            <p:cNvSpPr/>
            <p:nvPr/>
          </p:nvSpPr>
          <p:spPr>
            <a:xfrm>
              <a:off x="7456320" y="37116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2760" y="3813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6443640" y="3132720"/>
            <a:ext cx="916560" cy="632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8" idx="2"/>
            <a:endCxn id="215" idx="2"/>
          </p:cNvCxnSpPr>
          <p:nvPr/>
        </p:nvCxnSpPr>
        <p:spPr>
          <a:xfrm flipH="1" rot="16200000">
            <a:off x="6726240" y="2850840"/>
            <a:ext cx="326160" cy="605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604560" y="1978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4130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151776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50760" y="139500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06" idx="1"/>
            <a:endCxn id="223" idx="6"/>
          </p:cNvCxnSpPr>
          <p:nvPr/>
        </p:nvCxnSpPr>
        <p:spPr>
          <a:xfrm flipH="1">
            <a:off x="2920320" y="1604880"/>
            <a:ext cx="189612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852280" y="1224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4160" y="17226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1120" y="28494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9560" y="257184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92520" y="351144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8520" y="37558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4240" y="438480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8520" y="4667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7" idx="2"/>
            <a:endCxn id="228" idx="6"/>
          </p:cNvCxnSpPr>
          <p:nvPr/>
        </p:nvCxnSpPr>
        <p:spPr>
          <a:xfrm rot="5400000">
            <a:off x="4639680" y="2236680"/>
            <a:ext cx="1104120" cy="3103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7" idx="2"/>
            <a:endCxn id="231" idx="6"/>
          </p:cNvCxnSpPr>
          <p:nvPr/>
        </p:nvCxnSpPr>
        <p:spPr>
          <a:xfrm rot="5400000">
            <a:off x="4179960" y="2683440"/>
            <a:ext cx="201060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6" name=""/>
          <p:cNvCxnSpPr>
            <a:stCxn id="227" idx="2"/>
            <a:endCxn id="233" idx="6"/>
          </p:cNvCxnSpPr>
          <p:nvPr/>
        </p:nvCxnSpPr>
        <p:spPr>
          <a:xfrm rot="5400000">
            <a:off x="3724200" y="3139200"/>
            <a:ext cx="292176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009760" y="2409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0640" y="3432240"/>
            <a:ext cx="1123560" cy="576360"/>
            <a:chOff x="620640" y="3432240"/>
            <a:chExt cx="1123560" cy="576360"/>
          </a:xfrm>
        </p:grpSpPr>
        <p:sp>
          <p:nvSpPr>
            <p:cNvPr id="239" name=""/>
            <p:cNvSpPr/>
            <p:nvPr/>
          </p:nvSpPr>
          <p:spPr>
            <a:xfrm>
              <a:off x="825480" y="36180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640" y="374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7960" y="3432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36180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44" idx="2"/>
            <a:endCxn id="241" idx="0"/>
          </p:cNvCxnSpPr>
          <p:nvPr/>
        </p:nvCxnSpPr>
        <p:spPr>
          <a:xfrm>
            <a:off x="1209240" y="300168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5" name=""/>
          <p:cNvGrpSpPr/>
          <p:nvPr/>
        </p:nvGrpSpPr>
        <p:grpSpPr>
          <a:xfrm>
            <a:off x="6042600" y="4551480"/>
            <a:ext cx="1664640" cy="398880"/>
            <a:chOff x="6042600" y="4551480"/>
            <a:chExt cx="1664640" cy="398880"/>
          </a:xfrm>
        </p:grpSpPr>
        <p:sp>
          <p:nvSpPr>
            <p:cNvPr id="246" name=""/>
            <p:cNvSpPr/>
            <p:nvPr/>
          </p:nvSpPr>
          <p:spPr>
            <a:xfrm>
              <a:off x="7520040" y="4668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2600" y="45514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33320" y="5157720"/>
            <a:ext cx="1573560" cy="398880"/>
            <a:chOff x="6133320" y="5157720"/>
            <a:chExt cx="1573560" cy="398880"/>
          </a:xfrm>
        </p:grpSpPr>
        <p:sp>
          <p:nvSpPr>
            <p:cNvPr id="249" name=""/>
            <p:cNvSpPr/>
            <p:nvPr/>
          </p:nvSpPr>
          <p:spPr>
            <a:xfrm>
              <a:off x="6133320" y="515772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9680" y="52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50680" y="5719680"/>
            <a:ext cx="1456200" cy="398880"/>
            <a:chOff x="6250680" y="5719680"/>
            <a:chExt cx="1456200" cy="398880"/>
          </a:xfrm>
        </p:grpSpPr>
        <p:sp>
          <p:nvSpPr>
            <p:cNvPr id="252" name=""/>
            <p:cNvSpPr/>
            <p:nvPr/>
          </p:nvSpPr>
          <p:spPr>
            <a:xfrm>
              <a:off x="6250680" y="571968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9680" y="5830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17" idx="2"/>
            <a:endCxn id="246" idx="6"/>
          </p:cNvCxnSpPr>
          <p:nvPr/>
        </p:nvCxnSpPr>
        <p:spPr>
          <a:xfrm rot="5400000">
            <a:off x="7667640" y="4218840"/>
            <a:ext cx="61200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5" name=""/>
          <p:cNvCxnSpPr>
            <a:stCxn id="217" idx="2"/>
            <a:endCxn id="250" idx="6"/>
          </p:cNvCxnSpPr>
          <p:nvPr/>
        </p:nvCxnSpPr>
        <p:spPr>
          <a:xfrm rot="5400000">
            <a:off x="7353360" y="4533120"/>
            <a:ext cx="124056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6" name=""/>
          <p:cNvCxnSpPr>
            <a:stCxn id="217" idx="2"/>
            <a:endCxn id="253" idx="6"/>
          </p:cNvCxnSpPr>
          <p:nvPr/>
        </p:nvCxnSpPr>
        <p:spPr>
          <a:xfrm rot="5400000">
            <a:off x="7086600" y="4799880"/>
            <a:ext cx="177408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7830720" y="4324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8440" y="4016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2400" y="2592360"/>
            <a:ext cx="2002680" cy="368280"/>
            <a:chOff x="302400" y="2592360"/>
            <a:chExt cx="2002680" cy="368280"/>
          </a:xfrm>
        </p:grpSpPr>
        <p:sp>
          <p:nvSpPr>
            <p:cNvPr id="244" name=""/>
            <p:cNvSpPr/>
            <p:nvPr/>
          </p:nvSpPr>
          <p:spPr>
            <a:xfrm>
              <a:off x="302400" y="2592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52440" y="272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22440" y="1698480"/>
            <a:ext cx="21744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2"/>
            <a:endCxn id="260" idx="6"/>
          </p:cNvCxnSpPr>
          <p:nvPr/>
        </p:nvCxnSpPr>
        <p:spPr>
          <a:xfrm rot="5400000">
            <a:off x="1924920" y="2193840"/>
            <a:ext cx="1000800" cy="2134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61" idx="2"/>
            <a:endCxn id="264" idx="6"/>
          </p:cNvCxnSpPr>
          <p:nvPr/>
        </p:nvCxnSpPr>
        <p:spPr>
          <a:xfrm rot="5400000">
            <a:off x="986760" y="3146400"/>
            <a:ext cx="2891520" cy="1994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61" idx="2"/>
            <a:endCxn id="266" idx="6"/>
          </p:cNvCxnSpPr>
          <p:nvPr/>
        </p:nvCxnSpPr>
        <p:spPr>
          <a:xfrm rot="5400000">
            <a:off x="344160" y="3755520"/>
            <a:ext cx="4143600" cy="2325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7" name=""/>
          <p:cNvCxnSpPr>
            <a:stCxn id="258" idx="4"/>
            <a:endCxn id="268" idx="0"/>
          </p:cNvCxnSpPr>
          <p:nvPr/>
        </p:nvCxnSpPr>
        <p:spPr>
          <a:xfrm>
            <a:off x="1274400" y="4182840"/>
            <a:ext cx="1188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9" name=""/>
          <p:cNvGrpSpPr/>
          <p:nvPr/>
        </p:nvGrpSpPr>
        <p:grpSpPr>
          <a:xfrm>
            <a:off x="415800" y="4483080"/>
            <a:ext cx="1903680" cy="368280"/>
            <a:chOff x="415800" y="4483080"/>
            <a:chExt cx="1903680" cy="368280"/>
          </a:xfrm>
        </p:grpSpPr>
        <p:sp>
          <p:nvSpPr>
            <p:cNvPr id="268" name=""/>
            <p:cNvSpPr/>
            <p:nvPr/>
          </p:nvSpPr>
          <p:spPr>
            <a:xfrm>
              <a:off x="415800" y="44830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6840" y="4614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2760" y="5749920"/>
            <a:ext cx="1803240" cy="368280"/>
            <a:chOff x="482760" y="5749920"/>
            <a:chExt cx="1803240" cy="368280"/>
          </a:xfrm>
        </p:grpSpPr>
        <p:sp>
          <p:nvSpPr>
            <p:cNvPr id="271" name=""/>
            <p:cNvSpPr/>
            <p:nvPr/>
          </p:nvSpPr>
          <p:spPr>
            <a:xfrm>
              <a:off x="482760" y="574992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586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2" name=""/>
          <p:cNvCxnSpPr>
            <a:stCxn id="271" idx="1"/>
            <a:endCxn id="240" idx="2"/>
          </p:cNvCxnSpPr>
          <p:nvPr/>
        </p:nvCxnSpPr>
        <p:spPr>
          <a:xfrm flipH="1" rot="10800000">
            <a:off x="449640" y="381708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532560" y="17146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7160" y="110016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00620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42040" y="363708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63520" y="2492280"/>
            <a:ext cx="1128600" cy="1111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9160" y="219240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7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90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3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  <a:endCxn id="300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09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13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6" name=""/>
          <p:cNvCxnSpPr>
            <a:stCxn id="305" idx="3"/>
            <a:endCxn id="309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05" idx="2"/>
            <a:endCxn id="313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2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1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3" name=""/>
          <p:cNvCxnSpPr>
            <a:stCxn id="320" idx="2"/>
            <a:endCxn id="294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4" name=""/>
          <p:cNvCxnSpPr>
            <a:stCxn id="321" idx="2"/>
            <a:endCxn id="296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7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58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62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5" name=""/>
          <p:cNvCxnSpPr>
            <a:stCxn id="354" idx="3"/>
            <a:endCxn id="358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54" idx="2"/>
            <a:endCxn id="362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" name=""/>
          <p:cNvCxnSpPr>
            <a:stCxn id="369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2" name=""/>
          <p:cNvCxnSpPr>
            <a:stCxn id="369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3" name=""/>
          <p:cNvCxnSpPr>
            <a:stCxn id="370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69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79" name=""/>
          <p:cNvCxnSpPr>
            <a:stCxn id="370" idx="2"/>
            <a:endCxn id="355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0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2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480" y="2981160"/>
            <a:ext cx="8518680" cy="32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9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4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7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3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6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volution of STEP Part 2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768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n instance exchange language that wa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b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comprehensive to include instances of every type of product data defined in a STEP schem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d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ditable against the schema it instantia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9000" y="69840"/>
          <a:ext cx="18288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69840"/>
                    <a:ext cx="1828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0634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0" y="37544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51:00Z</dcterms:modified>
  <cp:revision>93</cp:revision>
  <dc:subject/>
  <dc:title>STEP Part 21</dc:title>
</cp:coreProperties>
</file>