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WHOOSH.WAV" ContentType="audio/x-wav"/>
  <Override PartName="/ppt/media/image17.png" ContentType="image/png"/>
  <Override PartName="/ppt/media/image16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4718-CC91-4071-8A22-BA50EF5F6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02C2-2C5B-487D-A63B-661F06426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68B9-163A-4C79-9C9B-832BA2B36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F776-DD25-4DF8-89DD-6825AFA92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CF00-5285-4FB9-9597-8107BA67A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55FC-8401-4129-B06E-CF4FFE68A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5CA3-C2F0-4CB0-93FA-5EA42907E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9223-1445-41F2-9248-9DBC33718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6893-B35D-4178-8073-B58A9A608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BB31-47C4-49FE-8BCB-6BD86837F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A64A-E9AA-41DA-A592-346D3E62F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D430-424B-4923-A57D-921188FA9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6181-7B92-43CA-ABD3-674F7204F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42C4-41ED-40AD-B832-DDCB361A3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BB93-7D39-4F10-910E-DE7717660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0C29-0C98-43A3-B8D3-51C3402C6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A28A-3EE2-4056-B278-90C01E728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4EEC-43AC-49A5-9F0E-B7D301872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05D3-28A1-4543-B105-9FC3AF57B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EC3F-913E-4133-A4EB-650925E85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4C52-9C58-4241-A788-25A5F6D84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7A17-BDE5-41CE-9C57-40998773C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6784-5E3C-4A2D-9D73-4CA6D935A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57F3-F28E-49D2-9741-D26E15CA0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28BF-5AB7-4F8C-AB2D-91CF93228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05FA-2B6D-4A5C-87CF-8B0164F27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C41D-AA1F-4093-884C-16D6AD7DB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31A0-A742-4CFF-925B-533B3A064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4191-D92E-4FEB-A474-7EC179270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D6CF-0305-4C5E-95F3-66FAF927C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32880" y="6465960"/>
            <a:ext cx="463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0C5A-50FD-4B76-A505-C59FE2F8088C}" type="slidenum"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Rectangle 1027"/>
          <p:cNvSpPr/>
          <p:nvPr/>
        </p:nvSpPr>
        <p:spPr>
          <a:xfrm>
            <a:off x="2381400" y="37296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28"/>
          <p:cNvSpPr/>
          <p:nvPr/>
        </p:nvSpPr>
        <p:spPr>
          <a:xfrm>
            <a:off x="3359160" y="214956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29"/>
          <p:cNvSpPr/>
          <p:nvPr/>
        </p:nvSpPr>
        <p:spPr>
          <a:xfrm>
            <a:off x="2381400" y="464976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030"/>
          <p:cNvSpPr/>
          <p:nvPr/>
        </p:nvSpPr>
        <p:spPr>
          <a:xfrm>
            <a:off x="3354480" y="2593800"/>
            <a:ext cx="2263680" cy="91944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031"/>
          <p:cNvSpPr/>
          <p:nvPr/>
        </p:nvSpPr>
        <p:spPr>
          <a:xfrm>
            <a:off x="3333600" y="4756320"/>
            <a:ext cx="2289240" cy="102528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032"/>
          <p:cNvSpPr/>
          <p:nvPr/>
        </p:nvSpPr>
        <p:spPr>
          <a:xfrm>
            <a:off x="4508640" y="360036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033"/>
          <p:cNvSpPr/>
          <p:nvPr/>
        </p:nvSpPr>
        <p:spPr>
          <a:xfrm>
            <a:off x="2482920" y="360216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034"/>
          <p:cNvSpPr/>
          <p:nvPr/>
        </p:nvSpPr>
        <p:spPr>
          <a:xfrm>
            <a:off x="2446200" y="3108240"/>
            <a:ext cx="879480" cy="240840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400"/>
              <a:gd name="textAreaBottom" fmla="*/ 1746720 h 240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035"/>
          <p:cNvSpPr/>
          <p:nvPr/>
        </p:nvSpPr>
        <p:spPr>
          <a:xfrm flipH="1" flipV="1">
            <a:off x="5619600" y="284796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036"/>
          <p:cNvSpPr/>
          <p:nvPr/>
        </p:nvSpPr>
        <p:spPr>
          <a:xfrm>
            <a:off x="4556160" y="136512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37"/>
          <p:cNvSpPr/>
          <p:nvPr/>
        </p:nvSpPr>
        <p:spPr>
          <a:xfrm>
            <a:off x="2538360" y="1360440"/>
            <a:ext cx="1855800" cy="7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038"/>
          <p:cNvSpPr/>
          <p:nvPr/>
        </p:nvSpPr>
        <p:spPr>
          <a:xfrm flipV="1">
            <a:off x="2568600" y="2089080"/>
            <a:ext cx="839880" cy="1100160"/>
          </a:xfrm>
          <a:custGeom>
            <a:avLst/>
            <a:gdLst>
              <a:gd name="textAreaLeft" fmla="*/ 483120 w 839880"/>
              <a:gd name="textAreaRight" fmla="*/ 667080 w 839880"/>
              <a:gd name="textAreaTop" fmla="*/ 159480 h 1100160"/>
              <a:gd name="textAreaBottom" fmla="*/ 459720 h 11001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3133"/>
                </a:lnTo>
                <a:cubicBezTo>
                  <a:pt x="5564" y="3133"/>
                  <a:pt x="0" y="7174"/>
                  <a:pt x="0" y="12158"/>
                </a:cubicBezTo>
                <a:lnTo>
                  <a:pt x="0" y="21600"/>
                </a:lnTo>
                <a:lnTo>
                  <a:pt x="6022" y="21600"/>
                </a:lnTo>
                <a:lnTo>
                  <a:pt x="6022" y="12158"/>
                </a:lnTo>
                <a:cubicBezTo>
                  <a:pt x="6022" y="10428"/>
                  <a:pt x="8890" y="9025"/>
                  <a:pt x="12427" y="9025"/>
                </a:cubicBezTo>
                <a:lnTo>
                  <a:pt x="1242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039"/>
          <p:cNvSpPr/>
          <p:nvPr/>
        </p:nvSpPr>
        <p:spPr>
          <a:xfrm flipH="1" rot="5400000">
            <a:off x="5576040" y="2121120"/>
            <a:ext cx="904680" cy="789120"/>
          </a:xfrm>
          <a:custGeom>
            <a:avLst/>
            <a:gdLst>
              <a:gd name="textAreaLeft" fmla="*/ 520560 w 904680"/>
              <a:gd name="textAreaRight" fmla="*/ 802440 w 904680"/>
              <a:gd name="textAreaTop" fmla="*/ 128160 h 789120"/>
              <a:gd name="textAreaBottom" fmla="*/ 315720 h 7891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800" y="0"/>
                </a:lnTo>
                <a:lnTo>
                  <a:pt x="15800" y="3516"/>
                </a:lnTo>
                <a:lnTo>
                  <a:pt x="12427" y="3516"/>
                </a:lnTo>
                <a:cubicBezTo>
                  <a:pt x="5564" y="3516"/>
                  <a:pt x="0" y="7385"/>
                  <a:pt x="0" y="12158"/>
                </a:cubicBezTo>
                <a:lnTo>
                  <a:pt x="0" y="21600"/>
                </a:lnTo>
                <a:lnTo>
                  <a:pt x="5239" y="21600"/>
                </a:lnTo>
                <a:lnTo>
                  <a:pt x="5239" y="12158"/>
                </a:lnTo>
                <a:cubicBezTo>
                  <a:pt x="5239" y="10216"/>
                  <a:pt x="8457" y="8642"/>
                  <a:pt x="12427" y="8642"/>
                </a:cubicBezTo>
                <a:lnTo>
                  <a:pt x="15800" y="8642"/>
                </a:lnTo>
                <a:lnTo>
                  <a:pt x="158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7093080" y="134604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043"/>
          <p:cNvSpPr/>
          <p:nvPr/>
        </p:nvSpPr>
        <p:spPr>
          <a:xfrm>
            <a:off x="6527880" y="1428840"/>
            <a:ext cx="511200" cy="582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1045"/>
          <p:cNvSpPr/>
          <p:nvPr/>
        </p:nvSpPr>
        <p:spPr>
          <a:xfrm>
            <a:off x="1747800" y="1481040"/>
            <a:ext cx="793800" cy="582840"/>
          </a:xfrm>
          <a:prstGeom prst="rightArrow">
            <a:avLst>
              <a:gd name="adj1" fmla="val 50000"/>
              <a:gd name="adj2" fmla="val 3404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041" descr=""/>
          <p:cNvPicPr/>
          <p:nvPr/>
        </p:nvPicPr>
        <p:blipFill>
          <a:blip r:embed="rId2"/>
          <a:stretch/>
        </p:blipFill>
        <p:spPr>
          <a:xfrm>
            <a:off x="528480" y="1403280"/>
            <a:ext cx="1768680" cy="7462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046"/>
          <p:cNvSpPr/>
          <p:nvPr/>
        </p:nvSpPr>
        <p:spPr>
          <a:xfrm>
            <a:off x="406440" y="220176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047"/>
          <p:cNvSpPr/>
          <p:nvPr/>
        </p:nvSpPr>
        <p:spPr>
          <a:xfrm>
            <a:off x="7004160" y="213192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1048"/>
          <p:cNvSpPr/>
          <p:nvPr/>
        </p:nvSpPr>
        <p:spPr>
          <a:xfrm>
            <a:off x="2363760" y="3543480"/>
            <a:ext cx="2098800" cy="1130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1049"/>
          <p:cNvSpPr/>
          <p:nvPr/>
        </p:nvSpPr>
        <p:spPr>
          <a:xfrm>
            <a:off x="4516560" y="352584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5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6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7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0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22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5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6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7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20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22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3264840" y="163980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2557800" y="148896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9"/>
          <p:cNvSpPr/>
          <p:nvPr/>
        </p:nvSpPr>
        <p:spPr>
          <a:xfrm flipH="1">
            <a:off x="2282760" y="1838160"/>
            <a:ext cx="96048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27"/>
          <p:cNvGrpSpPr/>
          <p:nvPr/>
        </p:nvGrpSpPr>
        <p:grpSpPr>
          <a:xfrm>
            <a:off x="903960" y="1636560"/>
            <a:ext cx="1378800" cy="374400"/>
            <a:chOff x="903960" y="1636560"/>
            <a:chExt cx="1378800" cy="374400"/>
          </a:xfrm>
        </p:grpSpPr>
        <p:sp>
          <p:nvSpPr>
            <p:cNvPr id="259" name="Text Box 14"/>
            <p:cNvSpPr/>
            <p:nvPr/>
          </p:nvSpPr>
          <p:spPr>
            <a:xfrm>
              <a:off x="903960" y="163656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Oval 20"/>
            <p:cNvSpPr/>
            <p:nvPr/>
          </p:nvSpPr>
          <p:spPr>
            <a:xfrm>
              <a:off x="2130480" y="177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21"/>
            <p:cNvSpPr/>
            <p:nvPr/>
          </p:nvSpPr>
          <p:spPr>
            <a:xfrm flipV="1">
              <a:off x="1974960" y="16585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22"/>
          <p:cNvGrpSpPr/>
          <p:nvPr/>
        </p:nvGrpSpPr>
        <p:grpSpPr>
          <a:xfrm>
            <a:off x="6135840" y="1654200"/>
            <a:ext cx="1123920" cy="390600"/>
            <a:chOff x="6135840" y="1654200"/>
            <a:chExt cx="1123920" cy="390600"/>
          </a:xfrm>
        </p:grpSpPr>
        <p:sp>
          <p:nvSpPr>
            <p:cNvPr id="263" name="Text Box 23"/>
            <p:cNvSpPr/>
            <p:nvPr/>
          </p:nvSpPr>
          <p:spPr>
            <a:xfrm>
              <a:off x="6341400" y="16542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Oval 24"/>
            <p:cNvSpPr/>
            <p:nvPr/>
          </p:nvSpPr>
          <p:spPr>
            <a:xfrm>
              <a:off x="6135840" y="1778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7115400" y="16542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AutoShape 26"/>
          <p:cNvCxnSpPr>
            <a:stCxn id="255" idx="3"/>
            <a:endCxn id="264" idx="2"/>
          </p:cNvCxnSpPr>
          <p:nvPr/>
        </p:nvCxnSpPr>
        <p:spPr>
          <a:xfrm>
            <a:off x="4664160" y="1852200"/>
            <a:ext cx="14580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Rectangle 28"/>
          <p:cNvSpPr/>
          <p:nvPr/>
        </p:nvSpPr>
        <p:spPr>
          <a:xfrm>
            <a:off x="4904640" y="14540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Group 29"/>
          <p:cNvGrpSpPr/>
          <p:nvPr/>
        </p:nvGrpSpPr>
        <p:grpSpPr>
          <a:xfrm>
            <a:off x="6135840" y="1019160"/>
            <a:ext cx="1123920" cy="390600"/>
            <a:chOff x="6135840" y="1019160"/>
            <a:chExt cx="1123920" cy="390600"/>
          </a:xfrm>
        </p:grpSpPr>
        <p:sp>
          <p:nvSpPr>
            <p:cNvPr id="269" name="Text Box 30"/>
            <p:cNvSpPr/>
            <p:nvPr/>
          </p:nvSpPr>
          <p:spPr>
            <a:xfrm>
              <a:off x="6341400" y="10191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Oval 31"/>
            <p:cNvSpPr/>
            <p:nvPr/>
          </p:nvSpPr>
          <p:spPr>
            <a:xfrm>
              <a:off x="6135840" y="114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32"/>
            <p:cNvSpPr/>
            <p:nvPr/>
          </p:nvSpPr>
          <p:spPr>
            <a:xfrm>
              <a:off x="7115400" y="10191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33"/>
          <p:cNvGrpSpPr/>
          <p:nvPr/>
        </p:nvGrpSpPr>
        <p:grpSpPr>
          <a:xfrm>
            <a:off x="6135840" y="2359080"/>
            <a:ext cx="1123920" cy="390600"/>
            <a:chOff x="6135840" y="2359080"/>
            <a:chExt cx="1123920" cy="390600"/>
          </a:xfrm>
        </p:grpSpPr>
        <p:sp>
          <p:nvSpPr>
            <p:cNvPr id="273" name="Text Box 34"/>
            <p:cNvSpPr/>
            <p:nvPr/>
          </p:nvSpPr>
          <p:spPr>
            <a:xfrm>
              <a:off x="6341400" y="2359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Oval 35"/>
            <p:cNvSpPr/>
            <p:nvPr/>
          </p:nvSpPr>
          <p:spPr>
            <a:xfrm>
              <a:off x="6135840" y="2482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36"/>
            <p:cNvSpPr/>
            <p:nvPr/>
          </p:nvSpPr>
          <p:spPr>
            <a:xfrm>
              <a:off x="7115400" y="2359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Rectangle 37"/>
          <p:cNvSpPr/>
          <p:nvPr/>
        </p:nvSpPr>
        <p:spPr>
          <a:xfrm>
            <a:off x="4303800" y="165744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AutoShape 38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613080"/>
            <a:ext cx="43884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8" name="AutoShape 39"/>
          <p:cNvCxnSpPr>
            <a:stCxn id="276" idx="2"/>
            <a:endCxn id="274" idx="2"/>
          </p:cNvCxnSpPr>
          <p:nvPr/>
        </p:nvCxnSpPr>
        <p:spPr>
          <a:xfrm flipH="1" rot="16200000">
            <a:off x="5049000" y="1486080"/>
            <a:ext cx="49572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Rectangle 40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1"/>
          <p:cNvSpPr/>
          <p:nvPr/>
        </p:nvSpPr>
        <p:spPr>
          <a:xfrm>
            <a:off x="4904640" y="21938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46"/>
          <p:cNvGrpSpPr/>
          <p:nvPr/>
        </p:nvGrpSpPr>
        <p:grpSpPr>
          <a:xfrm>
            <a:off x="869400" y="3048120"/>
            <a:ext cx="1483200" cy="374040"/>
            <a:chOff x="869400" y="3048120"/>
            <a:chExt cx="1483200" cy="374040"/>
          </a:xfrm>
        </p:grpSpPr>
        <p:sp>
          <p:nvSpPr>
            <p:cNvPr id="282" name="Text Box 43"/>
            <p:cNvSpPr/>
            <p:nvPr/>
          </p:nvSpPr>
          <p:spPr>
            <a:xfrm>
              <a:off x="869400" y="304812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44"/>
            <p:cNvSpPr/>
            <p:nvPr/>
          </p:nvSpPr>
          <p:spPr>
            <a:xfrm>
              <a:off x="2200320" y="3166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45"/>
            <p:cNvSpPr/>
            <p:nvPr/>
          </p:nvSpPr>
          <p:spPr>
            <a:xfrm flipV="1">
              <a:off x="2062080" y="30697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47"/>
          <p:cNvGrpSpPr/>
          <p:nvPr/>
        </p:nvGrpSpPr>
        <p:grpSpPr>
          <a:xfrm>
            <a:off x="869400" y="3608280"/>
            <a:ext cx="1483200" cy="374040"/>
            <a:chOff x="869400" y="3608280"/>
            <a:chExt cx="1483200" cy="374040"/>
          </a:xfrm>
        </p:grpSpPr>
        <p:sp>
          <p:nvSpPr>
            <p:cNvPr id="286" name="Text Box 48"/>
            <p:cNvSpPr/>
            <p:nvPr/>
          </p:nvSpPr>
          <p:spPr>
            <a:xfrm>
              <a:off x="869400" y="3608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49"/>
            <p:cNvSpPr/>
            <p:nvPr/>
          </p:nvSpPr>
          <p:spPr>
            <a:xfrm>
              <a:off x="2200320" y="372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50"/>
            <p:cNvSpPr/>
            <p:nvPr/>
          </p:nvSpPr>
          <p:spPr>
            <a:xfrm flipV="1">
              <a:off x="2062080" y="3629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51"/>
          <p:cNvGrpSpPr/>
          <p:nvPr/>
        </p:nvGrpSpPr>
        <p:grpSpPr>
          <a:xfrm>
            <a:off x="869400" y="4168800"/>
            <a:ext cx="1483200" cy="374040"/>
            <a:chOff x="869400" y="4168800"/>
            <a:chExt cx="1483200" cy="374040"/>
          </a:xfrm>
        </p:grpSpPr>
        <p:sp>
          <p:nvSpPr>
            <p:cNvPr id="290" name="Text Box 52"/>
            <p:cNvSpPr/>
            <p:nvPr/>
          </p:nvSpPr>
          <p:spPr>
            <a:xfrm>
              <a:off x="869400" y="41688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Oval 53"/>
            <p:cNvSpPr/>
            <p:nvPr/>
          </p:nvSpPr>
          <p:spPr>
            <a:xfrm>
              <a:off x="2200320" y="4287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4"/>
            <p:cNvSpPr/>
            <p:nvPr/>
          </p:nvSpPr>
          <p:spPr>
            <a:xfrm flipV="1">
              <a:off x="2062080" y="41904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55"/>
          <p:cNvGrpSpPr/>
          <p:nvPr/>
        </p:nvGrpSpPr>
        <p:grpSpPr>
          <a:xfrm>
            <a:off x="869400" y="4730760"/>
            <a:ext cx="1483200" cy="374040"/>
            <a:chOff x="869400" y="4730760"/>
            <a:chExt cx="1483200" cy="374040"/>
          </a:xfrm>
        </p:grpSpPr>
        <p:sp>
          <p:nvSpPr>
            <p:cNvPr id="294" name="Text Box 56"/>
            <p:cNvSpPr/>
            <p:nvPr/>
          </p:nvSpPr>
          <p:spPr>
            <a:xfrm>
              <a:off x="869400" y="473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57"/>
            <p:cNvSpPr/>
            <p:nvPr/>
          </p:nvSpPr>
          <p:spPr>
            <a:xfrm>
              <a:off x="2200320" y="484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58"/>
            <p:cNvSpPr/>
            <p:nvPr/>
          </p:nvSpPr>
          <p:spPr>
            <a:xfrm flipV="1">
              <a:off x="2062080" y="475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59"/>
          <p:cNvGrpSpPr/>
          <p:nvPr/>
        </p:nvGrpSpPr>
        <p:grpSpPr>
          <a:xfrm>
            <a:off x="869400" y="5291280"/>
            <a:ext cx="1483200" cy="374040"/>
            <a:chOff x="869400" y="5291280"/>
            <a:chExt cx="1483200" cy="374040"/>
          </a:xfrm>
        </p:grpSpPr>
        <p:sp>
          <p:nvSpPr>
            <p:cNvPr id="298" name="Text Box 60"/>
            <p:cNvSpPr/>
            <p:nvPr/>
          </p:nvSpPr>
          <p:spPr>
            <a:xfrm>
              <a:off x="869400" y="529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61"/>
            <p:cNvSpPr/>
            <p:nvPr/>
          </p:nvSpPr>
          <p:spPr>
            <a:xfrm>
              <a:off x="220032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62"/>
            <p:cNvSpPr/>
            <p:nvPr/>
          </p:nvSpPr>
          <p:spPr>
            <a:xfrm flipV="1">
              <a:off x="2062080" y="531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63"/>
          <p:cNvGrpSpPr/>
          <p:nvPr/>
        </p:nvGrpSpPr>
        <p:grpSpPr>
          <a:xfrm>
            <a:off x="869400" y="5853240"/>
            <a:ext cx="1483200" cy="374040"/>
            <a:chOff x="869400" y="5853240"/>
            <a:chExt cx="1483200" cy="374040"/>
          </a:xfrm>
        </p:grpSpPr>
        <p:sp>
          <p:nvSpPr>
            <p:cNvPr id="302" name="Text Box 64"/>
            <p:cNvSpPr/>
            <p:nvPr/>
          </p:nvSpPr>
          <p:spPr>
            <a:xfrm>
              <a:off x="869400" y="585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Oval 65"/>
            <p:cNvSpPr/>
            <p:nvPr/>
          </p:nvSpPr>
          <p:spPr>
            <a:xfrm>
              <a:off x="2200320" y="597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66"/>
            <p:cNvSpPr/>
            <p:nvPr/>
          </p:nvSpPr>
          <p:spPr>
            <a:xfrm flipV="1">
              <a:off x="2062080" y="587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AutoShape 67"/>
          <p:cNvCxnSpPr>
            <a:stCxn id="255" idx="2"/>
            <a:endCxn id="283" idx="6"/>
          </p:cNvCxnSpPr>
          <p:nvPr/>
        </p:nvCxnSpPr>
        <p:spPr>
          <a:xfrm rot="5400000">
            <a:off x="2575800" y="1870200"/>
            <a:ext cx="116424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6" name="AutoShape 68"/>
          <p:cNvCxnSpPr>
            <a:stCxn id="255" idx="2"/>
            <a:endCxn id="287" idx="6"/>
          </p:cNvCxnSpPr>
          <p:nvPr/>
        </p:nvCxnSpPr>
        <p:spPr>
          <a:xfrm rot="5400000">
            <a:off x="2295720" y="2150280"/>
            <a:ext cx="17247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7" name="AutoShape 69"/>
          <p:cNvCxnSpPr>
            <a:stCxn id="255" idx="2"/>
            <a:endCxn id="291" idx="6"/>
          </p:cNvCxnSpPr>
          <p:nvPr/>
        </p:nvCxnSpPr>
        <p:spPr>
          <a:xfrm rot="5400000">
            <a:off x="2015640" y="2430360"/>
            <a:ext cx="22849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8" name="AutoShape 70"/>
          <p:cNvCxnSpPr>
            <a:stCxn id="255" idx="2"/>
            <a:endCxn id="295" idx="6"/>
          </p:cNvCxnSpPr>
          <p:nvPr/>
        </p:nvCxnSpPr>
        <p:spPr>
          <a:xfrm rot="5400000">
            <a:off x="1734840" y="2711520"/>
            <a:ext cx="28465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9" name="AutoShape 71"/>
          <p:cNvCxnSpPr>
            <a:stCxn id="255" idx="2"/>
            <a:endCxn id="299" idx="6"/>
          </p:cNvCxnSpPr>
          <p:nvPr/>
        </p:nvCxnSpPr>
        <p:spPr>
          <a:xfrm rot="5400000">
            <a:off x="1454400" y="2991600"/>
            <a:ext cx="340740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0" name="AutoShape 72"/>
          <p:cNvCxnSpPr>
            <a:stCxn id="255" idx="2"/>
            <a:endCxn id="303" idx="6"/>
          </p:cNvCxnSpPr>
          <p:nvPr/>
        </p:nvCxnSpPr>
        <p:spPr>
          <a:xfrm rot="5400000">
            <a:off x="1173240" y="3272760"/>
            <a:ext cx="39693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1" name="Rectangle 73"/>
          <p:cNvSpPr/>
          <p:nvPr/>
        </p:nvSpPr>
        <p:spPr>
          <a:xfrm>
            <a:off x="2576880" y="284652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74"/>
          <p:cNvSpPr/>
          <p:nvPr/>
        </p:nvSpPr>
        <p:spPr>
          <a:xfrm>
            <a:off x="2576880" y="34290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75"/>
          <p:cNvSpPr/>
          <p:nvPr/>
        </p:nvSpPr>
        <p:spPr>
          <a:xfrm>
            <a:off x="2576880" y="39924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6"/>
          <p:cNvSpPr/>
          <p:nvPr/>
        </p:nvSpPr>
        <p:spPr>
          <a:xfrm>
            <a:off x="2576880" y="45385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7"/>
          <p:cNvSpPr/>
          <p:nvPr/>
        </p:nvSpPr>
        <p:spPr>
          <a:xfrm>
            <a:off x="2576880" y="51037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78"/>
          <p:cNvSpPr/>
          <p:nvPr/>
        </p:nvSpPr>
        <p:spPr>
          <a:xfrm>
            <a:off x="2576880" y="56847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Text Box 7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8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2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4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8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19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AutoShape 21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31" name="Group 22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Text Box 23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24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AutoShape 25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Rectangle 26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4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49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39" name="Group 60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Text Box 53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54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56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58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4" name="Text Box 61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2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63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AutoShape 64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48" name="Rectangle 65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66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67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9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70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71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72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AutoShape 73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6" name="Text Box 74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75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76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028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029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30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032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034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035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036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037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038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039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040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041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042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043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028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029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030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032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034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035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036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037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038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039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040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041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042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043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045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026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Text Box 1028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029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1030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031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032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33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34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5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36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37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38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039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040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1" descr="C:\My Documents\presents\LA_workshop2\kiss_db.gif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AutoShape 12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Object 3"/>
          <p:cNvGraphicFramePr/>
          <p:nvPr/>
        </p:nvGraphicFramePr>
        <p:xfrm>
          <a:off x="392040" y="1014480"/>
          <a:ext cx="4172040" cy="517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014480"/>
                    <a:ext cx="4172040" cy="517824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Group 16"/>
          <p:cNvGrpSpPr/>
          <p:nvPr/>
        </p:nvGrpSpPr>
        <p:grpSpPr>
          <a:xfrm>
            <a:off x="5146560" y="1379520"/>
            <a:ext cx="2187360" cy="4804920"/>
            <a:chOff x="5146560" y="1379520"/>
            <a:chExt cx="2187360" cy="4804920"/>
          </a:xfrm>
        </p:grpSpPr>
        <p:grpSp>
          <p:nvGrpSpPr>
            <p:cNvPr id="418" name="Group 11"/>
            <p:cNvGrpSpPr/>
            <p:nvPr/>
          </p:nvGrpSpPr>
          <p:grpSpPr>
            <a:xfrm>
              <a:off x="5146560" y="2181240"/>
              <a:ext cx="2187360" cy="4003200"/>
              <a:chOff x="5146560" y="2181240"/>
              <a:chExt cx="2187360" cy="4003200"/>
            </a:xfrm>
          </p:grpSpPr>
          <p:sp>
            <p:nvSpPr>
              <p:cNvPr id="419" name="Freeform 5"/>
              <p:cNvSpPr/>
              <p:nvPr/>
            </p:nvSpPr>
            <p:spPr>
              <a:xfrm flipH="1">
                <a:off x="5780160" y="24051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Freeform 6"/>
              <p:cNvSpPr/>
              <p:nvPr/>
            </p:nvSpPr>
            <p:spPr>
              <a:xfrm flipH="1">
                <a:off x="6348240" y="21812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Freeform 7"/>
              <p:cNvSpPr/>
              <p:nvPr/>
            </p:nvSpPr>
            <p:spPr>
              <a:xfrm flipH="1">
                <a:off x="5888880" y="33429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8"/>
              <p:cNvSpPr/>
              <p:nvPr/>
            </p:nvSpPr>
            <p:spPr>
              <a:xfrm flipH="1">
                <a:off x="5379480" y="33793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9"/>
              <p:cNvSpPr/>
              <p:nvPr/>
            </p:nvSpPr>
            <p:spPr>
              <a:xfrm flipH="1">
                <a:off x="5146200" y="45244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Freeform 10"/>
              <p:cNvSpPr/>
              <p:nvPr/>
            </p:nvSpPr>
            <p:spPr>
              <a:xfrm flipH="1">
                <a:off x="6060960" y="45208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5884920" y="1379520"/>
              <a:ext cx="1233720" cy="875520"/>
              <a:chOff x="5884920" y="1379520"/>
              <a:chExt cx="1233720" cy="875520"/>
            </a:xfrm>
          </p:grpSpPr>
          <p:sp>
            <p:nvSpPr>
              <p:cNvPr id="426" name="Freeform 12"/>
              <p:cNvSpPr/>
              <p:nvPr/>
            </p:nvSpPr>
            <p:spPr>
              <a:xfrm>
                <a:off x="6123600" y="13795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Freeform 13"/>
              <p:cNvSpPr/>
              <p:nvPr/>
            </p:nvSpPr>
            <p:spPr>
              <a:xfrm>
                <a:off x="5884920" y="20894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Text Box 1027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028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029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30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036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043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44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051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106" name="AutoShape 1045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AutoShape 1046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AutoShape 1047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048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Group 195"/>
          <p:cNvGrpSpPr/>
          <p:nvPr/>
        </p:nvGrpSpPr>
        <p:grpSpPr>
          <a:xfrm>
            <a:off x="5646600" y="1058760"/>
            <a:ext cx="3213360" cy="4972320"/>
            <a:chOff x="5646600" y="1058760"/>
            <a:chExt cx="3213360" cy="4972320"/>
          </a:xfrm>
        </p:grpSpPr>
        <p:pic>
          <p:nvPicPr>
            <p:cNvPr id="430" name="Object 86" descr=""/>
            <p:cNvPicPr/>
            <p:nvPr/>
          </p:nvPicPr>
          <p:blipFill>
            <a:blip r:embed="rId1"/>
            <a:stretch/>
          </p:blipFill>
          <p:spPr>
            <a:xfrm>
              <a:off x="5646600" y="2095560"/>
              <a:ext cx="321336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WordArt 87"/>
            <p:cNvSpPr txBox="1"/>
            <p:nvPr/>
          </p:nvSpPr>
          <p:spPr>
            <a:xfrm>
              <a:off x="7245360" y="1058760"/>
              <a:ext cx="1211400" cy="138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2" name="Text Box 147"/>
          <p:cNvSpPr/>
          <p:nvPr/>
        </p:nvSpPr>
        <p:spPr>
          <a:xfrm>
            <a:off x="312840" y="23796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8"/>
          <p:cNvSpPr/>
          <p:nvPr/>
        </p:nvSpPr>
        <p:spPr>
          <a:xfrm>
            <a:off x="3740400" y="57754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57"/>
          <p:cNvSpPr/>
          <p:nvPr/>
        </p:nvSpPr>
        <p:spPr>
          <a:xfrm>
            <a:off x="343800" y="154476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60"/>
          <p:cNvSpPr/>
          <p:nvPr/>
        </p:nvSpPr>
        <p:spPr>
          <a:xfrm>
            <a:off x="341640" y="10368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2"/>
          <p:cNvSpPr/>
          <p:nvPr/>
        </p:nvSpPr>
        <p:spPr>
          <a:xfrm>
            <a:off x="309600" y="28926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67"/>
          <p:cNvSpPr/>
          <p:nvPr/>
        </p:nvSpPr>
        <p:spPr>
          <a:xfrm>
            <a:off x="340200" y="58150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81"/>
          <p:cNvSpPr/>
          <p:nvPr/>
        </p:nvSpPr>
        <p:spPr>
          <a:xfrm>
            <a:off x="339120" y="340668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88"/>
          <p:cNvSpPr/>
          <p:nvPr/>
        </p:nvSpPr>
        <p:spPr>
          <a:xfrm>
            <a:off x="338040" y="526716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89"/>
          <p:cNvSpPr/>
          <p:nvPr/>
        </p:nvSpPr>
        <p:spPr>
          <a:xfrm>
            <a:off x="337320" y="475632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90"/>
          <p:cNvSpPr/>
          <p:nvPr/>
        </p:nvSpPr>
        <p:spPr>
          <a:xfrm>
            <a:off x="334440" y="423720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91"/>
          <p:cNvSpPr/>
          <p:nvPr/>
        </p:nvSpPr>
        <p:spPr>
          <a:xfrm>
            <a:off x="3726720" y="521172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4" name="Object 21"/>
          <p:cNvGraphicFramePr/>
          <p:nvPr/>
        </p:nvGraphicFramePr>
        <p:xfrm>
          <a:off x="334800" y="93672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672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6" name="Rectangle 22"/>
          <p:cNvSpPr/>
          <p:nvPr/>
        </p:nvSpPr>
        <p:spPr>
          <a:xfrm>
            <a:off x="617400" y="4832280"/>
            <a:ext cx="8131320" cy="513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7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1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6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Object 1027"/>
          <p:cNvGraphicFramePr/>
          <p:nvPr/>
        </p:nvGraphicFramePr>
        <p:xfrm>
          <a:off x="334800" y="93492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7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492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8" name="Rectangle 1028"/>
          <p:cNvSpPr/>
          <p:nvPr/>
        </p:nvSpPr>
        <p:spPr>
          <a:xfrm>
            <a:off x="547560" y="356220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9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6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7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0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1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2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3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4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5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6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875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8" name="Rectangle 872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873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874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Group 911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2" name="Rectangle 876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877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878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879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880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881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882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Rectangle 883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Rectangle 884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885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910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3" name="Group 80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4" name="Oval 6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Oval 7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Oval 8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" name="Group 62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8" name="Oval 9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10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Freeform 11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Freeform 12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Freeform 13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14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Freeform 15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Freeform 16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17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Freeform 18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Freeform 19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20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21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Freeform 22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Freeform 23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24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Freeform 25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Freeform 26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Freeform 27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Freeform 28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Freeform 29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Freeform 30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Freeform 31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Freeform 32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Freeform 33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Freeform 34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Freeform 35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Freeform 36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Freeform 37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Freeform 38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Freeform 39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40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Freeform 41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Freeform 42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Freeform 43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Freeform 44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Freeform 45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Freeform 46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Freeform 47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Freeform 48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Freeform 49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Freeform 50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Freeform 51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Freeform 52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Freeform 53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Freeform 54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Freeform 55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Freeform 56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Freeform 57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Freeform 58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Freeform 59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Freeform 60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Freeform 61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1" name="Oval 63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64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Rectangle 65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66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Rectangle 67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68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69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70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Rectangle 71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72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73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74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75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Rectangle 76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Rectangle 77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78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Oval 79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155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69" name="Oval 81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Oval 82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Oval 83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2" name="Group 137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3" name="Oval 84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Freeform 85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Freeform 86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Freeform 87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Freeform 88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Freeform 89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Freeform 90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Freeform 91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Freeform 92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Freeform 93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Freeform 94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Freeform 95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Freeform 96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Freeform 97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Freeform 98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Freeform 99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Freeform 100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Freeform 101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Freeform 102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Freeform 103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Freeform 104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Freeform 105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Freeform 106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Freeform 107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Freeform 108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Freeform 109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Freeform 110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Freeform 111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Freeform 112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Freeform 113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Freeform 114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Freeform 115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Freeform 116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Freeform 117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Freeform 118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Freeform 119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Freeform 120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Freeform 121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Freeform 122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Freeform 123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Freeform 124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Freeform 125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Freeform 126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Freeform 127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Freeform 128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Freeform 129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Freeform 130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Freeform 131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Freeform 132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Freeform 133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Freeform 134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Freeform 135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Freeform 136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" name="Oval 138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Rectangle 139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140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Rectangle 141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Rectangle 142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143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144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145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146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147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Rectangle 148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149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Rectangle 150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Rectangle 151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152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153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Oval 154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Group 361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4" name="Freeform 156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157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158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7" name="Group 357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8" name="Rectangle 159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Rectangle 160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Rectangle 161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Rectangle 162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Rectangle 163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Rectangle 164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Rectangle 165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Rectangle 166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Rectangle 167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Rectangle 168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Rectangle 169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70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Rectangle 171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Rectangle 172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Rectangle 173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Rectangle 174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Rectangle 175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Rectangle 176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Rectangle 177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Rectangle 178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Rectangle 179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Rectangle 180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Rectangle 181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Rectangle 182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183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Rectangle 184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Rectangle 185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Rectangle 186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Rectangle 187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188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Rectangle 189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Rectangle 190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Rectangle 191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Rectangle 192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Rectangle 193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Rectangle 194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Rectangle 195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Rectangle 196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Rectangle 197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Rectangle 198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Rectangle 199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Rectangle 200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Rectangle 201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Rectangle 202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203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Rectangle 204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Rectangle 205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Rectangle 206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Rectangle 207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Rectangle 208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Rectangle 209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Rectangle 210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Rectangle 211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Rectangle 212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Rectangle 213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Rectangle 214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Rectangle 215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Rectangle 216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Rectangle 217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218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Rectangle 219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Rectangle 220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Rectangle 221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Rectangle 222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Rectangle 223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Rectangle 224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Rectangle 225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Rectangle 226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Rectangle 227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228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Rectangle 229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Rectangle 230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Rectangle 231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Rectangle 232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233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Rectangle 234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Rectangle 235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Rectangle 236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Rectangle 237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238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Rectangle 239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Rectangle 240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Rectangle 241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Rectangle 242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Rectangle 243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Rectangle 244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Rectangle 245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Rectangle 246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Rectangle 247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Rectangle 248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Rectangle 249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Rectangle 250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Rectangle 251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Rectangle 252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Rectangle 253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Rectangle 254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Freeform 255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Rectangle 256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Rectangle 257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Freeform 258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Rectangle 259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Rectangle 260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Rectangle 261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Rectangle 262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Rectangle 263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Rectangle 264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Rectangle 265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Rectangle 266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Rectangle 267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Rectangle 268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Rectangle 269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Rectangle 270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Rectangle 271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Rectangle 272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Rectangle 273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Rectangle 274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Rectangle 275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Rectangle 276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Rectangle 277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Rectangle 278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Rectangle 279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Rectangle 280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Rectangle 281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Rectangle 282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Rectangle 283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Rectangle 284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Rectangle 285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Rectangle 286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Rectangle 287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Rectangle 288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Rectangle 289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Rectangle 290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Rectangle 291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Rectangle 292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Rectangle 293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Rectangle 294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Rectangle 295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Rectangle 296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297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298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Rectangle 299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Rectangle 300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301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302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303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Rectangle 304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305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Rectangle 306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Rectangle 307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308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Rectangle 309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Rectangle 310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Rectangle 311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Rectangle 312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313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Rectangle 314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Rectangle 315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Rectangle 316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Rectangle 317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Rectangle 318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Rectangle 319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Rectangle 320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Rectangle 321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Rectangle 322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Rectangle 323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Rectangle 324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Rectangle 325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Rectangle 326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Rectangle 327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Rectangle 328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Rectangle 329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Rectangle 330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Rectangle 331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Rectangle 332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Rectangle 333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Rectangle 334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Rectangle 335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Rectangle 336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Rectangle 337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Rectangle 338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Rectangle 339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Rectangle 340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Rectangle 341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Rectangle 342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Rectangle 343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Rectangle 344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Rectangle 345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Rectangle 346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Rectangle 347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348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Rectangle 349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Rectangle 350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Rectangle 351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Rectangle 352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Rectangle 353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Rectangle 354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Rectangle 355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Rectangle 356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6" name="Freeform 358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Rectangle 359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Rectangle 360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567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0" name="Freeform 362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Rectangle 363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Rectangle 364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3" name="Group 563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4" name="Rectangle 365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Rectangle 366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Rectangle 367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Rectangle 368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Rectangle 369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Rectangle 370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Rectangle 371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Rectangle 372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Rectangle 373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Rectangle 374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Rectangle 375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Rectangle 376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Rectangle 377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Rectangle 378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Rectangle 379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Rectangle 380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Rectangle 381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Rectangle 382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Rectangle 383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Rectangle 384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Rectangle 385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Rectangle 386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Rectangle 387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Rectangle 388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Rectangle 389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Rectangle 390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Rectangle 391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Rectangle 392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Rectangle 393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394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Rectangle 395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Rectangle 396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Rectangle 397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Rectangle 398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Rectangle 399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Rectangle 400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Rectangle 401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Rectangle 402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Rectangle 403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Rectangle 404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Rectangle 405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Rectangle 406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Rectangle 407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Rectangle 408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Rectangle 409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Rectangle 410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Rectangle 411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Rectangle 412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Rectangle 413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Rectangle 414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Rectangle 415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Rectangle 416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Rectangle 417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Rectangle 418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419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Rectangle 420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Rectangle 421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Rectangle 422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Rectangle 423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Rectangle 424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Rectangle 425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Rectangle 426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Rectangle 427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Rectangle 428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Rectangle 429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Rectangle 430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Rectangle 431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Rectangle 432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Rectangle 433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Rectangle 434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Rectangle 435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Rectangle 436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Rectangle 437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Rectangle 438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Rectangle 439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Rectangle 440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Rectangle 441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Rectangle 442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Rectangle 443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Rectangle 444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Rectangle 445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Rectangle 446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Rectangle 447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Rectangle 448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Rectangle 449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Rectangle 450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Rectangle 451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Rectangle 452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Rectangle 453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Rectangle 454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Rectangle 455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Rectangle 456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Rectangle 457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Rectangle 458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Rectangle 459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Rectangle 460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Freeform 461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Rectangle 462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Rectangle 463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Freeform 464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Rectangle 465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Rectangle 466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Rectangle 467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Rectangle 468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Rectangle 469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Rectangle 470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Rectangle 471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Rectangle 472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Rectangle 473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Rectangle 474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Rectangle 475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Rectangle 476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Rectangle 477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Rectangle 478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Rectangle 479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Rectangle 480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Rectangle 481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Rectangle 482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Rectangle 483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Rectangle 484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Rectangle 485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Rectangle 486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Rectangle 487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Rectangle 488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Rectangle 489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Rectangle 490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Rectangle 491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Rectangle 492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Rectangle 493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Rectangle 494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Rectangle 495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Rectangle 496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Rectangle 497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Rectangle 498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Rectangle 499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Rectangle 500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Rectangle 501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Rectangle 502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Rectangle 503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Rectangle 504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Rectangle 505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Rectangle 506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Rectangle 507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Rectangle 508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Rectangle 509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Rectangle 510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Rectangle 511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Rectangle 512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Rectangle 513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Rectangle 514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Rectangle 515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Rectangle 516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Rectangle 517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Rectangle 518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Rectangle 519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Rectangle 520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Rectangle 521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Rectangle 522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Rectangle 523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Rectangle 524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Rectangle 525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Rectangle 526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Rectangle 527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Rectangle 528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Rectangle 529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Rectangle 530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Rectangle 531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Rectangle 532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Rectangle 533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Rectangle 534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Rectangle 535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Rectangle 536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Rectangle 537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Rectangle 538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Rectangle 539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Rectangle 540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Rectangle 541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Rectangle 542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Rectangle 543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Rectangle 544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Rectangle 545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Rectangle 546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Rectangle 547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Rectangle 548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Rectangle 549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Rectangle 550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Rectangle 551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Rectangle 552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Rectangle 553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Rectangle 554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Rectangle 555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Rectangle 556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Rectangle 557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Rectangle 558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Rectangle 559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Rectangle 560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Rectangle 561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Rectangle 562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2" name="Freeform 564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Rectangle 565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Rectangle 566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Group 830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6" name="Freeform 568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7" name="Group 828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8" name="Group 769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59" name="Rectangle 56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Rectangle 57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Rectangle 57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Rectangle 57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Rectangle 57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Rectangle 57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Rectangle 57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Rectangle 57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Rectangle 57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Rectangle 57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Rectangle 57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Rectangle 58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Rectangle 58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Rectangle 58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Rectangle 58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Rectangle 58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Rectangle 58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Rectangle 58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Rectangle 58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Rectangle 58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Rectangle 58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Rectangle 59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Rectangle 59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Rectangle 59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Rectangle 59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Rectangle 59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Rectangle 59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Rectangle 59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Rectangle 59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Rectangle 59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Rectangle 59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Rectangle 60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Rectangle 60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Rectangle 60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Rectangle 60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Rectangle 60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Rectangle 60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Rectangle 60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Rectangle 60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Rectangle 60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Rectangle 60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Rectangle 61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Rectangle 61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Rectangle 61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Rectangle 61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Rectangle 61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Rectangle 61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Rectangle 61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Rectangle 61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Rectangle 61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Rectangle 61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Rectangle 62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Rectangle 62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Rectangle 62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Rectangle 62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Rectangle 62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Rectangle 62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Rectangle 62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Rectangle 62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Rectangle 62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Rectangle 62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Rectangle 63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Rectangle 63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Rectangle 63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Rectangle 63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Rectangle 63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Rectangle 63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Rectangle 63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Rectangle 63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Rectangle 63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Rectangle 639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Rectangle 640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Rectangle 641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Rectangle 642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Rectangle 643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Rectangle 644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Rectangle 645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Rectangle 646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Rectangle 647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Rectangle 648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Rectangle 649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Rectangle 650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Rectangle 651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Rectangle 652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Rectangle 653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Rectangle 654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Rectangle 655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Rectangle 656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Rectangle 657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Rectangle 658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Rectangle 659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Rectangle 660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Rectangle 661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Rectangle 662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Rectangle 663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Rectangle 664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Rectangle 665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Rectangle 666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Rectangle 667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Rectangle 668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Rectangle 669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Rectangle 670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Rectangle 671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Rectangle 672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Rectangle 673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Rectangle 674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Rectangle 675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Rectangle 676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Rectangle 677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Rectangle 678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Rectangle 679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Rectangle 680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Rectangle 681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Rectangle 682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Rectangle 683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Rectangle 684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Rectangle 685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Rectangle 686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Rectangle 687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Rectangle 688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Rectangle 689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Rectangle 690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Rectangle 691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Rectangle 692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Rectangle 693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Rectangle 694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Rectangle 695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Rectangle 696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Freeform 697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Freeform 698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Rectangle 69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Rectangle 70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Rectangle 70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Rectangle 70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Rectangle 70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Rectangle 70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Rectangle 70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Rectangle 70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Rectangle 70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Rectangle 70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Rectangle 70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Rectangle 71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Rectangle 71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Rectangle 71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Rectangle 71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Rectangle 71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Rectangle 71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Rectangle 71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Rectangle 71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Rectangle 71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Rectangle 71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Rectangle 72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Rectangle 72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Rectangle 72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Rectangle 72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Rectangle 72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Rectangle 72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Rectangle 72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Rectangle 72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Rectangle 72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Rectangle 72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Rectangle 73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Rectangle 73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Rectangle 73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Rectangle 73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Rectangle 73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Rectangle 73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Rectangle 73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Rectangle 73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Rectangle 73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Rectangle 73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Rectangle 74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Rectangle 74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Rectangle 74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Rectangle 74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Rectangle 74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Rectangle 74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Rectangle 74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Rectangle 74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Rectangle 74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Rectangle 74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Rectangle 75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Rectangle 75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Rectangle 75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Rectangle 75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Rectangle 75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Rectangle 75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Rectangle 75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Rectangle 75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Rectangle 75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Rectangle 75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Rectangle 76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Rectangle 76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Rectangle 76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Rectangle 76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Rectangle 76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Rectangle 76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Rectangle 76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Rectangle 76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Rectangle 76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9" name="Rectangle 770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Rectangle 771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Rectangle 772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Rectangle 773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Rectangle 774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Rectangle 775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Rectangle 776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Rectangle 777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Rectangle 778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779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Rectangle 780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Rectangle 781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Rectangle 782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Rectangle 783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Rectangle 784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Rectangle 785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Rectangle 786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Rectangle 787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Rectangle 788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Rectangle 789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Rectangle 790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Rectangle 791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Rectangle 792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Rectangle 793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Rectangle 794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Rectangle 795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Rectangle 796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Rectangle 797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Rectangle 798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Rectangle 799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Rectangle 800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Rectangle 801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Rectangle 802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Rectangle 803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Rectangle 804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Rectangle 805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Rectangle 806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Rectangle 807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Rectangle 808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Rectangle 809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Rectangle 810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Rectangle 811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Rectangle 812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Rectangle 813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Rectangle 814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Rectangle 815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Rectangle 816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Rectangle 817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Rectangle 818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Rectangle 819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Rectangle 820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Rectangle 821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Rectangle 822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Rectangle 823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Rectangle 824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Rectangle 825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Rectangle 826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Rectangle 827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7" name="Freeform 829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8" name="Freeform 831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Rectangle 886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Rectangle 887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Rectangle 888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Rectangle 889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Rectangle 890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Rectangle 891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Rectangle 892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Rectangle 893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Rectangle 894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Rectangle 895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Rectangle 896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Rectangle 897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Rectangle 898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Rectangle 899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Rectangle 900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Rectangle 901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Rectangle 902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Rectangle 903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Rectangle 904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Rectangle 905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Rectangle 906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Rectangle 907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Rectangle 908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Rectangle 909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3" name="Text Box 912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4" name="Object 1026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5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24000" y="306000"/>
            <a:ext cx="553392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35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AutoShape 28"/>
          <p:cNvSpPr/>
          <p:nvPr/>
        </p:nvSpPr>
        <p:spPr>
          <a:xfrm>
            <a:off x="6753240" y="34128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1" name="Group 21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12" name="Object 4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5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20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pic>
          <p:nvPicPr>
            <p:cNvPr id="115" name="Object 7" descr=""/>
            <p:cNvPicPr/>
            <p:nvPr/>
          </p:nvPicPr>
          <p:blipFill>
            <a:blip r:embed="rId2"/>
            <a:stretch/>
          </p:blipFill>
          <p:spPr>
            <a:xfrm>
              <a:off x="200160" y="3784680"/>
              <a:ext cx="2936880" cy="24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8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18" name="Object 10" descr=""/>
            <p:cNvPicPr/>
            <p:nvPr/>
          </p:nvPicPr>
          <p:blipFill>
            <a:blip r:embed="rId3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1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18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21" name="Object 13" descr=""/>
            <p:cNvPicPr/>
            <p:nvPr/>
          </p:nvPicPr>
          <p:blipFill>
            <a:blip r:embed="rId4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Line 15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6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027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27" name="Object 1028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29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2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32" name="Object 13" descr=""/>
            <p:cNvPicPr/>
            <p:nvPr/>
          </p:nvPicPr>
          <p:blipFill>
            <a:blip r:embed="rId1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7" name="Group 1041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8" name="AutoShape 1027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Group 1040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40" name="AutoShape 1028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AutoShape 1029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utoShape 1030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AutoShape 1032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038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39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42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43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044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Rectangle 1047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48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49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50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51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053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55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056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57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058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059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1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2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1070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4" name="Rectangle 1060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1065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1069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7" name="Rectangle 1064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1066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1068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70" name="Rectangle 1063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utoShape 1067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74" name="Object 11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12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33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Group 1027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80" name="Object 1028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029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031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032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034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035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1038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Text Box 1036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AutoShape 1037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1:22Z</dcterms:modified>
  <cp:revision>88</cp:revision>
  <dc:subject/>
  <dc:title>No Slide Title</dc:title>
</cp:coreProperties>
</file>