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01F96-AA95-458F-A88F-2F9DC799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698AB-1589-43BB-AE02-2259B158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C0289-0453-40E4-B002-2962E2C3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44293-A88A-4B25-A1D3-7EE07D0C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6AFA4-1013-4810-AEB5-BEEF6C89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15C0B-FE2E-42D7-A4D5-DFF46BEC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B5228-DABF-4EA8-BB46-C7EF9289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E3164-FEFB-4CA6-8A3F-8BD3183D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6A6B7-FBD4-49B5-B418-7504011D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858B5-684E-451D-BD9A-3EDC9079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D52AB-8887-4C95-8D64-0593B611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91AAF-C24C-4FE4-8DF2-148DC58B0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33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San Francis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8080" y="5943600"/>
            <a:ext cx="1752840" cy="742680"/>
            <a:chOff x="838080" y="5943600"/>
            <a:chExt cx="1752840" cy="742680"/>
          </a:xfrm>
        </p:grpSpPr>
        <p:sp>
          <p:nvSpPr>
            <p:cNvPr id="7" name=""/>
            <p:cNvSpPr/>
            <p:nvPr/>
          </p:nvSpPr>
          <p:spPr>
            <a:xfrm>
              <a:off x="838080" y="636444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636444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36444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6680" y="636444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2200" y="594360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080" y="665532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0240" y="665856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45720" y="617256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07360" y="621576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4440" y="621576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61880" y="621576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40000" y="621576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72120" y="617256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6400" y="621576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3560" y="617256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756080" y="617544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21576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812240" y="621576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92996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228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6764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3900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5520" y="617256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21900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37680" y="617544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794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21576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73560" y="621576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07760" y="624060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364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7840" y="643248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36444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61000" y="636444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636444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1880" y="640188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89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6400" y="63644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40188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8520" y="640188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09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480" y="643248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360" y="636444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00880" y="636768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7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1520" y="643248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40188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4760" y="640188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8960" y="643248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40764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7160" y="640764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7918-6F98-4AE8-80C3-596B696ADEE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902960" y="304200"/>
            <a:ext cx="473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Connection Flavor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1564560"/>
            <a:ext cx="6477120" cy="23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MS Mincho"/>
              </a:rPr>
              <a:t>Chuck Eastman, driven by John Manu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Times New Roman"/>
                <a:ea typeface="MS Mincho"/>
              </a:rPr>
              <a:t>how to associate fabrication-level detail information to a connection, based on the practices of the fabricator and/or engineering fir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lavorslide1" descr=""/>
          <p:cNvPicPr/>
          <p:nvPr/>
        </p:nvPicPr>
        <p:blipFill>
          <a:blip r:embed="rId2"/>
          <a:stretch/>
        </p:blipFill>
        <p:spPr>
          <a:xfrm>
            <a:off x="1752480" y="1219320"/>
            <a:ext cx="5691240" cy="4762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19480" y="379800"/>
            <a:ext cx="73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Logical structure of a connection and its attribu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51040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edmemb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334120" y="4800240"/>
            <a:ext cx="213336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4570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4952880"/>
            <a:ext cx="457200" cy="38124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conectionflavorslide2" descr=""/>
          <p:cNvPicPr/>
          <p:nvPr/>
        </p:nvPicPr>
        <p:blipFill>
          <a:blip r:embed="rId2"/>
          <a:stretch/>
        </p:blipFill>
        <p:spPr>
          <a:xfrm>
            <a:off x="2133720" y="1905120"/>
            <a:ext cx="4332240" cy="4522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80880" y="222372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Reference to the ite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2590920"/>
            <a:ext cx="609480" cy="2286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260460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Connection flavor library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477120" y="2971800"/>
            <a:ext cx="457200" cy="3049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82880" y="37980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Associating the connection to the flavor libra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10663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Parent of assembly_design_ structural_connection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952520" y="1371600"/>
            <a:ext cx="762120" cy="5335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7840" y="38016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Which Members Does a Connection Connec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0480" y="198000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Joint lo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2362320"/>
            <a:ext cx="586728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5019840" cy="2884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905120" y="2286000"/>
            <a:ext cx="457200" cy="83808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009920" y="2438280"/>
            <a:ext cx="6858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1903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ogical assemb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37324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edmemb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10280" y="3352320"/>
            <a:ext cx="53352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676520" y="1905120"/>
            <a:ext cx="58672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8" name="flavorslide3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5187960" cy="1739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286000" y="2819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362320" y="2971800"/>
            <a:ext cx="380880" cy="17524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46468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uctural member part specif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47689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uctural member part instance lo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705720" y="2742840"/>
            <a:ext cx="304560" cy="21337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840" y="38016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Which Members Does a Connection Connec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3:40:57Z</dcterms:created>
  <dc:creator>Eastman</dc:creator>
  <dc:description/>
  <dc:language>en-US</dc:language>
  <cp:lastModifiedBy>CHUCK</cp:lastModifiedBy>
  <dcterms:modified xsi:type="dcterms:W3CDTF">2001-11-02T08:37:56Z</dcterms:modified>
  <cp:revision>5</cp:revision>
  <dc:subject/>
  <dc:title>No Slide Title</dc:title>
</cp:coreProperties>
</file>