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172200" y="6400800"/>
            <a:ext cx="267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1542A-AE02-4C27-9EE3-8B7597129D1B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3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CIS/2  Implementation Workshop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2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2) Types of CIS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6640" y="49860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I: April 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MC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MC CIS/2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As Basic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, but translators must </a:t>
            </a: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also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support data managemen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term DMC applies to an application </a:t>
            </a: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and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its translato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st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maintain the LPM/5 meta-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us yields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managed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(not unmanaged)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ignificantly more difficult to implement than a basic translator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 meta-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each 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manag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ata i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que identifi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o cre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e cre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difi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e modif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rov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 meta-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981080" y="1752480"/>
          <a:ext cx="6704280" cy="411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752480"/>
                    <a:ext cx="67042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457200" y="5486400"/>
            <a:ext cx="2286000" cy="609480"/>
          </a:xfrm>
          <a:prstGeom prst="wedgeRoundRectCallout">
            <a:avLst>
              <a:gd name="adj1" fmla="val 48333"/>
              <a:gd name="adj2" fmla="val -164064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y data ent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is DMC more Difficult?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isting applications may not track the internal evolution of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data mapping between the LPM and the native data structures may be comple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dentifiers hard to track when mapping not one-to-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st be able to read non-managed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making managed (new histor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MPLE Mapping Tabl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816440" y="2286000"/>
            <a:ext cx="4327560" cy="24969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68360" y="2297160"/>
            <a:ext cx="4297320" cy="2471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1720" y="2360520"/>
            <a:ext cx="4138560" cy="228132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18840" y="2413080"/>
            <a:ext cx="46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Nativ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18640" y="2413080"/>
            <a:ext cx="71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Algorithm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44400" y="2413080"/>
            <a:ext cx="537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Neutr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18120" y="2600280"/>
            <a:ext cx="47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table_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08920" y="2784600"/>
            <a:ext cx="51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.field_1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45840" y="2784600"/>
            <a:ext cx="132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entity_a.attribute_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8920" y="2967120"/>
            <a:ext cx="51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.field_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19000" y="2967120"/>
            <a:ext cx="386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/1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46560" y="2967120"/>
            <a:ext cx="1319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entity_c.attribute_5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19200" y="3179880"/>
            <a:ext cx="512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table_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08920" y="3370320"/>
            <a:ext cx="51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.field_1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45120" y="3370320"/>
            <a:ext cx="1337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entity_b.attribute_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08920" y="3554280"/>
            <a:ext cx="47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.field_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46560" y="3554280"/>
            <a:ext cx="1280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entity_c.attribute_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750200" y="35542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08920" y="3736800"/>
            <a:ext cx="47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.field_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46200" y="3736800"/>
            <a:ext cx="1263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entity_f.attribute_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50200" y="373680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08120" y="2368440"/>
            <a:ext cx="1440" cy="22734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43240" y="2360520"/>
            <a:ext cx="1440" cy="22892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9640" y="2592360"/>
            <a:ext cx="413856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9640" y="2782800"/>
            <a:ext cx="4138560" cy="1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9640" y="2967120"/>
            <a:ext cx="413856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6400" y="3156120"/>
            <a:ext cx="413892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6400" y="3381480"/>
            <a:ext cx="413892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9640" y="3568680"/>
            <a:ext cx="413856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9640" y="3743280"/>
            <a:ext cx="4138560" cy="1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6400" y="3924360"/>
            <a:ext cx="413892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6400" y="4081320"/>
            <a:ext cx="413892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6400" y="4248000"/>
            <a:ext cx="4138920" cy="1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6400" y="4430880"/>
            <a:ext cx="413892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1720" y="2616120"/>
            <a:ext cx="413856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693800" y="3519360"/>
            <a:ext cx="1509840" cy="487440"/>
            <a:chOff x="1693800" y="3519360"/>
            <a:chExt cx="1509840" cy="487440"/>
          </a:xfrm>
        </p:grpSpPr>
        <p:sp>
          <p:nvSpPr>
            <p:cNvPr id="133" name=""/>
            <p:cNvSpPr/>
            <p:nvPr/>
          </p:nvSpPr>
          <p:spPr>
            <a:xfrm>
              <a:off x="1708200" y="3533760"/>
              <a:ext cx="1255680" cy="460440"/>
            </a:xfrm>
            <a:custGeom>
              <a:avLst/>
              <a:gdLst/>
              <a:ahLst/>
              <a:rect l="l" t="t" r="r" b="b"/>
              <a:pathLst>
                <a:path w="1582" h="581">
                  <a:moveTo>
                    <a:pt x="469" y="0"/>
                  </a:moveTo>
                  <a:lnTo>
                    <a:pt x="469" y="145"/>
                  </a:lnTo>
                  <a:lnTo>
                    <a:pt x="1582" y="145"/>
                  </a:lnTo>
                  <a:lnTo>
                    <a:pt x="1582" y="435"/>
                  </a:lnTo>
                  <a:lnTo>
                    <a:pt x="469" y="435"/>
                  </a:lnTo>
                  <a:lnTo>
                    <a:pt x="469" y="581"/>
                  </a:lnTo>
                  <a:lnTo>
                    <a:pt x="0" y="290"/>
                  </a:lnTo>
                  <a:lnTo>
                    <a:pt x="469" y="0"/>
                  </a:lnTo>
                  <a:close/>
                </a:path>
              </a:pathLst>
            </a:cu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11400" y="3648240"/>
              <a:ext cx="92160" cy="2300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49640" y="3648240"/>
              <a:ext cx="47520" cy="2300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693800" y="3519360"/>
              <a:ext cx="1276560" cy="487440"/>
            </a:xfrm>
            <a:custGeom>
              <a:avLst/>
              <a:gdLst/>
              <a:ahLst/>
              <a:rect l="l" t="t" r="r" b="b"/>
              <a:pathLst>
                <a:path w="1608" h="613">
                  <a:moveTo>
                    <a:pt x="477" y="161"/>
                  </a:moveTo>
                  <a:lnTo>
                    <a:pt x="477" y="170"/>
                  </a:lnTo>
                  <a:lnTo>
                    <a:pt x="486" y="170"/>
                  </a:lnTo>
                  <a:lnTo>
                    <a:pt x="1599" y="170"/>
                  </a:lnTo>
                  <a:lnTo>
                    <a:pt x="1599" y="161"/>
                  </a:lnTo>
                  <a:lnTo>
                    <a:pt x="1590" y="161"/>
                  </a:lnTo>
                  <a:lnTo>
                    <a:pt x="1590" y="451"/>
                  </a:lnTo>
                  <a:lnTo>
                    <a:pt x="1599" y="451"/>
                  </a:lnTo>
                  <a:lnTo>
                    <a:pt x="1599" y="442"/>
                  </a:lnTo>
                  <a:lnTo>
                    <a:pt x="486" y="442"/>
                  </a:lnTo>
                  <a:lnTo>
                    <a:pt x="477" y="442"/>
                  </a:lnTo>
                  <a:lnTo>
                    <a:pt x="477" y="451"/>
                  </a:lnTo>
                  <a:lnTo>
                    <a:pt x="477" y="597"/>
                  </a:lnTo>
                  <a:lnTo>
                    <a:pt x="486" y="597"/>
                  </a:lnTo>
                  <a:lnTo>
                    <a:pt x="491" y="590"/>
                  </a:lnTo>
                  <a:lnTo>
                    <a:pt x="22" y="299"/>
                  </a:lnTo>
                  <a:lnTo>
                    <a:pt x="17" y="306"/>
                  </a:lnTo>
                  <a:lnTo>
                    <a:pt x="22" y="314"/>
                  </a:lnTo>
                  <a:lnTo>
                    <a:pt x="491" y="24"/>
                  </a:lnTo>
                  <a:lnTo>
                    <a:pt x="486" y="16"/>
                  </a:lnTo>
                  <a:lnTo>
                    <a:pt x="477" y="16"/>
                  </a:lnTo>
                  <a:lnTo>
                    <a:pt x="477" y="161"/>
                  </a:lnTo>
                  <a:close/>
                  <a:moveTo>
                    <a:pt x="495" y="16"/>
                  </a:moveTo>
                  <a:lnTo>
                    <a:pt x="495" y="0"/>
                  </a:lnTo>
                  <a:lnTo>
                    <a:pt x="482" y="9"/>
                  </a:lnTo>
                  <a:lnTo>
                    <a:pt x="13" y="299"/>
                  </a:lnTo>
                  <a:lnTo>
                    <a:pt x="0" y="306"/>
                  </a:lnTo>
                  <a:lnTo>
                    <a:pt x="13" y="314"/>
                  </a:lnTo>
                  <a:lnTo>
                    <a:pt x="482" y="605"/>
                  </a:lnTo>
                  <a:lnTo>
                    <a:pt x="495" y="613"/>
                  </a:lnTo>
                  <a:lnTo>
                    <a:pt x="495" y="597"/>
                  </a:lnTo>
                  <a:lnTo>
                    <a:pt x="495" y="451"/>
                  </a:lnTo>
                  <a:lnTo>
                    <a:pt x="486" y="451"/>
                  </a:lnTo>
                  <a:lnTo>
                    <a:pt x="486" y="460"/>
                  </a:lnTo>
                  <a:lnTo>
                    <a:pt x="1599" y="460"/>
                  </a:lnTo>
                  <a:lnTo>
                    <a:pt x="1608" y="460"/>
                  </a:lnTo>
                  <a:lnTo>
                    <a:pt x="1608" y="451"/>
                  </a:lnTo>
                  <a:lnTo>
                    <a:pt x="1608" y="161"/>
                  </a:lnTo>
                  <a:lnTo>
                    <a:pt x="1608" y="152"/>
                  </a:lnTo>
                  <a:lnTo>
                    <a:pt x="1599" y="152"/>
                  </a:lnTo>
                  <a:lnTo>
                    <a:pt x="486" y="152"/>
                  </a:lnTo>
                  <a:lnTo>
                    <a:pt x="486" y="161"/>
                  </a:lnTo>
                  <a:lnTo>
                    <a:pt x="495" y="161"/>
                  </a:lnTo>
                  <a:lnTo>
                    <a:pt x="495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03480" y="3639960"/>
              <a:ext cx="106560" cy="244800"/>
            </a:xfrm>
            <a:custGeom>
              <a:avLst/>
              <a:gdLst/>
              <a:ahLst/>
              <a:rect l="l" t="t" r="r" b="b"/>
              <a:pathLst>
                <a:path w="135" h="308">
                  <a:moveTo>
                    <a:pt x="117" y="299"/>
                  </a:moveTo>
                  <a:lnTo>
                    <a:pt x="126" y="299"/>
                  </a:lnTo>
                  <a:lnTo>
                    <a:pt x="126" y="290"/>
                  </a:lnTo>
                  <a:lnTo>
                    <a:pt x="9" y="290"/>
                  </a:lnTo>
                  <a:lnTo>
                    <a:pt x="9" y="299"/>
                  </a:lnTo>
                  <a:lnTo>
                    <a:pt x="18" y="299"/>
                  </a:lnTo>
                  <a:lnTo>
                    <a:pt x="18" y="9"/>
                  </a:lnTo>
                  <a:lnTo>
                    <a:pt x="9" y="9"/>
                  </a:lnTo>
                  <a:lnTo>
                    <a:pt x="9" y="18"/>
                  </a:lnTo>
                  <a:lnTo>
                    <a:pt x="126" y="18"/>
                  </a:lnTo>
                  <a:lnTo>
                    <a:pt x="126" y="9"/>
                  </a:lnTo>
                  <a:lnTo>
                    <a:pt x="117" y="9"/>
                  </a:lnTo>
                  <a:lnTo>
                    <a:pt x="117" y="299"/>
                  </a:lnTo>
                  <a:close/>
                  <a:moveTo>
                    <a:pt x="135" y="9"/>
                  </a:moveTo>
                  <a:lnTo>
                    <a:pt x="135" y="0"/>
                  </a:lnTo>
                  <a:lnTo>
                    <a:pt x="126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299"/>
                  </a:lnTo>
                  <a:lnTo>
                    <a:pt x="0" y="308"/>
                  </a:lnTo>
                  <a:lnTo>
                    <a:pt x="9" y="308"/>
                  </a:lnTo>
                  <a:lnTo>
                    <a:pt x="126" y="308"/>
                  </a:lnTo>
                  <a:lnTo>
                    <a:pt x="135" y="308"/>
                  </a:lnTo>
                  <a:lnTo>
                    <a:pt x="135" y="299"/>
                  </a:lnTo>
                  <a:lnTo>
                    <a:pt x="13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143160" y="3639960"/>
              <a:ext cx="60480" cy="244800"/>
            </a:xfrm>
            <a:custGeom>
              <a:avLst/>
              <a:gdLst/>
              <a:ahLst/>
              <a:rect l="l" t="t" r="r" b="b"/>
              <a:pathLst>
                <a:path w="76" h="308">
                  <a:moveTo>
                    <a:pt x="58" y="299"/>
                  </a:moveTo>
                  <a:lnTo>
                    <a:pt x="67" y="299"/>
                  </a:lnTo>
                  <a:lnTo>
                    <a:pt x="67" y="290"/>
                  </a:lnTo>
                  <a:lnTo>
                    <a:pt x="9" y="290"/>
                  </a:lnTo>
                  <a:lnTo>
                    <a:pt x="9" y="299"/>
                  </a:lnTo>
                  <a:lnTo>
                    <a:pt x="18" y="299"/>
                  </a:lnTo>
                  <a:lnTo>
                    <a:pt x="18" y="9"/>
                  </a:lnTo>
                  <a:lnTo>
                    <a:pt x="9" y="9"/>
                  </a:lnTo>
                  <a:lnTo>
                    <a:pt x="9" y="18"/>
                  </a:lnTo>
                  <a:lnTo>
                    <a:pt x="67" y="18"/>
                  </a:lnTo>
                  <a:lnTo>
                    <a:pt x="67" y="9"/>
                  </a:lnTo>
                  <a:lnTo>
                    <a:pt x="58" y="9"/>
                  </a:lnTo>
                  <a:lnTo>
                    <a:pt x="58" y="299"/>
                  </a:lnTo>
                  <a:close/>
                  <a:moveTo>
                    <a:pt x="76" y="9"/>
                  </a:moveTo>
                  <a:lnTo>
                    <a:pt x="76" y="0"/>
                  </a:lnTo>
                  <a:lnTo>
                    <a:pt x="67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299"/>
                  </a:lnTo>
                  <a:lnTo>
                    <a:pt x="0" y="308"/>
                  </a:lnTo>
                  <a:lnTo>
                    <a:pt x="9" y="308"/>
                  </a:lnTo>
                  <a:lnTo>
                    <a:pt x="67" y="308"/>
                  </a:lnTo>
                  <a:lnTo>
                    <a:pt x="76" y="308"/>
                  </a:lnTo>
                  <a:lnTo>
                    <a:pt x="76" y="299"/>
                  </a:lnTo>
                  <a:lnTo>
                    <a:pt x="7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3456000" y="4227480"/>
            <a:ext cx="1023840" cy="260280"/>
          </a:xfrm>
          <a:custGeom>
            <a:avLst/>
            <a:gdLst/>
            <a:ahLst/>
            <a:rect l="l" t="t" r="r" b="b"/>
            <a:pathLst>
              <a:path w="1289" h="326">
                <a:moveTo>
                  <a:pt x="54" y="0"/>
                </a:moveTo>
                <a:lnTo>
                  <a:pt x="43" y="1"/>
                </a:lnTo>
                <a:lnTo>
                  <a:pt x="33" y="4"/>
                </a:lnTo>
                <a:lnTo>
                  <a:pt x="24" y="9"/>
                </a:lnTo>
                <a:lnTo>
                  <a:pt x="16" y="16"/>
                </a:lnTo>
                <a:lnTo>
                  <a:pt x="9" y="24"/>
                </a:lnTo>
                <a:lnTo>
                  <a:pt x="4" y="33"/>
                </a:lnTo>
                <a:lnTo>
                  <a:pt x="1" y="43"/>
                </a:lnTo>
                <a:lnTo>
                  <a:pt x="0" y="54"/>
                </a:lnTo>
                <a:lnTo>
                  <a:pt x="0" y="272"/>
                </a:lnTo>
                <a:lnTo>
                  <a:pt x="1" y="283"/>
                </a:lnTo>
                <a:lnTo>
                  <a:pt x="4" y="293"/>
                </a:lnTo>
                <a:lnTo>
                  <a:pt x="9" y="302"/>
                </a:lnTo>
                <a:lnTo>
                  <a:pt x="16" y="310"/>
                </a:lnTo>
                <a:lnTo>
                  <a:pt x="24" y="317"/>
                </a:lnTo>
                <a:lnTo>
                  <a:pt x="33" y="322"/>
                </a:lnTo>
                <a:lnTo>
                  <a:pt x="43" y="325"/>
                </a:lnTo>
                <a:lnTo>
                  <a:pt x="54" y="326"/>
                </a:lnTo>
                <a:lnTo>
                  <a:pt x="1235" y="326"/>
                </a:lnTo>
                <a:lnTo>
                  <a:pt x="1246" y="325"/>
                </a:lnTo>
                <a:lnTo>
                  <a:pt x="1256" y="322"/>
                </a:lnTo>
                <a:lnTo>
                  <a:pt x="1265" y="317"/>
                </a:lnTo>
                <a:lnTo>
                  <a:pt x="1273" y="310"/>
                </a:lnTo>
                <a:lnTo>
                  <a:pt x="1280" y="302"/>
                </a:lnTo>
                <a:lnTo>
                  <a:pt x="1285" y="293"/>
                </a:lnTo>
                <a:lnTo>
                  <a:pt x="1288" y="283"/>
                </a:lnTo>
                <a:lnTo>
                  <a:pt x="1289" y="272"/>
                </a:lnTo>
                <a:lnTo>
                  <a:pt x="1289" y="54"/>
                </a:lnTo>
                <a:lnTo>
                  <a:pt x="1288" y="43"/>
                </a:lnTo>
                <a:lnTo>
                  <a:pt x="1285" y="33"/>
                </a:lnTo>
                <a:lnTo>
                  <a:pt x="1280" y="24"/>
                </a:lnTo>
                <a:lnTo>
                  <a:pt x="1273" y="16"/>
                </a:lnTo>
                <a:lnTo>
                  <a:pt x="1265" y="9"/>
                </a:lnTo>
                <a:lnTo>
                  <a:pt x="1256" y="4"/>
                </a:lnTo>
                <a:lnTo>
                  <a:pt x="1246" y="1"/>
                </a:lnTo>
                <a:lnTo>
                  <a:pt x="1235" y="0"/>
                </a:lnTo>
                <a:lnTo>
                  <a:pt x="54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66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71560" y="4238640"/>
            <a:ext cx="47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800cc"/>
                </a:solidFill>
                <a:latin typeface="Times New Roman"/>
              </a:rPr>
              <a:t>CI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992400" y="4384800"/>
            <a:ext cx="176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" spc="-1" strike="noStrike">
                <a:solidFill>
                  <a:srgbClr val="1800cc"/>
                </a:solidFill>
                <a:latin typeface="Times New Roman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058280" y="4238640"/>
            <a:ext cx="43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28480" y="3192480"/>
            <a:ext cx="413712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6400" y="4116240"/>
            <a:ext cx="413892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753560" y="495288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IM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174360" y="4952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76520" y="2784600"/>
            <a:ext cx="21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&lt;&lt;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76520" y="3381480"/>
            <a:ext cx="21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&lt;&lt;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3584520"/>
            <a:ext cx="21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&lt;&lt;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76520" y="3749760"/>
            <a:ext cx="21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&lt;&lt;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MC Translator 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762120" y="0"/>
          <a:ext cx="7945200" cy="656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0"/>
                    <a:ext cx="7945200" cy="656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DI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DI CIS/2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As DMC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, but an IDI </a:t>
            </a: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impor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translator must </a:t>
            </a: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also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support the incremental import of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f the displacement of existing dat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pability is built-on managed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thers applications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st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be DM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DI translator uses “comparator logic” to identify cha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DI supports </a:t>
            </a: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Revisions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ass-Down” Revis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438280" y="1905120"/>
          <a:ext cx="5754960" cy="41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905120"/>
                    <a:ext cx="575496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1066680" y="4038480"/>
            <a:ext cx="1828800" cy="1067040"/>
          </a:xfrm>
          <a:prstGeom prst="wedgeRoundRectCallout">
            <a:avLst>
              <a:gd name="adj1" fmla="val 91319"/>
              <a:gd name="adj2" fmla="val -101638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 #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nitial da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038480" y="5486400"/>
            <a:ext cx="1828800" cy="1066680"/>
          </a:xfrm>
          <a:prstGeom prst="wedgeRoundRectCallout">
            <a:avLst>
              <a:gd name="adj1" fmla="val 72569"/>
              <a:gd name="adj2" fmla="val -12187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introduce the spectrum of possible types of CIS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focus on Basic CIS Transla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Draws on CIS/2 Volume 2 (Implementation Guid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ass-Down” Revis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2438280" y="1905120"/>
          <a:ext cx="5754960" cy="41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905120"/>
                    <a:ext cx="575496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1066680" y="4038480"/>
            <a:ext cx="1828800" cy="1067040"/>
          </a:xfrm>
          <a:prstGeom prst="wedgeRoundRectCallout">
            <a:avLst>
              <a:gd name="adj1" fmla="val 91319"/>
              <a:gd name="adj2" fmla="val -101638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 #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vised da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5486400"/>
            <a:ext cx="1828800" cy="1066680"/>
          </a:xfrm>
          <a:prstGeom prst="wedgeRoundRectCallout">
            <a:avLst>
              <a:gd name="adj1" fmla="val 72569"/>
              <a:gd name="adj2" fmla="val -12187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chan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ass-Back” Revis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438280" y="1905120"/>
          <a:ext cx="5754960" cy="41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905120"/>
                    <a:ext cx="575496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1066680" y="4038480"/>
            <a:ext cx="1828800" cy="1067040"/>
          </a:xfrm>
          <a:prstGeom prst="wedgeRoundRectCallout">
            <a:avLst>
              <a:gd name="adj1" fmla="val 91319"/>
              <a:gd name="adj2" fmla="val -101638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 #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nitial da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038480" y="5486400"/>
            <a:ext cx="1828800" cy="1066680"/>
          </a:xfrm>
          <a:prstGeom prst="wedgeRoundRectCallout">
            <a:avLst>
              <a:gd name="adj1" fmla="val 72569"/>
              <a:gd name="adj2" fmla="val -12187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ass-Back” Revis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2438280" y="1905120"/>
          <a:ext cx="5754960" cy="41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905120"/>
                    <a:ext cx="575496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838080" y="4038480"/>
            <a:ext cx="2057400" cy="1067040"/>
          </a:xfrm>
          <a:prstGeom prst="wedgeRoundRectCallout">
            <a:avLst>
              <a:gd name="adj1" fmla="val 86726"/>
              <a:gd name="adj2" fmla="val -101638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 #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eedback da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29000" y="5334120"/>
            <a:ext cx="1828800" cy="1066680"/>
          </a:xfrm>
          <a:prstGeom prst="wedgeRoundRectCallout">
            <a:avLst>
              <a:gd name="adj1" fmla="val 107986"/>
              <a:gd name="adj2" fmla="val -286162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chan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DI Translator 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0" y="0"/>
          <a:ext cx="8555040" cy="683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555040" cy="683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MR-Enabled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MR-Enabled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As ID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but an PMR translator must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als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e ready to support 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data sharing and management via a PM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M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duct Model Repository (DBM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rect access translators (via SDAI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irect access translators (via Part 21 fil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ch translators are some way off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MR: Product Model Repositor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371600" y="1600200"/>
          <a:ext cx="6354720" cy="50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600200"/>
                    <a:ext cx="6354720" cy="50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MR: Product Model Repositor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219320" y="1523880"/>
          <a:ext cx="6553080" cy="516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523880"/>
                    <a:ext cx="6553080" cy="516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MR: Product Model Repositor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219320" y="1523880"/>
          <a:ext cx="6553080" cy="516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523880"/>
                    <a:ext cx="6553080" cy="516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880" y="-228600"/>
            <a:ext cx="41911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MR-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nabled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ranslator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609480" y="228600"/>
          <a:ext cx="6073920" cy="637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8600"/>
                    <a:ext cx="6073920" cy="63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4267080"/>
            <a:ext cx="2286000" cy="221004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1981080"/>
            <a:ext cx="2286000" cy="221004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Summary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6324480" y="4876920"/>
            <a:ext cx="1987200" cy="1014120"/>
            <a:chOff x="6324480" y="4876920"/>
            <a:chExt cx="1987200" cy="1014120"/>
          </a:xfrm>
        </p:grpSpPr>
        <p:pic>
          <p:nvPicPr>
            <p:cNvPr id="57" name="" descr=""/>
            <p:cNvPicPr/>
            <p:nvPr/>
          </p:nvPicPr>
          <p:blipFill>
            <a:blip r:embed="rId3"/>
            <a:stretch/>
          </p:blipFill>
          <p:spPr>
            <a:xfrm>
              <a:off x="632448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632484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6629400" y="2362320"/>
            <a:ext cx="1400760" cy="1236600"/>
            <a:chOff x="6629400" y="2362320"/>
            <a:chExt cx="1400760" cy="1236600"/>
          </a:xfrm>
        </p:grpSpPr>
        <p:pic>
          <p:nvPicPr>
            <p:cNvPr id="60" name="" descr=""/>
            <p:cNvPicPr/>
            <p:nvPr/>
          </p:nvPicPr>
          <p:blipFill>
            <a:blip r:embed="rId4"/>
            <a:stretch/>
          </p:blipFill>
          <p:spPr>
            <a:xfrm>
              <a:off x="6629400" y="2362320"/>
              <a:ext cx="13716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663012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952880" y="-228600"/>
            <a:ext cx="41911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MR-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nabled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ranslator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609480" y="228600"/>
          <a:ext cx="6073920" cy="637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8600"/>
                    <a:ext cx="6073920" cy="63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6402240" y="579132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IR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952880" y="-228600"/>
            <a:ext cx="41911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MR-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nabled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ranslator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609480" y="228600"/>
          <a:ext cx="6073920" cy="637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8600"/>
                    <a:ext cx="6073920" cy="63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"/>
          <p:cNvSpPr/>
          <p:nvPr/>
        </p:nvSpPr>
        <p:spPr>
          <a:xfrm>
            <a:off x="6402240" y="579132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IR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2520" y="6248520"/>
            <a:ext cx="14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N-DIR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ummar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ranslator Typ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trum of possible ty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sic, DMC, IDI, PMR-Enabl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al (and conformance) requirements escalate incremental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rt with basic transla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MC the key to data mana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 Translator Typ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Basi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DM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management conform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ID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mental data im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PMR-Enabl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duct model reposito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6249960" y="2057400"/>
            <a:ext cx="2160360" cy="3658680"/>
            <a:chOff x="6249960" y="2057400"/>
            <a:chExt cx="2160360" cy="3658680"/>
          </a:xfrm>
        </p:grpSpPr>
        <p:sp>
          <p:nvSpPr>
            <p:cNvPr id="68" name=""/>
            <p:cNvSpPr/>
            <p:nvPr/>
          </p:nvSpPr>
          <p:spPr>
            <a:xfrm>
              <a:off x="6705720" y="2057400"/>
              <a:ext cx="1218960" cy="2971800"/>
            </a:xfrm>
            <a:prstGeom prst="downArrow">
              <a:avLst>
                <a:gd name="adj1" fmla="val 50000"/>
                <a:gd name="adj2" fmla="val 60949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249960" y="5256360"/>
              <a:ext cx="21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COMPLEXIT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on’t Panic!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olume 2 reflects two aspects of CIS/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gned to address emerging probl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mental implementation (and deploymen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om simple file exchange right through to integrating datab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yered approa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irements are additional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EP Implementation Level 1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990720" y="1103400"/>
          <a:ext cx="6145200" cy="57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103400"/>
                    <a:ext cx="6145200" cy="57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765720" y="5029200"/>
            <a:ext cx="233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ata sharing v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change fi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EP Implementation Level 3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133720" y="1523880"/>
          <a:ext cx="5181480" cy="510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523880"/>
                    <a:ext cx="5181480" cy="510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231840" y="5334120"/>
            <a:ext cx="185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ata sha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via DB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asic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asic CIS/2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 21 exchange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rt, Export or bo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particular CC combin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import (all or part of fil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export (all or part of dat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particular unit systems et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pically displaces existing data on im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9T11:41:29Z</dcterms:created>
  <dc:creator>Alastair Watson</dc:creator>
  <dc:description/>
  <dc:language>en-US</dc:language>
  <cp:lastModifiedBy>Andrew Crowley</cp:lastModifiedBy>
  <cp:lastPrinted>1999-06-19T15:36:00Z</cp:lastPrinted>
  <dcterms:modified xsi:type="dcterms:W3CDTF">2000-04-07T16:17:18Z</dcterms:modified>
  <cp:revision>14</cp:revision>
  <dc:subject/>
  <dc:title>CIS/2  Implementation Workshop</dc:title>
</cp:coreProperties>
</file>