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" name="Logo" descr=""/>
          <p:cNvPicPr/>
          <p:nvPr/>
        </p:nvPicPr>
        <p:blipFill>
          <a:blip r:embed="rId2"/>
          <a:stretch/>
        </p:blipFill>
        <p:spPr>
          <a:xfrm>
            <a:off x="76320" y="6218280"/>
            <a:ext cx="914400" cy="5983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478720" y="6242040"/>
            <a:ext cx="59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91B21-6C92-489D-A97D-2E1A8B7D1377}" type="slidenum">
              <a:rPr b="0" lang="en-GB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048280" y="6410160"/>
            <a:ext cx="121932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April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71640" y="6404040"/>
            <a:ext cx="28954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60560" y="6281640"/>
            <a:ext cx="7458120" cy="93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39680" algn="ctr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01520" algn="ctr"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3360" algn="ctr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8192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 2000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5.7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Workshop - Case Stud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- Manufacturing Construc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096200" y="104760"/>
            <a:ext cx="7547760" cy="6033960"/>
            <a:chOff x="1096200" y="104760"/>
            <a:chExt cx="7547760" cy="6033960"/>
          </a:xfrm>
        </p:grpSpPr>
        <p:sp>
          <p:nvSpPr>
            <p:cNvPr id="91" name=""/>
            <p:cNvSpPr/>
            <p:nvPr/>
          </p:nvSpPr>
          <p:spPr>
            <a:xfrm flipH="1">
              <a:off x="2964960" y="2581200"/>
              <a:ext cx="176076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964960" y="2548080"/>
              <a:ext cx="176076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857760" y="971640"/>
              <a:ext cx="27000" cy="27000"/>
            </a:xfrm>
            <a:custGeom>
              <a:avLst/>
              <a:gdLst/>
              <a:ahLst/>
              <a:rect l="l" t="t" r="r" b="b"/>
              <a:pathLst>
                <a:path w="51" h="52">
                  <a:moveTo>
                    <a:pt x="51" y="0"/>
                  </a:moveTo>
                  <a:lnTo>
                    <a:pt x="32" y="5"/>
                  </a:lnTo>
                  <a:lnTo>
                    <a:pt x="15" y="16"/>
                  </a:lnTo>
                  <a:lnTo>
                    <a:pt x="4" y="33"/>
                  </a:lnTo>
                  <a:lnTo>
                    <a:pt x="0" y="52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3884760" y="971640"/>
              <a:ext cx="18576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807000" y="971640"/>
              <a:ext cx="26640" cy="27000"/>
            </a:xfrm>
            <a:custGeom>
              <a:avLst/>
              <a:gdLst/>
              <a:ahLst/>
              <a:rect l="l" t="t" r="r" b="b"/>
              <a:pathLst>
                <a:path w="51" h="52">
                  <a:moveTo>
                    <a:pt x="51" y="52"/>
                  </a:moveTo>
                  <a:lnTo>
                    <a:pt x="47" y="33"/>
                  </a:lnTo>
                  <a:lnTo>
                    <a:pt x="36" y="16"/>
                  </a:lnTo>
                  <a:lnTo>
                    <a:pt x="20" y="5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>
              <a:off x="3621240" y="971640"/>
              <a:ext cx="18576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807000" y="2311560"/>
              <a:ext cx="26640" cy="26640"/>
            </a:xfrm>
            <a:custGeom>
              <a:avLst/>
              <a:gdLst/>
              <a:ahLst/>
              <a:rect l="l" t="t" r="r" b="b"/>
              <a:pathLst>
                <a:path w="51" h="52">
                  <a:moveTo>
                    <a:pt x="0" y="52"/>
                  </a:moveTo>
                  <a:lnTo>
                    <a:pt x="20" y="48"/>
                  </a:lnTo>
                  <a:lnTo>
                    <a:pt x="36" y="36"/>
                  </a:lnTo>
                  <a:lnTo>
                    <a:pt x="47" y="19"/>
                  </a:lnTo>
                  <a:lnTo>
                    <a:pt x="51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33640" y="998640"/>
              <a:ext cx="1800" cy="131292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>
              <a:off x="3621240" y="2338200"/>
              <a:ext cx="18576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57760" y="998640"/>
              <a:ext cx="1440" cy="131292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070520" y="939960"/>
              <a:ext cx="1440" cy="316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621240" y="939960"/>
              <a:ext cx="1440" cy="316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621240" y="2338200"/>
              <a:ext cx="1440" cy="320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>
              <a:off x="3621240" y="939960"/>
              <a:ext cx="4492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3857400" y="998640"/>
              <a:ext cx="3492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3857400" y="2311560"/>
              <a:ext cx="3492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3892320" y="2003400"/>
              <a:ext cx="83340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3892320" y="2038320"/>
              <a:ext cx="83340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794040" y="3943440"/>
              <a:ext cx="5256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363920" y="2989080"/>
              <a:ext cx="32040" cy="33480"/>
            </a:xfrm>
            <a:custGeom>
              <a:avLst/>
              <a:gdLst/>
              <a:ahLst/>
              <a:rect l="l" t="t" r="r" b="b"/>
              <a:pathLst>
                <a:path w="61" h="62">
                  <a:moveTo>
                    <a:pt x="61" y="62"/>
                  </a:moveTo>
                  <a:lnTo>
                    <a:pt x="57" y="39"/>
                  </a:lnTo>
                  <a:lnTo>
                    <a:pt x="43" y="18"/>
                  </a:lnTo>
                  <a:lnTo>
                    <a:pt x="24" y="5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897360" y="2955960"/>
              <a:ext cx="33120" cy="3312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0" y="0"/>
                  </a:moveTo>
                  <a:lnTo>
                    <a:pt x="5" y="23"/>
                  </a:lnTo>
                  <a:lnTo>
                    <a:pt x="18" y="44"/>
                  </a:lnTo>
                  <a:lnTo>
                    <a:pt x="37" y="57"/>
                  </a:lnTo>
                  <a:lnTo>
                    <a:pt x="62" y="62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930480" y="2989080"/>
              <a:ext cx="43344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65680" y="2587680"/>
              <a:ext cx="31680" cy="3312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62" y="62"/>
                  </a:moveTo>
                  <a:lnTo>
                    <a:pt x="57" y="39"/>
                  </a:lnTo>
                  <a:lnTo>
                    <a:pt x="44" y="18"/>
                  </a:lnTo>
                  <a:lnTo>
                    <a:pt x="23" y="5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3897360" y="2620440"/>
              <a:ext cx="1440" cy="3351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3846240" y="2587680"/>
              <a:ext cx="190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846600" y="2581200"/>
              <a:ext cx="1440" cy="24274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3794040" y="2581200"/>
              <a:ext cx="1800" cy="13622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846600" y="4749840"/>
              <a:ext cx="54936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46600" y="4707000"/>
              <a:ext cx="54936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897360" y="4794120"/>
              <a:ext cx="33120" cy="3348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62" y="0"/>
                  </a:moveTo>
                  <a:lnTo>
                    <a:pt x="37" y="5"/>
                  </a:lnTo>
                  <a:lnTo>
                    <a:pt x="18" y="18"/>
                  </a:lnTo>
                  <a:lnTo>
                    <a:pt x="5" y="39"/>
                  </a:lnTo>
                  <a:lnTo>
                    <a:pt x="0" y="62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897360" y="4630680"/>
              <a:ext cx="33120" cy="31680"/>
            </a:xfrm>
            <a:custGeom>
              <a:avLst/>
              <a:gdLst/>
              <a:ahLst/>
              <a:rect l="l" t="t" r="r" b="b"/>
              <a:pathLst>
                <a:path w="62" h="61">
                  <a:moveTo>
                    <a:pt x="0" y="0"/>
                  </a:moveTo>
                  <a:lnTo>
                    <a:pt x="5" y="23"/>
                  </a:lnTo>
                  <a:lnTo>
                    <a:pt x="18" y="43"/>
                  </a:lnTo>
                  <a:lnTo>
                    <a:pt x="37" y="56"/>
                  </a:lnTo>
                  <a:lnTo>
                    <a:pt x="62" y="61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65680" y="5160960"/>
              <a:ext cx="31680" cy="33480"/>
            </a:xfrm>
            <a:custGeom>
              <a:avLst/>
              <a:gdLst/>
              <a:ahLst/>
              <a:rect l="l" t="t" r="r" b="b"/>
              <a:pathLst>
                <a:path w="62" h="61">
                  <a:moveTo>
                    <a:pt x="0" y="61"/>
                  </a:moveTo>
                  <a:lnTo>
                    <a:pt x="23" y="57"/>
                  </a:lnTo>
                  <a:lnTo>
                    <a:pt x="44" y="43"/>
                  </a:lnTo>
                  <a:lnTo>
                    <a:pt x="57" y="23"/>
                  </a:lnTo>
                  <a:lnTo>
                    <a:pt x="62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3897360" y="4827600"/>
              <a:ext cx="1440" cy="3333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46600" y="5194440"/>
              <a:ext cx="190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65680" y="4262400"/>
              <a:ext cx="31680" cy="3348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62" y="62"/>
                  </a:moveTo>
                  <a:lnTo>
                    <a:pt x="57" y="39"/>
                  </a:lnTo>
                  <a:lnTo>
                    <a:pt x="44" y="18"/>
                  </a:lnTo>
                  <a:lnTo>
                    <a:pt x="23" y="5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846600" y="4262400"/>
              <a:ext cx="190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363920" y="4762440"/>
              <a:ext cx="32040" cy="31680"/>
            </a:xfrm>
            <a:custGeom>
              <a:avLst/>
              <a:gdLst/>
              <a:ahLst/>
              <a:rect l="l" t="t" r="r" b="b"/>
              <a:pathLst>
                <a:path w="61" h="61">
                  <a:moveTo>
                    <a:pt x="0" y="61"/>
                  </a:moveTo>
                  <a:lnTo>
                    <a:pt x="24" y="56"/>
                  </a:lnTo>
                  <a:lnTo>
                    <a:pt x="43" y="43"/>
                  </a:lnTo>
                  <a:lnTo>
                    <a:pt x="57" y="23"/>
                  </a:lnTo>
                  <a:lnTo>
                    <a:pt x="61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930480" y="4794120"/>
              <a:ext cx="43344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4395960" y="4749480"/>
              <a:ext cx="1440" cy="126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363920" y="4662360"/>
              <a:ext cx="32040" cy="33480"/>
            </a:xfrm>
            <a:custGeom>
              <a:avLst/>
              <a:gdLst/>
              <a:ahLst/>
              <a:rect l="l" t="t" r="r" b="b"/>
              <a:pathLst>
                <a:path w="61" h="62">
                  <a:moveTo>
                    <a:pt x="61" y="62"/>
                  </a:moveTo>
                  <a:lnTo>
                    <a:pt x="57" y="39"/>
                  </a:lnTo>
                  <a:lnTo>
                    <a:pt x="43" y="18"/>
                  </a:lnTo>
                  <a:lnTo>
                    <a:pt x="24" y="5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930480" y="4662360"/>
              <a:ext cx="43344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4395960" y="4695480"/>
              <a:ext cx="1440" cy="111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>
              <a:off x="3846600" y="4749480"/>
              <a:ext cx="1440" cy="4446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3846600" y="4262040"/>
              <a:ext cx="1440" cy="4446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897360" y="4295880"/>
              <a:ext cx="1440" cy="334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873520" y="939960"/>
              <a:ext cx="1440" cy="49622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965320" y="939960"/>
              <a:ext cx="1800" cy="49622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4395960" y="3022560"/>
              <a:ext cx="1440" cy="17272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726080" y="939960"/>
              <a:ext cx="1440" cy="49622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818240" y="939960"/>
              <a:ext cx="1440" cy="49622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897360" y="2955960"/>
              <a:ext cx="1440" cy="167472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819600" y="5635440"/>
              <a:ext cx="66600" cy="48132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3710160" y="5635080"/>
              <a:ext cx="109440" cy="2667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3886200" y="5902200"/>
              <a:ext cx="115920" cy="2145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2428560" y="5902200"/>
              <a:ext cx="128124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4001760" y="5902200"/>
              <a:ext cx="106524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4818240" y="2581200"/>
              <a:ext cx="261936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2873520" y="939960"/>
              <a:ext cx="45640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870440" y="939960"/>
              <a:ext cx="1440" cy="16412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4870080" y="2541600"/>
              <a:ext cx="256716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4870080" y="981000"/>
              <a:ext cx="256716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3898800" y="4662360"/>
              <a:ext cx="4464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3851280" y="4650840"/>
              <a:ext cx="54000" cy="55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V="1">
              <a:off x="3948120" y="4662360"/>
              <a:ext cx="4428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V="1">
              <a:off x="3846600" y="4609800"/>
              <a:ext cx="50760" cy="52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3997440" y="4662360"/>
              <a:ext cx="4428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3846600" y="4560840"/>
              <a:ext cx="50760" cy="52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4046400" y="4662360"/>
              <a:ext cx="4284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3846600" y="4511520"/>
              <a:ext cx="50760" cy="52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4094280" y="4662360"/>
              <a:ext cx="4428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3846600" y="4462200"/>
              <a:ext cx="50760" cy="52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143240" y="4662360"/>
              <a:ext cx="4464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3846600" y="4414680"/>
              <a:ext cx="50760" cy="511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4192560" y="4662360"/>
              <a:ext cx="4464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>
              <a:off x="3846600" y="4365360"/>
              <a:ext cx="50760" cy="52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4241880" y="4662360"/>
              <a:ext cx="4284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3846600" y="4316400"/>
              <a:ext cx="50760" cy="52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4290840" y="4662360"/>
              <a:ext cx="4320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3846600" y="4275000"/>
              <a:ext cx="4428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>
              <a:off x="4340160" y="4667400"/>
              <a:ext cx="39600" cy="39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3846600" y="4262400"/>
              <a:ext cx="7920" cy="7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4387680" y="4699080"/>
              <a:ext cx="8280" cy="7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4299120" y="4749480"/>
              <a:ext cx="4428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3851280" y="5146200"/>
              <a:ext cx="46080" cy="47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4249800" y="4749480"/>
              <a:ext cx="4428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4348080" y="4749480"/>
              <a:ext cx="446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3846600" y="5097240"/>
              <a:ext cx="50760" cy="52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4202280" y="4749480"/>
              <a:ext cx="428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3846600" y="5047920"/>
              <a:ext cx="50760" cy="52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4152960" y="4749480"/>
              <a:ext cx="428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3846600" y="5000400"/>
              <a:ext cx="50760" cy="50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4103640" y="4749480"/>
              <a:ext cx="428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3846600" y="4951080"/>
              <a:ext cx="50760" cy="50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4054320" y="4749480"/>
              <a:ext cx="446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3846600" y="4902120"/>
              <a:ext cx="50760" cy="52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4005360" y="4749480"/>
              <a:ext cx="4428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3846600" y="4852800"/>
              <a:ext cx="50760" cy="52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3956040" y="4749480"/>
              <a:ext cx="446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3846600" y="4749480"/>
              <a:ext cx="104760" cy="106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3846600" y="4749480"/>
              <a:ext cx="57240" cy="572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846600" y="4749840"/>
              <a:ext cx="7920" cy="93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V="1">
              <a:off x="7170840" y="1590480"/>
              <a:ext cx="482400" cy="680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flipV="1">
              <a:off x="7170480" y="1658880"/>
              <a:ext cx="266760" cy="109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flipV="1">
              <a:off x="7437240" y="1476360"/>
              <a:ext cx="215640" cy="1144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437600" y="1768320"/>
              <a:ext cx="1440" cy="9064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437600" y="825480"/>
              <a:ext cx="1440" cy="6508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>
              <a:off x="4114800" y="2463840"/>
              <a:ext cx="2376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4308480" y="2037960"/>
              <a:ext cx="1440" cy="28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 flipV="1">
              <a:off x="3857400" y="163800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 flipV="1">
              <a:off x="3857400" y="1686960"/>
              <a:ext cx="34920" cy="334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3857400" y="158868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 flipV="1">
              <a:off x="3857400" y="1736280"/>
              <a:ext cx="34920" cy="334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 flipV="1">
              <a:off x="3857400" y="153936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 flipV="1">
              <a:off x="3857400" y="1784160"/>
              <a:ext cx="34920" cy="35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 flipV="1">
              <a:off x="3857400" y="149040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 flipV="1">
              <a:off x="3857400" y="183312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 flipV="1">
              <a:off x="3857400" y="144108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 flipV="1">
              <a:off x="3857400" y="188244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 flipV="1">
              <a:off x="3857400" y="1393920"/>
              <a:ext cx="34920" cy="331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 flipV="1">
              <a:off x="3857400" y="193176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 flipV="1">
              <a:off x="3857400" y="134424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 flipV="1">
              <a:off x="3857400" y="197928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 flipV="1">
              <a:off x="3857400" y="129492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 flipV="1">
              <a:off x="3857400" y="202860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 flipV="1">
              <a:off x="3857400" y="124596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 flipV="1">
              <a:off x="3857400" y="207756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 flipV="1">
              <a:off x="3857400" y="119664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 flipV="1">
              <a:off x="3857400" y="212688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 flipV="1">
              <a:off x="3857400" y="1147680"/>
              <a:ext cx="34920" cy="367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 flipV="1">
              <a:off x="3857400" y="2176560"/>
              <a:ext cx="34920" cy="331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 flipV="1">
              <a:off x="3857400" y="1099800"/>
              <a:ext cx="34920" cy="334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3857400" y="2225160"/>
              <a:ext cx="34920" cy="334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3857400" y="105048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 flipV="1">
              <a:off x="3857400" y="227304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 flipV="1">
              <a:off x="3857400" y="1001520"/>
              <a:ext cx="34920" cy="35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138560" y="2066760"/>
              <a:ext cx="41400" cy="41400"/>
            </a:xfrm>
            <a:custGeom>
              <a:avLst/>
              <a:gdLst/>
              <a:ahLst/>
              <a:rect l="l" t="t" r="r" b="b"/>
              <a:pathLst>
                <a:path w="78" h="77">
                  <a:moveTo>
                    <a:pt x="78" y="0"/>
                  </a:moveTo>
                  <a:lnTo>
                    <a:pt x="47" y="4"/>
                  </a:lnTo>
                  <a:lnTo>
                    <a:pt x="23" y="21"/>
                  </a:lnTo>
                  <a:lnTo>
                    <a:pt x="6" y="47"/>
                  </a:lnTo>
                  <a:lnTo>
                    <a:pt x="0" y="77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4179600" y="2066760"/>
              <a:ext cx="12852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4138560" y="2108160"/>
              <a:ext cx="1800" cy="3556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075200" y="2066760"/>
              <a:ext cx="39600" cy="41400"/>
            </a:xfrm>
            <a:custGeom>
              <a:avLst/>
              <a:gdLst/>
              <a:ahLst/>
              <a:rect l="l" t="t" r="r" b="b"/>
              <a:pathLst>
                <a:path w="76" h="77">
                  <a:moveTo>
                    <a:pt x="76" y="77"/>
                  </a:moveTo>
                  <a:lnTo>
                    <a:pt x="71" y="47"/>
                  </a:lnTo>
                  <a:lnTo>
                    <a:pt x="54" y="21"/>
                  </a:lnTo>
                  <a:lnTo>
                    <a:pt x="29" y="4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>
              <a:off x="4114800" y="2108160"/>
              <a:ext cx="1440" cy="3556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857760" y="2311560"/>
              <a:ext cx="17280" cy="25200"/>
            </a:xfrm>
            <a:custGeom>
              <a:avLst/>
              <a:gdLst/>
              <a:ahLst/>
              <a:rect l="l" t="t" r="r" b="b"/>
              <a:pathLst>
                <a:path w="33" h="48">
                  <a:moveTo>
                    <a:pt x="0" y="0"/>
                  </a:moveTo>
                  <a:lnTo>
                    <a:pt x="3" y="16"/>
                  </a:lnTo>
                  <a:lnTo>
                    <a:pt x="9" y="29"/>
                  </a:lnTo>
                  <a:lnTo>
                    <a:pt x="19" y="40"/>
                  </a:lnTo>
                  <a:lnTo>
                    <a:pt x="33" y="48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3620880" y="2370240"/>
              <a:ext cx="25380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875040" y="2336760"/>
              <a:ext cx="1800" cy="334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3833640" y="164304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3833640" y="159372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V="1">
              <a:off x="3833640" y="169236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V="1">
              <a:off x="3833640" y="154476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3833640" y="1739520"/>
              <a:ext cx="24120" cy="25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V="1">
              <a:off x="3833640" y="149544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3833640" y="178920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V="1">
              <a:off x="3833640" y="1445760"/>
              <a:ext cx="24120" cy="25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V="1">
              <a:off x="3833640" y="1837800"/>
              <a:ext cx="24120" cy="25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>
              <a:off x="3833640" y="139860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V="1">
              <a:off x="3833640" y="188748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3833640" y="1348920"/>
              <a:ext cx="24120" cy="25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3833640" y="193680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V="1">
              <a:off x="3833640" y="130032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V="1">
              <a:off x="3833640" y="198612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3833640" y="125100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V="1">
              <a:off x="3833640" y="203364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3833640" y="120348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V="1">
              <a:off x="3833640" y="208296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V="1">
              <a:off x="3833640" y="115416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flipV="1">
              <a:off x="4040280" y="941400"/>
              <a:ext cx="30240" cy="302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V="1">
              <a:off x="3621240" y="2338200"/>
              <a:ext cx="29880" cy="302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>
              <a:off x="3833640" y="2131560"/>
              <a:ext cx="24120" cy="25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V="1">
              <a:off x="3833640" y="110484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V="1">
              <a:off x="3990960" y="939960"/>
              <a:ext cx="31680" cy="31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>
              <a:off x="3668760" y="2337840"/>
              <a:ext cx="31680" cy="32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>
              <a:off x="3833640" y="218124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>
              <a:off x="3833640" y="1055160"/>
              <a:ext cx="24120" cy="25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>
              <a:off x="3943440" y="939960"/>
              <a:ext cx="30240" cy="31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>
              <a:off x="3718080" y="2337840"/>
              <a:ext cx="31680" cy="32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>
              <a:off x="3833640" y="2228400"/>
              <a:ext cx="24120" cy="25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>
              <a:off x="3833640" y="100656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3894120" y="939960"/>
              <a:ext cx="30240" cy="31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3767040" y="2337840"/>
              <a:ext cx="31680" cy="32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>
              <a:off x="3833640" y="227808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>
              <a:off x="3830760" y="939600"/>
              <a:ext cx="44280" cy="457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3816360" y="2324160"/>
              <a:ext cx="44280" cy="46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>
              <a:off x="3795840" y="939960"/>
              <a:ext cx="31680" cy="31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3863880" y="2358720"/>
              <a:ext cx="11160" cy="111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746520" y="939960"/>
              <a:ext cx="31680" cy="31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3697200" y="939960"/>
              <a:ext cx="31680" cy="31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3649680" y="939960"/>
              <a:ext cx="30240" cy="31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3621240" y="939960"/>
              <a:ext cx="9360" cy="10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>
              <a:off x="3892320" y="2463840"/>
              <a:ext cx="22212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892680" y="998640"/>
              <a:ext cx="1440" cy="14652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V="1">
              <a:off x="3927600" y="2037960"/>
              <a:ext cx="1440" cy="28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3927600" y="2066760"/>
              <a:ext cx="14760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3927600" y="2038320"/>
              <a:ext cx="3808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 flipV="1">
              <a:off x="4114800" y="2247840"/>
              <a:ext cx="2376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 flipV="1">
              <a:off x="3927240" y="2060280"/>
              <a:ext cx="6120" cy="61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 flipV="1">
              <a:off x="4114800" y="2297160"/>
              <a:ext cx="23760" cy="22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 flipV="1">
              <a:off x="4114800" y="2198160"/>
              <a:ext cx="23760" cy="241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 flipV="1">
              <a:off x="3952800" y="2037960"/>
              <a:ext cx="30240" cy="28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 flipV="1">
              <a:off x="4114800" y="2344680"/>
              <a:ext cx="2376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 flipV="1">
              <a:off x="4114800" y="2149560"/>
              <a:ext cx="2376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 flipV="1">
              <a:off x="4002120" y="2037960"/>
              <a:ext cx="30240" cy="28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 flipV="1">
              <a:off x="4114800" y="2394000"/>
              <a:ext cx="2376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 flipV="1">
              <a:off x="4113360" y="2100240"/>
              <a:ext cx="2520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 flipV="1">
              <a:off x="4051080" y="2038320"/>
              <a:ext cx="29880" cy="302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 flipV="1">
              <a:off x="4114440" y="2442960"/>
              <a:ext cx="20520" cy="205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flipH="1" flipV="1">
              <a:off x="4100400" y="2038320"/>
              <a:ext cx="46080" cy="46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flipH="1" flipV="1">
              <a:off x="4149360" y="2037960"/>
              <a:ext cx="28440" cy="28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 flipV="1">
              <a:off x="4198680" y="2037960"/>
              <a:ext cx="28440" cy="28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flipH="1" flipV="1">
              <a:off x="4246560" y="2037960"/>
              <a:ext cx="30240" cy="28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 flipV="1">
              <a:off x="4295520" y="2037960"/>
              <a:ext cx="12600" cy="111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46600" y="560520"/>
              <a:ext cx="1440" cy="2696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846600" y="911160"/>
              <a:ext cx="1440" cy="414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846600" y="1033560"/>
              <a:ext cx="1440" cy="27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846600" y="1386000"/>
              <a:ext cx="1440" cy="410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846600" y="1508040"/>
              <a:ext cx="1440" cy="2700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846600" y="1859040"/>
              <a:ext cx="1440" cy="410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846600" y="1981080"/>
              <a:ext cx="1440" cy="27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846600" y="2333520"/>
              <a:ext cx="1440" cy="396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846600" y="2454120"/>
              <a:ext cx="1440" cy="27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846600" y="2806560"/>
              <a:ext cx="1440" cy="414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846600" y="2928960"/>
              <a:ext cx="1440" cy="27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846600" y="3281400"/>
              <a:ext cx="1440" cy="396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846600" y="3402000"/>
              <a:ext cx="1440" cy="27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846600" y="3754440"/>
              <a:ext cx="1440" cy="414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46600" y="3876840"/>
              <a:ext cx="1440" cy="2696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846600" y="4227480"/>
              <a:ext cx="1440" cy="414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846600" y="4349880"/>
              <a:ext cx="1440" cy="27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46600" y="4702320"/>
              <a:ext cx="1440" cy="396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846600" y="4824360"/>
              <a:ext cx="1440" cy="2700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46600" y="5175360"/>
              <a:ext cx="1440" cy="410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46600" y="5297400"/>
              <a:ext cx="1440" cy="2700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846600" y="5649840"/>
              <a:ext cx="1440" cy="396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846600" y="5770440"/>
              <a:ext cx="1440" cy="27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533840" y="2049480"/>
              <a:ext cx="146160" cy="150840"/>
            </a:xfrm>
            <a:custGeom>
              <a:avLst/>
              <a:gdLst/>
              <a:ahLst/>
              <a:rect l="l" t="t" r="r" b="b"/>
              <a:pathLst>
                <a:path w="276" h="284">
                  <a:moveTo>
                    <a:pt x="0" y="0"/>
                  </a:moveTo>
                  <a:lnTo>
                    <a:pt x="276" y="139"/>
                  </a:lnTo>
                  <a:lnTo>
                    <a:pt x="99" y="105"/>
                  </a:lnTo>
                  <a:lnTo>
                    <a:pt x="122" y="2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533840" y="2049480"/>
              <a:ext cx="1182600" cy="12636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716440" y="3313080"/>
              <a:ext cx="18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734800" y="3165480"/>
              <a:ext cx="1812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Univers"/>
                </a:rPr>
                <a:t>1/2" gusset pl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035600" y="853920"/>
              <a:ext cx="163440" cy="120960"/>
            </a:xfrm>
            <a:custGeom>
              <a:avLst/>
              <a:gdLst/>
              <a:ahLst/>
              <a:rect l="l" t="t" r="r" b="b"/>
              <a:pathLst>
                <a:path w="307" h="226">
                  <a:moveTo>
                    <a:pt x="0" y="226"/>
                  </a:moveTo>
                  <a:lnTo>
                    <a:pt x="211" y="0"/>
                  </a:lnTo>
                  <a:lnTo>
                    <a:pt x="131" y="160"/>
                  </a:lnTo>
                  <a:lnTo>
                    <a:pt x="307" y="189"/>
                  </a:lnTo>
                  <a:lnTo>
                    <a:pt x="0" y="22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>
              <a:off x="4035600" y="490320"/>
              <a:ext cx="955440" cy="4842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991040" y="490680"/>
              <a:ext cx="180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048280" y="342720"/>
              <a:ext cx="977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Univers"/>
                </a:rPr>
                <a:t>W21 x 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708440" y="4335480"/>
              <a:ext cx="157320" cy="135000"/>
            </a:xfrm>
            <a:custGeom>
              <a:avLst/>
              <a:gdLst/>
              <a:ahLst/>
              <a:rect l="l" t="t" r="r" b="b"/>
              <a:pathLst>
                <a:path w="298" h="255">
                  <a:moveTo>
                    <a:pt x="0" y="0"/>
                  </a:moveTo>
                  <a:lnTo>
                    <a:pt x="298" y="82"/>
                  </a:lnTo>
                  <a:lnTo>
                    <a:pt x="119" y="84"/>
                  </a:lnTo>
                  <a:lnTo>
                    <a:pt x="175" y="2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708440" y="4335480"/>
              <a:ext cx="1116000" cy="7920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824440" y="5127480"/>
              <a:ext cx="180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888520" y="4979880"/>
              <a:ext cx="1108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Univers"/>
                </a:rPr>
                <a:t>W27 x 19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18480" y="2330280"/>
              <a:ext cx="152280" cy="144720"/>
            </a:xfrm>
            <a:custGeom>
              <a:avLst/>
              <a:gdLst/>
              <a:ahLst/>
              <a:rect l="l" t="t" r="r" b="b"/>
              <a:pathLst>
                <a:path w="288" h="272">
                  <a:moveTo>
                    <a:pt x="0" y="0"/>
                  </a:moveTo>
                  <a:lnTo>
                    <a:pt x="288" y="114"/>
                  </a:lnTo>
                  <a:lnTo>
                    <a:pt x="109" y="97"/>
                  </a:lnTo>
                  <a:lnTo>
                    <a:pt x="146" y="2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918480" y="2330280"/>
              <a:ext cx="666720" cy="5940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585200" y="2924280"/>
              <a:ext cx="144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666200" y="2776680"/>
              <a:ext cx="977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Univers"/>
                </a:rPr>
                <a:t>W24 x 6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965320" y="2478240"/>
              <a:ext cx="69840" cy="698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965320" y="2478240"/>
              <a:ext cx="69840" cy="69840"/>
            </a:xfrm>
            <a:custGeom>
              <a:avLst/>
              <a:gdLst/>
              <a:ahLst/>
              <a:rect l="l" t="t" r="r" b="b"/>
              <a:pathLst>
                <a:path w="131" h="130">
                  <a:moveTo>
                    <a:pt x="0" y="0"/>
                  </a:moveTo>
                  <a:lnTo>
                    <a:pt x="0" y="130"/>
                  </a:lnTo>
                  <a:lnTo>
                    <a:pt x="131" y="1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2965320" y="2581200"/>
              <a:ext cx="69840" cy="698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965320" y="2581200"/>
              <a:ext cx="69840" cy="69840"/>
            </a:xfrm>
            <a:custGeom>
              <a:avLst/>
              <a:gdLst/>
              <a:ahLst/>
              <a:rect l="l" t="t" r="r" b="b"/>
              <a:pathLst>
                <a:path w="131" h="131">
                  <a:moveTo>
                    <a:pt x="0" y="131"/>
                  </a:moveTo>
                  <a:lnTo>
                    <a:pt x="0" y="0"/>
                  </a:lnTo>
                  <a:lnTo>
                    <a:pt x="131" y="0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>
              <a:off x="4656240" y="2478240"/>
              <a:ext cx="69840" cy="698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656240" y="2478240"/>
              <a:ext cx="69840" cy="69840"/>
            </a:xfrm>
            <a:custGeom>
              <a:avLst/>
              <a:gdLst/>
              <a:ahLst/>
              <a:rect l="l" t="t" r="r" b="b"/>
              <a:pathLst>
                <a:path w="132" h="130">
                  <a:moveTo>
                    <a:pt x="132" y="0"/>
                  </a:moveTo>
                  <a:lnTo>
                    <a:pt x="132" y="130"/>
                  </a:lnTo>
                  <a:lnTo>
                    <a:pt x="0" y="130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 flipV="1">
              <a:off x="4656240" y="2581200"/>
              <a:ext cx="69840" cy="698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656240" y="2581200"/>
              <a:ext cx="69840" cy="69840"/>
            </a:xfrm>
            <a:custGeom>
              <a:avLst/>
              <a:gdLst/>
              <a:ahLst/>
              <a:rect l="l" t="t" r="r" b="b"/>
              <a:pathLst>
                <a:path w="132" h="131">
                  <a:moveTo>
                    <a:pt x="132" y="131"/>
                  </a:moveTo>
                  <a:lnTo>
                    <a:pt x="132" y="0"/>
                  </a:lnTo>
                  <a:lnTo>
                    <a:pt x="0" y="0"/>
                  </a:lnTo>
                  <a:lnTo>
                    <a:pt x="132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368440" y="1798560"/>
              <a:ext cx="20484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H="1" flipV="1">
              <a:off x="2298600" y="1879560"/>
              <a:ext cx="69840" cy="1224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298600" y="1879560"/>
              <a:ext cx="1414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>
              <a:off x="2368080" y="1879560"/>
              <a:ext cx="71640" cy="1224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368440" y="1798560"/>
              <a:ext cx="1800" cy="810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H="1">
              <a:off x="7565760" y="1798560"/>
              <a:ext cx="20484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V="1">
              <a:off x="7770960" y="1879560"/>
              <a:ext cx="69840" cy="1224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>
              <a:off x="7698960" y="1879560"/>
              <a:ext cx="1414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699320" y="1879560"/>
              <a:ext cx="71640" cy="1224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0960" y="1798560"/>
              <a:ext cx="1440" cy="810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034360" y="1739880"/>
              <a:ext cx="238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Univers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904880" y="1739880"/>
              <a:ext cx="238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Univers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570120" y="104760"/>
              <a:ext cx="621000" cy="561960"/>
            </a:xfrm>
            <a:custGeom>
              <a:avLst/>
              <a:gdLst/>
              <a:ahLst/>
              <a:rect l="l" t="t" r="r" b="b"/>
              <a:pathLst>
                <a:path w="769" h="772">
                  <a:moveTo>
                    <a:pt x="385" y="0"/>
                  </a:moveTo>
                  <a:lnTo>
                    <a:pt x="314" y="7"/>
                  </a:lnTo>
                  <a:lnTo>
                    <a:pt x="246" y="27"/>
                  </a:lnTo>
                  <a:lnTo>
                    <a:pt x="182" y="58"/>
                  </a:lnTo>
                  <a:lnTo>
                    <a:pt x="125" y="101"/>
                  </a:lnTo>
                  <a:lnTo>
                    <a:pt x="77" y="152"/>
                  </a:lnTo>
                  <a:lnTo>
                    <a:pt x="40" y="213"/>
                  </a:lnTo>
                  <a:lnTo>
                    <a:pt x="14" y="279"/>
                  </a:lnTo>
                  <a:lnTo>
                    <a:pt x="1" y="348"/>
                  </a:lnTo>
                  <a:lnTo>
                    <a:pt x="0" y="420"/>
                  </a:lnTo>
                  <a:lnTo>
                    <a:pt x="13" y="490"/>
                  </a:lnTo>
                  <a:lnTo>
                    <a:pt x="37" y="556"/>
                  </a:lnTo>
                  <a:lnTo>
                    <a:pt x="75" y="616"/>
                  </a:lnTo>
                  <a:lnTo>
                    <a:pt x="122" y="670"/>
                  </a:lnTo>
                  <a:lnTo>
                    <a:pt x="178" y="712"/>
                  </a:lnTo>
                  <a:lnTo>
                    <a:pt x="241" y="745"/>
                  </a:lnTo>
                  <a:lnTo>
                    <a:pt x="309" y="765"/>
                  </a:lnTo>
                  <a:lnTo>
                    <a:pt x="379" y="772"/>
                  </a:lnTo>
                  <a:lnTo>
                    <a:pt x="450" y="766"/>
                  </a:lnTo>
                  <a:lnTo>
                    <a:pt x="519" y="748"/>
                  </a:lnTo>
                  <a:lnTo>
                    <a:pt x="583" y="718"/>
                  </a:lnTo>
                  <a:lnTo>
                    <a:pt x="640" y="676"/>
                  </a:lnTo>
                  <a:lnTo>
                    <a:pt x="688" y="624"/>
                  </a:lnTo>
                  <a:lnTo>
                    <a:pt x="727" y="565"/>
                  </a:lnTo>
                  <a:lnTo>
                    <a:pt x="754" y="499"/>
                  </a:lnTo>
                  <a:lnTo>
                    <a:pt x="768" y="429"/>
                  </a:lnTo>
                  <a:lnTo>
                    <a:pt x="769" y="359"/>
                  </a:lnTo>
                  <a:lnTo>
                    <a:pt x="759" y="289"/>
                  </a:lnTo>
                  <a:lnTo>
                    <a:pt x="734" y="221"/>
                  </a:lnTo>
                  <a:lnTo>
                    <a:pt x="698" y="161"/>
                  </a:lnTo>
                  <a:lnTo>
                    <a:pt x="651" y="108"/>
                  </a:lnTo>
                  <a:lnTo>
                    <a:pt x="595" y="63"/>
                  </a:lnTo>
                  <a:lnTo>
                    <a:pt x="533" y="30"/>
                  </a:lnTo>
                  <a:lnTo>
                    <a:pt x="465" y="9"/>
                  </a:lnTo>
                  <a:lnTo>
                    <a:pt x="395" y="0"/>
                  </a:lnTo>
                  <a:lnTo>
                    <a:pt x="385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717720" y="206280"/>
              <a:ext cx="3556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300" spc="-1" strike="noStrike">
                  <a:solidFill>
                    <a:srgbClr val="ffffff"/>
                  </a:solidFill>
                  <a:latin typeface="Univers"/>
                </a:rPr>
                <a:t>A1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646240" y="5788080"/>
              <a:ext cx="16815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300" spc="-1" strike="noStrike" u="sng">
                  <a:solidFill>
                    <a:srgbClr val="ffffff"/>
                  </a:solidFill>
                  <a:uFillTx/>
                  <a:latin typeface="Univers"/>
                </a:rPr>
                <a:t>Section P - P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967120" y="2614680"/>
              <a:ext cx="155520" cy="139680"/>
            </a:xfrm>
            <a:custGeom>
              <a:avLst/>
              <a:gdLst/>
              <a:ahLst/>
              <a:rect l="l" t="t" r="r" b="b"/>
              <a:pathLst>
                <a:path w="293" h="264">
                  <a:moveTo>
                    <a:pt x="293" y="0"/>
                  </a:moveTo>
                  <a:lnTo>
                    <a:pt x="132" y="264"/>
                  </a:lnTo>
                  <a:lnTo>
                    <a:pt x="180" y="90"/>
                  </a:lnTo>
                  <a:lnTo>
                    <a:pt x="0" y="99"/>
                  </a:lnTo>
                  <a:lnTo>
                    <a:pt x="29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>
              <a:off x="2262240" y="2614680"/>
              <a:ext cx="860400" cy="685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262240" y="3300480"/>
              <a:ext cx="144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096200" y="3154320"/>
              <a:ext cx="1404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Univers"/>
                </a:rPr>
                <a:t>1/2" stiffen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4818240" y="3817440"/>
            <a:ext cx="1440" cy="970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873520" y="3817800"/>
            <a:ext cx="1440" cy="970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965320" y="4206960"/>
            <a:ext cx="68400" cy="68040"/>
          </a:xfrm>
          <a:custGeom>
            <a:avLst/>
            <a:gdLst/>
            <a:ahLst/>
            <a:rect l="l" t="t" r="r" b="b"/>
            <a:pathLst>
              <a:path w="128" h="129">
                <a:moveTo>
                  <a:pt x="0" y="0"/>
                </a:moveTo>
                <a:lnTo>
                  <a:pt x="10" y="49"/>
                </a:lnTo>
                <a:lnTo>
                  <a:pt x="38" y="90"/>
                </a:lnTo>
                <a:lnTo>
                  <a:pt x="79" y="118"/>
                </a:lnTo>
                <a:lnTo>
                  <a:pt x="128" y="129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965320" y="3817800"/>
            <a:ext cx="1800" cy="3891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965320" y="4332240"/>
            <a:ext cx="68400" cy="68400"/>
          </a:xfrm>
          <a:custGeom>
            <a:avLst/>
            <a:gdLst/>
            <a:ahLst/>
            <a:rect l="l" t="t" r="r" b="b"/>
            <a:pathLst>
              <a:path w="128" h="129">
                <a:moveTo>
                  <a:pt x="128" y="0"/>
                </a:moveTo>
                <a:lnTo>
                  <a:pt x="79" y="11"/>
                </a:lnTo>
                <a:lnTo>
                  <a:pt x="38" y="38"/>
                </a:lnTo>
                <a:lnTo>
                  <a:pt x="10" y="79"/>
                </a:lnTo>
                <a:lnTo>
                  <a:pt x="0" y="129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965320" y="4400640"/>
            <a:ext cx="1800" cy="3873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657680" y="4206960"/>
            <a:ext cx="68400" cy="68040"/>
          </a:xfrm>
          <a:custGeom>
            <a:avLst/>
            <a:gdLst/>
            <a:ahLst/>
            <a:rect l="l" t="t" r="r" b="b"/>
            <a:pathLst>
              <a:path w="129" h="129">
                <a:moveTo>
                  <a:pt x="0" y="129"/>
                </a:moveTo>
                <a:lnTo>
                  <a:pt x="49" y="118"/>
                </a:lnTo>
                <a:lnTo>
                  <a:pt x="90" y="90"/>
                </a:lnTo>
                <a:lnTo>
                  <a:pt x="118" y="49"/>
                </a:lnTo>
                <a:lnTo>
                  <a:pt x="129" y="0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033720" y="4275000"/>
            <a:ext cx="162396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726080" y="3817800"/>
            <a:ext cx="1440" cy="3891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657680" y="4332240"/>
            <a:ext cx="68400" cy="68400"/>
          </a:xfrm>
          <a:custGeom>
            <a:avLst/>
            <a:gdLst/>
            <a:ahLst/>
            <a:rect l="l" t="t" r="r" b="b"/>
            <a:pathLst>
              <a:path w="129" h="129">
                <a:moveTo>
                  <a:pt x="129" y="129"/>
                </a:moveTo>
                <a:lnTo>
                  <a:pt x="118" y="79"/>
                </a:lnTo>
                <a:lnTo>
                  <a:pt x="90" y="38"/>
                </a:lnTo>
                <a:lnTo>
                  <a:pt x="49" y="11"/>
                </a:lnTo>
                <a:lnTo>
                  <a:pt x="0" y="0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033720" y="4332240"/>
            <a:ext cx="162396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726080" y="4400640"/>
            <a:ext cx="1440" cy="3873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H="1">
            <a:off x="4726080" y="3817800"/>
            <a:ext cx="9216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H="1">
            <a:off x="2873160" y="3817800"/>
            <a:ext cx="918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873520" y="4788000"/>
            <a:ext cx="918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726080" y="4788000"/>
            <a:ext cx="9216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621240" y="4400640"/>
            <a:ext cx="1440" cy="8618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833640" y="4400640"/>
            <a:ext cx="1800" cy="8618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857760" y="4332240"/>
            <a:ext cx="1440" cy="9302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H="1">
            <a:off x="3857400" y="4788000"/>
            <a:ext cx="3492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621240" y="4400640"/>
            <a:ext cx="23652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909960" y="5130720"/>
            <a:ext cx="33480" cy="239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V="1">
            <a:off x="3855960" y="5130720"/>
            <a:ext cx="54000" cy="131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V="1">
            <a:off x="3943440" y="5262480"/>
            <a:ext cx="58680" cy="108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flipH="1">
            <a:off x="3401640" y="5262480"/>
            <a:ext cx="45396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4001760" y="5262480"/>
            <a:ext cx="32076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818240" y="3992400"/>
            <a:ext cx="261936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818240" y="4613400"/>
            <a:ext cx="261936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3892320" y="4613400"/>
            <a:ext cx="8334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870440" y="3992400"/>
            <a:ext cx="1440" cy="621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870440" y="4289400"/>
            <a:ext cx="2700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222880" y="4289400"/>
            <a:ext cx="396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343480" y="4289400"/>
            <a:ext cx="27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695920" y="4289400"/>
            <a:ext cx="396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8320" y="4289400"/>
            <a:ext cx="2696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168960" y="4289400"/>
            <a:ext cx="414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291360" y="4289400"/>
            <a:ext cx="2696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643800" y="4289400"/>
            <a:ext cx="396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764400" y="4289400"/>
            <a:ext cx="27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116840" y="4289400"/>
            <a:ext cx="410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7238880" y="4289400"/>
            <a:ext cx="19872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0440" y="4317840"/>
            <a:ext cx="2700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222880" y="4317840"/>
            <a:ext cx="396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343480" y="4317840"/>
            <a:ext cx="27144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695920" y="4317840"/>
            <a:ext cx="396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18320" y="4317840"/>
            <a:ext cx="26964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168960" y="4317840"/>
            <a:ext cx="414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291360" y="4317840"/>
            <a:ext cx="26964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643800" y="4317840"/>
            <a:ext cx="396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764400" y="4317840"/>
            <a:ext cx="27144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7116840" y="4317840"/>
            <a:ext cx="4104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238880" y="4317840"/>
            <a:ext cx="19872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381780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3768840" y="4274640"/>
            <a:ext cx="568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3865680" y="4274640"/>
            <a:ext cx="568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371952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1464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flipV="1">
            <a:off x="367020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flipV="1">
            <a:off x="396396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flipV="1">
            <a:off x="3621240" y="4274640"/>
            <a:ext cx="586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flipV="1">
            <a:off x="401328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flipV="1">
            <a:off x="3571920" y="4274640"/>
            <a:ext cx="586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V="1">
            <a:off x="4060800" y="4274640"/>
            <a:ext cx="586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flipV="1">
            <a:off x="3524400" y="4274640"/>
            <a:ext cx="568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V="1">
            <a:off x="4110120" y="4274640"/>
            <a:ext cx="586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347508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V="1">
            <a:off x="415908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flipV="1">
            <a:off x="342576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flipV="1">
            <a:off x="420840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 flipV="1">
            <a:off x="2921040" y="4743360"/>
            <a:ext cx="44280" cy="44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V="1">
            <a:off x="337644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flipV="1">
            <a:off x="425772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V="1">
            <a:off x="4726080" y="3817800"/>
            <a:ext cx="44280" cy="460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flipV="1">
            <a:off x="2873520" y="4694040"/>
            <a:ext cx="91800" cy="9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V="1">
            <a:off x="332748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V="1">
            <a:off x="4307040" y="4274640"/>
            <a:ext cx="568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V="1">
            <a:off x="4726080" y="3819600"/>
            <a:ext cx="9216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V="1">
            <a:off x="2873520" y="4645080"/>
            <a:ext cx="9180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 flipV="1">
            <a:off x="3278160" y="4274640"/>
            <a:ext cx="586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flipV="1">
            <a:off x="4354560" y="4274640"/>
            <a:ext cx="586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V="1">
            <a:off x="4726080" y="3868560"/>
            <a:ext cx="9216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flipV="1">
            <a:off x="2873520" y="4595760"/>
            <a:ext cx="9180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323064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 flipV="1">
            <a:off x="4403880" y="4274640"/>
            <a:ext cx="586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 flipV="1">
            <a:off x="4726080" y="3917880"/>
            <a:ext cx="9216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 flipV="1">
            <a:off x="2873520" y="4546080"/>
            <a:ext cx="91800" cy="93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V="1">
            <a:off x="318132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flipV="1">
            <a:off x="445284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 flipV="1">
            <a:off x="4726080" y="3967200"/>
            <a:ext cx="9216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flipV="1">
            <a:off x="2873520" y="4497480"/>
            <a:ext cx="9180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flipV="1">
            <a:off x="313200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V="1">
            <a:off x="450216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V="1">
            <a:off x="4726080" y="4016160"/>
            <a:ext cx="92160" cy="9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V="1">
            <a:off x="2873520" y="4449600"/>
            <a:ext cx="9180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V="1">
            <a:off x="3083040" y="4274640"/>
            <a:ext cx="568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V="1">
            <a:off x="4551480" y="4274640"/>
            <a:ext cx="568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V="1">
            <a:off x="4726080" y="4064040"/>
            <a:ext cx="9216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flipV="1">
            <a:off x="2873520" y="4400640"/>
            <a:ext cx="9180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V="1">
            <a:off x="3035160" y="4274640"/>
            <a:ext cx="5580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flipV="1">
            <a:off x="460044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V="1">
            <a:off x="4726080" y="4113360"/>
            <a:ext cx="9216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flipV="1">
            <a:off x="2873520" y="4275000"/>
            <a:ext cx="169560" cy="168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V="1">
            <a:off x="4648320" y="4162320"/>
            <a:ext cx="169920" cy="169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flipV="1">
            <a:off x="2873520" y="4265280"/>
            <a:ext cx="128520" cy="128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flipV="1">
            <a:off x="4689360" y="4211280"/>
            <a:ext cx="128880" cy="128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2873520" y="4242960"/>
            <a:ext cx="102960" cy="1033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flipV="1">
            <a:off x="4714920" y="4258800"/>
            <a:ext cx="103320" cy="104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V="1">
            <a:off x="2873520" y="4203720"/>
            <a:ext cx="9180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V="1">
            <a:off x="4726080" y="4308480"/>
            <a:ext cx="9216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2873520" y="4155840"/>
            <a:ext cx="91800" cy="9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flipV="1">
            <a:off x="4726080" y="4357440"/>
            <a:ext cx="92160" cy="9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flipV="1">
            <a:off x="2873520" y="4106880"/>
            <a:ext cx="9180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flipV="1">
            <a:off x="4726080" y="4406760"/>
            <a:ext cx="9216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V="1">
            <a:off x="2873520" y="4057560"/>
            <a:ext cx="9180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flipV="1">
            <a:off x="4726080" y="4456080"/>
            <a:ext cx="9216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 flipV="1">
            <a:off x="2873520" y="4008600"/>
            <a:ext cx="9180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 flipV="1">
            <a:off x="4726080" y="4505400"/>
            <a:ext cx="9216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2873520" y="3960720"/>
            <a:ext cx="9180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4726080" y="4552920"/>
            <a:ext cx="9216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flipV="1">
            <a:off x="2873520" y="3911400"/>
            <a:ext cx="91800" cy="9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4726080" y="4602240"/>
            <a:ext cx="9216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2873520" y="3862440"/>
            <a:ext cx="9180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flipV="1">
            <a:off x="4726080" y="4651200"/>
            <a:ext cx="9216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flipV="1">
            <a:off x="2873520" y="3817440"/>
            <a:ext cx="87120" cy="87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 flipV="1">
            <a:off x="4730760" y="4700160"/>
            <a:ext cx="87480" cy="87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V="1">
            <a:off x="2873520" y="3817440"/>
            <a:ext cx="37800" cy="39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4780080" y="4749840"/>
            <a:ext cx="38160" cy="38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 flipV="1">
            <a:off x="3833640" y="4819680"/>
            <a:ext cx="24120" cy="252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 flipV="1">
            <a:off x="3833640" y="4770000"/>
            <a:ext cx="24120" cy="25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V="1">
            <a:off x="3833640" y="486900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3833640" y="472284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V="1">
            <a:off x="3833640" y="491796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V="1">
            <a:off x="3833640" y="467352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V="1">
            <a:off x="3833640" y="496728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 flipV="1">
            <a:off x="3833640" y="462456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 flipV="1">
            <a:off x="3833640" y="501660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flipV="1">
            <a:off x="3833640" y="457524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flipV="1">
            <a:off x="3833640" y="5063760"/>
            <a:ext cx="24120" cy="25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 flipV="1">
            <a:off x="3833640" y="4525560"/>
            <a:ext cx="24120" cy="25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 flipV="1">
            <a:off x="3833640" y="511344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 flipV="1">
            <a:off x="3833640" y="4476240"/>
            <a:ext cx="24120" cy="25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flipV="1">
            <a:off x="3833640" y="5162040"/>
            <a:ext cx="24120" cy="24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 flipV="1">
            <a:off x="3833640" y="442908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V="1">
            <a:off x="3833640" y="521172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 flipV="1">
            <a:off x="3833640" y="4400280"/>
            <a:ext cx="3240" cy="3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V="1">
            <a:off x="3854520" y="5258880"/>
            <a:ext cx="3240" cy="3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flipH="1" flipV="1">
            <a:off x="3857400" y="4541400"/>
            <a:ext cx="34920" cy="34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 flipH="1" flipV="1">
            <a:off x="3857400" y="4590720"/>
            <a:ext cx="34920" cy="34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 flipH="1" flipV="1">
            <a:off x="3857400" y="4493880"/>
            <a:ext cx="34920" cy="34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 flipH="1" flipV="1">
            <a:off x="3857400" y="4640040"/>
            <a:ext cx="34920" cy="34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 flipH="1" flipV="1">
            <a:off x="3857400" y="4444560"/>
            <a:ext cx="34920" cy="34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 flipH="1" flipV="1">
            <a:off x="3857400" y="4689000"/>
            <a:ext cx="34920" cy="34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 flipH="1" flipV="1">
            <a:off x="3857400" y="4395600"/>
            <a:ext cx="34920" cy="34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 flipH="1" flipV="1">
            <a:off x="3857400" y="4738320"/>
            <a:ext cx="34920" cy="33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flipH="1" flipV="1">
            <a:off x="3857400" y="4346280"/>
            <a:ext cx="34920" cy="34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flipH="1" flipV="1">
            <a:off x="3857760" y="4788000"/>
            <a:ext cx="14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 flipH="1" flipV="1">
            <a:off x="3892680" y="4331880"/>
            <a:ext cx="14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 flipH="1" flipV="1">
            <a:off x="4817880" y="4276440"/>
            <a:ext cx="52200" cy="522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H="1" flipV="1">
            <a:off x="4817880" y="4325760"/>
            <a:ext cx="52200" cy="52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flipH="1" flipV="1">
            <a:off x="4817880" y="4227480"/>
            <a:ext cx="52200" cy="52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flipH="1" flipV="1">
            <a:off x="4817880" y="4375080"/>
            <a:ext cx="52200" cy="52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flipH="1" flipV="1">
            <a:off x="4817880" y="4179600"/>
            <a:ext cx="52200" cy="50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 flipH="1" flipV="1">
            <a:off x="4817880" y="4424040"/>
            <a:ext cx="52200" cy="522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 flipH="1" flipV="1">
            <a:off x="4817880" y="4130640"/>
            <a:ext cx="52200" cy="52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 flipV="1">
            <a:off x="4817880" y="4473360"/>
            <a:ext cx="52200" cy="50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 flipH="1" flipV="1">
            <a:off x="4817880" y="4081320"/>
            <a:ext cx="52200" cy="52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 flipH="1" flipV="1">
            <a:off x="4817880" y="4520880"/>
            <a:ext cx="52200" cy="522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 flipH="1" flipV="1">
            <a:off x="4817880" y="4032000"/>
            <a:ext cx="52200" cy="522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 flipH="1" flipV="1">
            <a:off x="4817880" y="4570200"/>
            <a:ext cx="42840" cy="42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 flipH="1" flipV="1">
            <a:off x="4827240" y="3992400"/>
            <a:ext cx="42840" cy="432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 flipV="1">
            <a:off x="613872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 flipV="1">
            <a:off x="609120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618804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flipV="1">
            <a:off x="604188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623736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flipV="1">
            <a:off x="599292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 flipV="1">
            <a:off x="628668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 flipV="1">
            <a:off x="594360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flipV="1">
            <a:off x="6334200" y="4289040"/>
            <a:ext cx="302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flipV="1">
            <a:off x="589428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 flipV="1">
            <a:off x="6383160" y="4289040"/>
            <a:ext cx="302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 flipV="1">
            <a:off x="584532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flipV="1">
            <a:off x="643248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V="1">
            <a:off x="579744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 flipV="1">
            <a:off x="648180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 flipV="1">
            <a:off x="574848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flipV="1">
            <a:off x="653112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 flipV="1">
            <a:off x="569916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flipV="1">
            <a:off x="658008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 flipV="1">
            <a:off x="564984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flipV="1">
            <a:off x="662796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V="1">
            <a:off x="5600880" y="4289040"/>
            <a:ext cx="2988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V="1">
            <a:off x="667692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flipV="1">
            <a:off x="555156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flipV="1">
            <a:off x="672624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550404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flipV="1">
            <a:off x="677556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545472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682452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 flipV="1">
            <a:off x="540540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 flipV="1">
            <a:off x="687384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 flipV="1">
            <a:off x="535608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6923160" y="4289040"/>
            <a:ext cx="270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 flipV="1">
            <a:off x="5307120" y="4289040"/>
            <a:ext cx="2988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 flipV="1">
            <a:off x="697068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 flipV="1">
            <a:off x="5257800" y="4289040"/>
            <a:ext cx="302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 flipV="1">
            <a:off x="702000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 flipV="1">
            <a:off x="521028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 flipV="1">
            <a:off x="706896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flipV="1">
            <a:off x="516096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V="1">
            <a:off x="711828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 flipV="1">
            <a:off x="511164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flipV="1">
            <a:off x="7165800" y="4289040"/>
            <a:ext cx="302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 flipV="1">
            <a:off x="506268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V="1">
            <a:off x="721512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 flipV="1">
            <a:off x="5014800" y="4289040"/>
            <a:ext cx="270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 flipV="1">
            <a:off x="726444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 flipV="1">
            <a:off x="496584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 flipV="1">
            <a:off x="731376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 flipV="1">
            <a:off x="491652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 flipV="1">
            <a:off x="736272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flipV="1">
            <a:off x="4870440" y="4289040"/>
            <a:ext cx="25560" cy="25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 flipV="1">
            <a:off x="7412040" y="4290480"/>
            <a:ext cx="25560" cy="27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273400" y="4303800"/>
            <a:ext cx="27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625840" y="4303800"/>
            <a:ext cx="410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747880" y="4303800"/>
            <a:ext cx="2700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098880" y="4303800"/>
            <a:ext cx="410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220920" y="4303800"/>
            <a:ext cx="27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3573360" y="4303800"/>
            <a:ext cx="3996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3695760" y="4303800"/>
            <a:ext cx="2696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046400" y="4303800"/>
            <a:ext cx="414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4168800" y="4303800"/>
            <a:ext cx="27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4521240" y="4303800"/>
            <a:ext cx="396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4641840" y="4303800"/>
            <a:ext cx="27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4994280" y="4303800"/>
            <a:ext cx="414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5116680" y="4303800"/>
            <a:ext cx="2696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5468760" y="4303800"/>
            <a:ext cx="3996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589720" y="4303800"/>
            <a:ext cx="27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5942160" y="4303800"/>
            <a:ext cx="396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6064200" y="4303800"/>
            <a:ext cx="2700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6415200" y="4303800"/>
            <a:ext cx="410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6537240" y="4303800"/>
            <a:ext cx="2700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889680" y="4303800"/>
            <a:ext cx="396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7012080" y="4303800"/>
            <a:ext cx="2696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7362720" y="4303800"/>
            <a:ext cx="3996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7485120" y="4303800"/>
            <a:ext cx="2696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7837560" y="4303800"/>
            <a:ext cx="396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7958160" y="4303800"/>
            <a:ext cx="27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 flipH="1">
            <a:off x="8210160" y="4303800"/>
            <a:ext cx="3348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070520" y="4788000"/>
            <a:ext cx="1440" cy="4744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892680" y="4719600"/>
            <a:ext cx="68040" cy="68400"/>
          </a:xfrm>
          <a:custGeom>
            <a:avLst/>
            <a:gdLst/>
            <a:ahLst/>
            <a:rect l="l" t="t" r="r" b="b"/>
            <a:pathLst>
              <a:path w="128" h="129">
                <a:moveTo>
                  <a:pt x="0" y="0"/>
                </a:moveTo>
                <a:lnTo>
                  <a:pt x="10" y="50"/>
                </a:lnTo>
                <a:lnTo>
                  <a:pt x="38" y="92"/>
                </a:lnTo>
                <a:lnTo>
                  <a:pt x="80" y="120"/>
                </a:lnTo>
                <a:lnTo>
                  <a:pt x="128" y="129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H="1">
            <a:off x="3960360" y="4788000"/>
            <a:ext cx="1098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3892680" y="4332240"/>
            <a:ext cx="1440" cy="455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368440" y="4613400"/>
            <a:ext cx="2048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 flipH="1">
            <a:off x="2298600" y="4408560"/>
            <a:ext cx="69840" cy="1238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298600" y="4532400"/>
            <a:ext cx="14148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 flipH="1" flipV="1">
            <a:off x="2368080" y="4408560"/>
            <a:ext cx="71640" cy="1238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 flipV="1">
            <a:off x="2368440" y="4532040"/>
            <a:ext cx="1800" cy="81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 flipH="1">
            <a:off x="7565760" y="4613400"/>
            <a:ext cx="2048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7770960" y="4408560"/>
            <a:ext cx="69840" cy="1238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 flipH="1">
            <a:off x="7698960" y="4532400"/>
            <a:ext cx="14148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 flipV="1">
            <a:off x="7699320" y="4408560"/>
            <a:ext cx="71640" cy="1238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7770960" y="4532040"/>
            <a:ext cx="1440" cy="81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H="1">
            <a:off x="2965320" y="4613400"/>
            <a:ext cx="65592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 flipH="1">
            <a:off x="2964960" y="3992400"/>
            <a:ext cx="176076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4103640" y="4367160"/>
            <a:ext cx="42840" cy="50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4189320" y="4470480"/>
            <a:ext cx="42840" cy="52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4275000" y="4575240"/>
            <a:ext cx="33480" cy="381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3927600" y="4367160"/>
            <a:ext cx="6804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4062240" y="4367160"/>
            <a:ext cx="414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927600" y="4367160"/>
            <a:ext cx="1440" cy="666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3927600" y="4502160"/>
            <a:ext cx="1440" cy="666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 flipV="1">
            <a:off x="3927600" y="4559400"/>
            <a:ext cx="1440" cy="316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846600" y="3476520"/>
            <a:ext cx="1440" cy="270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3846600" y="3827520"/>
            <a:ext cx="1440" cy="410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3846600" y="3949560"/>
            <a:ext cx="1440" cy="270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3846600" y="4302000"/>
            <a:ext cx="1440" cy="399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3846600" y="4424400"/>
            <a:ext cx="1440" cy="270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3846600" y="4775040"/>
            <a:ext cx="1440" cy="414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3846600" y="4897440"/>
            <a:ext cx="1440" cy="270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3846600" y="5249880"/>
            <a:ext cx="1440" cy="396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3846600" y="5370480"/>
            <a:ext cx="1440" cy="27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846600" y="5722920"/>
            <a:ext cx="1440" cy="396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846600" y="5845320"/>
            <a:ext cx="1440" cy="23472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826160" y="5470560"/>
            <a:ext cx="83880" cy="55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 flipH="1" flipV="1">
            <a:off x="4900680" y="5484960"/>
            <a:ext cx="9360" cy="410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H="1" flipV="1">
            <a:off x="4826160" y="5470560"/>
            <a:ext cx="17280" cy="6192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 flipH="1" flipV="1">
            <a:off x="3927600" y="4591080"/>
            <a:ext cx="836640" cy="1008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 flipH="1" flipV="1">
            <a:off x="4308120" y="4613400"/>
            <a:ext cx="669960" cy="8078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3932280" y="4367160"/>
            <a:ext cx="44280" cy="50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4019400" y="4470480"/>
            <a:ext cx="42840" cy="52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106880" y="4575240"/>
            <a:ext cx="42840" cy="50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4192560" y="4678200"/>
            <a:ext cx="428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4278240" y="4782960"/>
            <a:ext cx="446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4365720" y="4886280"/>
            <a:ext cx="428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4452840" y="4991040"/>
            <a:ext cx="428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4538520" y="5094360"/>
            <a:ext cx="42840" cy="52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4626000" y="5199120"/>
            <a:ext cx="42840" cy="52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4711680" y="5302080"/>
            <a:ext cx="428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4797360" y="5407200"/>
            <a:ext cx="44640" cy="52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 flipH="1" flipV="1">
            <a:off x="4857480" y="5478120"/>
            <a:ext cx="20520" cy="25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3927600" y="4387680"/>
            <a:ext cx="428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4013280" y="4491000"/>
            <a:ext cx="4428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100400" y="4595760"/>
            <a:ext cx="428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186080" y="4700520"/>
            <a:ext cx="44640" cy="50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4273560" y="4803840"/>
            <a:ext cx="42840" cy="52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61040" y="4906800"/>
            <a:ext cx="42840" cy="54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446720" y="5011560"/>
            <a:ext cx="428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4532400" y="5116680"/>
            <a:ext cx="44280" cy="50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4619520" y="5219640"/>
            <a:ext cx="428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705200" y="5324400"/>
            <a:ext cx="446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4792680" y="5427720"/>
            <a:ext cx="42840" cy="52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flipV="1">
            <a:off x="4843080" y="5489640"/>
            <a:ext cx="20520" cy="25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 flipH="1" flipV="1">
            <a:off x="4797000" y="5421240"/>
            <a:ext cx="173160" cy="2080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 flipH="1" flipV="1">
            <a:off x="4719240" y="5327640"/>
            <a:ext cx="25560" cy="302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 flipH="1" flipV="1">
            <a:off x="4495320" y="5056200"/>
            <a:ext cx="173160" cy="2080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flipH="1" flipV="1">
            <a:off x="4416120" y="4962600"/>
            <a:ext cx="27000" cy="316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 flipH="1" flipV="1">
            <a:off x="4192200" y="4692600"/>
            <a:ext cx="173160" cy="2080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 flipH="1" flipV="1">
            <a:off x="4114440" y="4599000"/>
            <a:ext cx="25560" cy="302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 flipH="1" flipV="1">
            <a:off x="3889440" y="4327560"/>
            <a:ext cx="172800" cy="2080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 flipH="1" flipV="1">
            <a:off x="3811680" y="4233960"/>
            <a:ext cx="25200" cy="316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flipV="1">
            <a:off x="3587760" y="3965400"/>
            <a:ext cx="171360" cy="2066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>
            <a:off x="4900680" y="5354640"/>
            <a:ext cx="156960" cy="13032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>
            <a:off x="4694400" y="5532480"/>
            <a:ext cx="149040" cy="1252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3967200" y="4529160"/>
            <a:ext cx="31680" cy="31680"/>
          </a:xfrm>
          <a:custGeom>
            <a:avLst/>
            <a:gdLst/>
            <a:ahLst/>
            <a:rect l="l" t="t" r="r" b="b"/>
            <a:pathLst>
              <a:path w="60" h="60">
                <a:moveTo>
                  <a:pt x="29" y="60"/>
                </a:moveTo>
                <a:lnTo>
                  <a:pt x="60" y="38"/>
                </a:lnTo>
                <a:lnTo>
                  <a:pt x="45" y="0"/>
                </a:lnTo>
                <a:lnTo>
                  <a:pt x="6" y="5"/>
                </a:lnTo>
                <a:lnTo>
                  <a:pt x="0" y="44"/>
                </a:lnTo>
                <a:lnTo>
                  <a:pt x="29" y="60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4021200" y="4562640"/>
            <a:ext cx="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>
            <a:off x="3952440" y="4543560"/>
            <a:ext cx="6516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3983040" y="4514760"/>
            <a:ext cx="1440" cy="651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4156200" y="4529160"/>
            <a:ext cx="33120" cy="31680"/>
          </a:xfrm>
          <a:custGeom>
            <a:avLst/>
            <a:gdLst/>
            <a:ahLst/>
            <a:rect l="l" t="t" r="r" b="b"/>
            <a:pathLst>
              <a:path w="61" h="60">
                <a:moveTo>
                  <a:pt x="29" y="60"/>
                </a:moveTo>
                <a:lnTo>
                  <a:pt x="61" y="38"/>
                </a:lnTo>
                <a:lnTo>
                  <a:pt x="46" y="0"/>
                </a:lnTo>
                <a:lnTo>
                  <a:pt x="6" y="5"/>
                </a:lnTo>
                <a:lnTo>
                  <a:pt x="0" y="44"/>
                </a:lnTo>
                <a:lnTo>
                  <a:pt x="29" y="60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4210200" y="4562640"/>
            <a:ext cx="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>
            <a:off x="4142880" y="4543560"/>
            <a:ext cx="6516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4172040" y="4514760"/>
            <a:ext cx="1440" cy="651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4075200" y="4430880"/>
            <a:ext cx="31680" cy="31680"/>
          </a:xfrm>
          <a:custGeom>
            <a:avLst/>
            <a:gdLst/>
            <a:ahLst/>
            <a:rect l="l" t="t" r="r" b="b"/>
            <a:pathLst>
              <a:path w="59" h="60">
                <a:moveTo>
                  <a:pt x="28" y="60"/>
                </a:moveTo>
                <a:lnTo>
                  <a:pt x="59" y="36"/>
                </a:lnTo>
                <a:lnTo>
                  <a:pt x="44" y="0"/>
                </a:lnTo>
                <a:lnTo>
                  <a:pt x="6" y="4"/>
                </a:lnTo>
                <a:lnTo>
                  <a:pt x="0" y="43"/>
                </a:lnTo>
                <a:lnTo>
                  <a:pt x="28" y="60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4127400" y="4464000"/>
            <a:ext cx="18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H="1">
            <a:off x="4060440" y="4444920"/>
            <a:ext cx="6516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4089240" y="4416480"/>
            <a:ext cx="1800" cy="651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2109600" y="4389480"/>
            <a:ext cx="185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7962480" y="4449600"/>
            <a:ext cx="185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4708440" y="5119560"/>
            <a:ext cx="163440" cy="112680"/>
          </a:xfrm>
          <a:custGeom>
            <a:avLst/>
            <a:gdLst/>
            <a:ahLst/>
            <a:rect l="l" t="t" r="r" b="b"/>
            <a:pathLst>
              <a:path w="309" h="213">
                <a:moveTo>
                  <a:pt x="0" y="213"/>
                </a:moveTo>
                <a:lnTo>
                  <a:pt x="225" y="0"/>
                </a:lnTo>
                <a:lnTo>
                  <a:pt x="133" y="155"/>
                </a:lnTo>
                <a:lnTo>
                  <a:pt x="309" y="194"/>
                </a:lnTo>
                <a:lnTo>
                  <a:pt x="0" y="213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4708440" y="5006880"/>
            <a:ext cx="519120" cy="2253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5227560" y="5006880"/>
            <a:ext cx="18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5200200" y="4861080"/>
            <a:ext cx="178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Univers"/>
              </a:rPr>
              <a:t>Horizontal br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5648400" y="5748480"/>
            <a:ext cx="17852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 u="sng">
                <a:solidFill>
                  <a:srgbClr val="ffffff"/>
                </a:solidFill>
                <a:uFillTx/>
                <a:latin typeface="Univers"/>
              </a:rPr>
              <a:t>Section Q - Q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 flipV="1">
            <a:off x="7304040" y="4203360"/>
            <a:ext cx="241200" cy="334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 flipH="1" flipV="1">
            <a:off x="7303680" y="4237200"/>
            <a:ext cx="133560" cy="55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 flipH="1" flipV="1">
            <a:off x="7437240" y="4146120"/>
            <a:ext cx="107640" cy="572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7437600" y="4292640"/>
            <a:ext cx="1440" cy="4539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7437600" y="3825720"/>
            <a:ext cx="1440" cy="320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15" name="00007352" descr=""/>
          <p:cNvPicPr/>
          <p:nvPr/>
        </p:nvPicPr>
        <p:blipFill>
          <a:blip r:embed="rId1"/>
          <a:stretch/>
        </p:blipFill>
        <p:spPr>
          <a:xfrm>
            <a:off x="1060560" y="817560"/>
            <a:ext cx="7022880" cy="522288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17" name="00007353" descr=""/>
          <p:cNvPicPr/>
          <p:nvPr/>
        </p:nvPicPr>
        <p:blipFill>
          <a:blip r:embed="rId1"/>
          <a:stretch/>
        </p:blipFill>
        <p:spPr>
          <a:xfrm>
            <a:off x="1060560" y="907920"/>
            <a:ext cx="7022880" cy="504216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19" name="00007356" descr=""/>
          <p:cNvPicPr/>
          <p:nvPr/>
        </p:nvPicPr>
        <p:blipFill>
          <a:blip r:embed="rId1"/>
          <a:stretch/>
        </p:blipFill>
        <p:spPr>
          <a:xfrm>
            <a:off x="1870200" y="638280"/>
            <a:ext cx="5402160" cy="558144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21" name="DesignDataDetail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2" name=""/>
          <p:cNvSpPr/>
          <p:nvPr/>
        </p:nvSpPr>
        <p:spPr>
          <a:xfrm>
            <a:off x="228600" y="5486400"/>
            <a:ext cx="4572000" cy="10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esign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detailing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18:55:05Z</dcterms:created>
  <dc:creator>Andrew Crowley</dc:creator>
  <dc:description/>
  <dc:language>en-US</dc:language>
  <cp:lastModifiedBy>Andrew Crowley</cp:lastModifiedBy>
  <cp:lastPrinted>1999-02-12T12:33:41Z</cp:lastPrinted>
  <dcterms:modified xsi:type="dcterms:W3CDTF">2000-04-02T22:08:47Z</dcterms:modified>
  <cp:revision>2</cp:revision>
  <dc:subject/>
  <dc:title>CIS/2 Implementation Workshop III,  3-7 April 2000, Ascot</dc:title>
</cp:coreProperties>
</file>