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90A9D6D-8BFF-481B-89FC-D1A8AC7AD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E20F2EB-1D91-4945-93E3-8500C155A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A9A6F04-7033-4973-B419-4E5012FB0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44D2256-19ED-476E-9437-5CFA36E0D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3F5C73B-41F9-4D50-8A7B-61592F8D0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A16578C-E8CB-4B7C-8F31-51FBAC29B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0EED49E-E59C-4957-B394-EAEE3B836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58F5513-DA3E-4A03-8DCB-A5CD396C4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50C360E-AD1C-4BFD-9B6D-9D6B09290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1130FC5-065C-4A46-854F-01CB791C7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Picture 5" descr="C:\dcwfiles\Logo.GIF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6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138B-FE4A-4344-94F2-CB90965E46DD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ntroduction &amp; Agend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Object 5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6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e-requi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ttendees are expected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e familiar with the CIS/2 documenta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ring their own Laptop PC with CDROM driv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eferably with their potential CIS/2-conformant application installed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ring detailed documentation for their native data structur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e experienced software developer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ith a detailed understanding of the native data structures of their application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discuss what progress they have ma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 what difficulties they have encountered during their translator developmen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nt of the workshop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equip each of you with the knowledge necessary to implement CIS/2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enable you to effectively pursue and complete translator development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is workshop will have interactive environment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cluding discussions, question &amp; answer sessions, tutorials and workshop session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is translates to a great deal of hands-on experienc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articip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-383400">
              <a:spcBef>
                <a:spcPts val="799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Arial"/>
              </a:rPr>
              <a:t>The success of this workshop depends upon the participation of each attendee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ach day is packed with information and exercises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ry to endure thi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e as involved as possi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sk as many questions as you lik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3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Don't leave this workshop with questions unanswered!!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1 - Mon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3" name="Object 3" descr=""/>
          <p:cNvPicPr/>
          <p:nvPr/>
        </p:nvPicPr>
        <p:blipFill>
          <a:blip r:embed="rId1"/>
          <a:stretch/>
        </p:blipFill>
        <p:spPr>
          <a:xfrm>
            <a:off x="115920" y="762120"/>
            <a:ext cx="8875800" cy="54608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2 - Tues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5" name="Object 3" descr=""/>
          <p:cNvPicPr/>
          <p:nvPr/>
        </p:nvPicPr>
        <p:blipFill>
          <a:blip r:embed="rId1"/>
          <a:stretch/>
        </p:blipFill>
        <p:spPr>
          <a:xfrm>
            <a:off x="192240" y="762120"/>
            <a:ext cx="8875440" cy="54766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3 - Wednes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7" name="Object 3" descr=""/>
          <p:cNvPicPr/>
          <p:nvPr/>
        </p:nvPicPr>
        <p:blipFill>
          <a:blip r:embed="rId1"/>
          <a:stretch/>
        </p:blipFill>
        <p:spPr>
          <a:xfrm>
            <a:off x="115920" y="741240"/>
            <a:ext cx="8875800" cy="5507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4 - Thurs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9" name="Object 3" descr=""/>
          <p:cNvPicPr/>
          <p:nvPr/>
        </p:nvPicPr>
        <p:blipFill>
          <a:blip r:embed="rId1"/>
          <a:stretch/>
        </p:blipFill>
        <p:spPr>
          <a:xfrm>
            <a:off x="268200" y="1019160"/>
            <a:ext cx="8607600" cy="51530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5 - Fri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1" name="Object 2067" descr=""/>
          <p:cNvPicPr/>
          <p:nvPr/>
        </p:nvPicPr>
        <p:blipFill>
          <a:blip r:embed="rId1"/>
          <a:stretch/>
        </p:blipFill>
        <p:spPr>
          <a:xfrm>
            <a:off x="268200" y="846000"/>
            <a:ext cx="8607600" cy="5241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4:49:47Z</dcterms:created>
  <dc:creator>Andrew Crowley</dc:creator>
  <dc:description/>
  <dc:language>en-US</dc:language>
  <cp:lastModifiedBy>Robert Lipman</cp:lastModifiedBy>
  <cp:lastPrinted>1999-02-12T12:33:41Z</cp:lastPrinted>
  <dcterms:modified xsi:type="dcterms:W3CDTF">2012-02-17T21:43:23Z</dcterms:modified>
  <cp:revision>7</cp:revision>
  <dc:subject/>
  <dc:title>CIS/2 Implementation Workshop III,  3-7 April 2000, Ascot</dc:title>
</cp:coreProperties>
</file>