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3452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2936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968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3452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2936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9320" y="88920"/>
            <a:ext cx="883908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3452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2936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968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3452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2936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9320" y="88920"/>
            <a:ext cx="883908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282680" indent="-22860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1701720" indent="-22860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4" marL="2120760" indent="-22860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5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6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" name="Logo" descr=""/>
          <p:cNvPicPr/>
          <p:nvPr/>
        </p:nvPicPr>
        <p:blipFill>
          <a:blip r:embed="rId2"/>
          <a:stretch/>
        </p:blipFill>
        <p:spPr>
          <a:xfrm>
            <a:off x="76320" y="6218280"/>
            <a:ext cx="914400" cy="59832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478720" y="6242040"/>
            <a:ext cx="592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EB228-C733-4736-B350-4D60F665D75E}" type="slidenum">
              <a:rPr b="0" lang="en-GB" sz="2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5048280" y="6410160"/>
            <a:ext cx="1219320" cy="2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April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971640" y="6404040"/>
            <a:ext cx="289548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Steel Construction Instit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60560" y="6281640"/>
            <a:ext cx="7458120" cy="936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139680" algn="ctr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101520" algn="ctr">
              <a:spcBef>
                <a:spcPts val="451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63360" algn="ctr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 indent="63360"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 indent="63360"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86920" y="123840"/>
            <a:ext cx="6216840" cy="94608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3333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IS/2 Implementation Workshop III, </a:t>
            </a:r>
            <a:br>
              <a:rPr sz="2800"/>
            </a:b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3-7 April, Asco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403200" y="5000760"/>
          <a:ext cx="7238880" cy="165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200" y="5000760"/>
                    <a:ext cx="7238880" cy="165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" name=""/>
          <p:cNvSpPr/>
          <p:nvPr/>
        </p:nvSpPr>
        <p:spPr>
          <a:xfrm>
            <a:off x="6550200" y="291960"/>
            <a:ext cx="2338200" cy="657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2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0" y="1866960"/>
            <a:ext cx="9144000" cy="27050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3300"/>
            </a:outerShdw>
          </a:effectLst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Session 1.6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ISO 10303-11: 1994</a:t>
            </a:r>
            <a:br>
              <a:rPr sz="4400"/>
            </a:b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An Introduction to the EXPRESS Data Definition Language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03120" y="4762440"/>
            <a:ext cx="8562960" cy="1080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3120" y="1162080"/>
            <a:ext cx="8562960" cy="10800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562200" y="4910040"/>
            <a:ext cx="3429000" cy="609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Univers"/>
              </a:rPr>
              <a:t>Dr A.J. Crowl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he Main Features of EXPRES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he containing structure - SCHEMA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he definition of objects - ENTITIE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he attributes of the objects - TYPE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onstraints on the object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INVERS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DERIV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UNIQU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FUNCTIONs,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Global RULEs,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XPRESS Data Typ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-38088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In EXPRESS every value (attribute, local variable or formal parameter) has an associated data type. 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0880" indent="-38088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ypes can be classified as either: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90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) SIMPLE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90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2) NAMED,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a) ENTITY TYPE, o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b) DEFINED TYP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90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3) AGGREGATION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90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4) CONSTRU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a) ENUMERATION, or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b) SELEC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1. 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imple Data Typ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-38088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imple data types are the basic types provided by the EXPRESS language. 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9196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NUMBER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9196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REAL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9196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NTEGER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9196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TRING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9196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BOOLEAN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9196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LOGICAL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9196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BINARY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2a. 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NTITY Data Typ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66400" y="1257480"/>
            <a:ext cx="8496360" cy="45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-38088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n ENTITY data type used to establish a relationship.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2826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TITY group_relationship;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name : label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description : tex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relating_group : group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related_group : group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TITY group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group_name : label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group_description : tex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662360" y="2682720"/>
            <a:ext cx="4042080" cy="28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afd00"/>
                </a:solidFill>
                <a:latin typeface="Arial"/>
              </a:rPr>
              <a:t>The </a:t>
            </a: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group_relationship</a:t>
            </a:r>
            <a:r>
              <a:rPr b="1" i="1" lang="en-GB" sz="1800" spc="-1" strike="noStrike">
                <a:solidFill>
                  <a:srgbClr val="fafd00"/>
                </a:solidFill>
                <a:latin typeface="Arial"/>
              </a:rPr>
              <a:t> entity has two attributes named having the data type </a:t>
            </a: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group</a:t>
            </a:r>
            <a:r>
              <a:rPr b="1" i="1" lang="en-GB" sz="1800" spc="-1" strike="noStrike">
                <a:solidFill>
                  <a:srgbClr val="fafd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afd00"/>
                </a:solidFill>
                <a:latin typeface="Arial"/>
              </a:rPr>
              <a:t>This effectively relates the group_relationship with two groups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afd00"/>
                </a:solidFill>
                <a:latin typeface="Arial"/>
              </a:rPr>
              <a:t>and hence relates two groups to each othe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2b. DEFINED Data Typ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305920" cy="5143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-38088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xample of a DEFINED data type declared by a TYPE assigned by the modeller.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2826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TYPE identifier = STRING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D_TYP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TYPE label = STRING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D_TYPE;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TYPE text = STRING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D_TYP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954000" y="5408640"/>
            <a:ext cx="704556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1" marL="45720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afd00"/>
                </a:solidFill>
                <a:latin typeface="Arial"/>
              </a:rPr>
              <a:t>The attributes named </a:t>
            </a: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id, name</a:t>
            </a:r>
            <a:r>
              <a:rPr b="1" i="1" lang="en-GB" sz="1800" spc="-1" strike="noStrike">
                <a:solidFill>
                  <a:srgbClr val="fafd00"/>
                </a:solidFill>
                <a:latin typeface="Arial"/>
              </a:rPr>
              <a:t>, and </a:t>
            </a: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description</a:t>
            </a:r>
            <a:r>
              <a:rPr b="1" i="1" lang="en-GB" sz="1800" spc="-1" strike="noStrike">
                <a:solidFill>
                  <a:srgbClr val="fafd00"/>
                </a:solidFill>
                <a:latin typeface="Arial"/>
              </a:rPr>
              <a:t> are all STRINGs.  However, the use of the defined data types help to clarify the meaning and context of the STRING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555360" y="2400480"/>
            <a:ext cx="5685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TITY organization 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id : OPTIONAL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identifier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name :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label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description :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text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UNIQ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UR1 : id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D_ENTIT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98000" y="156960"/>
            <a:ext cx="8602920" cy="55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3. 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Aggregation Data Typ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66760" y="1238040"/>
            <a:ext cx="832464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-38088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ggregation types are used to represent ordered or unordered collections of elements of some basic type. 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1620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620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TITY assembly_design_structural_connection_interna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620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UBTYPE OF (assembly_design_structural_connection)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620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connected_members : SET [2:?] OF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620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assembly_design_structural_member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620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9716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GGREGATION data types may be either: ARRAY, BAG, LIST, or SET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65240" y="82080"/>
            <a:ext cx="8286480" cy="895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4a. 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numeration Data Typ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79280" y="898560"/>
            <a:ext cx="8523360" cy="48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-38088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n enumeration data type is an ordered set of values represented by names. 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57160" indent="-2854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he values of the enumeration type are designated by enumeration_ids and are referred to as enumeration items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57160" indent="-2854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ach enumeration item belongs only to the data type which defines it and must be unique within that type definition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3334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3334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TYPE action_source_accidentia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3334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= ENUMERATION OF (fire, impulse, impact, undefined)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3334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D_TYP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66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4b. 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elect Data Typ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66760" y="1219320"/>
            <a:ext cx="847728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-3808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 select data type defines a named collection of other types. 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952560" indent="-3808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his collection is called the select list.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52560" indent="-3808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n instance of a select data type is an instance of one of the types specified in the type list.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428840" indent="-28584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This allows an attribute or variable to be one of several types. 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52560" indent="-3808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f the type of an attribute is a select type, then it is defined to be one of the types in the select list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428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428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TYPE assembly_component_select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428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= SELECT (assembly_manufacturing_child, located_part, located_feature, located_joint_system)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428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D_TYPE; 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39320" y="88560"/>
            <a:ext cx="8839080" cy="45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Domain Rul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28600" y="1162080"/>
            <a:ext cx="847728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-3808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Domain rules specify constraints that restrict a defined data type. 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952560" indent="-3808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Domain rules follow the WHERE keyword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428840" indent="-28584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Each domain rule evaluates to a logical (TRUE, FALSE, UNKNOWN) value. 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428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428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TYPE length_measure = REAL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428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D_TYPE; -- STEP Part 41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428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428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TYPE positive_length_measur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428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= length_measur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428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428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WR41T1 : SELF &gt; 0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428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D_TYPE; -- STEP Part 41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054760" y="4549680"/>
            <a:ext cx="4012920" cy="15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1" marL="45720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afd00"/>
                </a:solidFill>
                <a:latin typeface="Arial"/>
              </a:rPr>
              <a:t>Any attribute, local variable or formal parameter declared to be of type </a:t>
            </a: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positive_length_measure</a:t>
            </a:r>
            <a:r>
              <a:rPr b="1" i="1" lang="en-GB" sz="1800" spc="-1" strike="noStrike">
                <a:solidFill>
                  <a:srgbClr val="fafd00"/>
                </a:solidFill>
                <a:latin typeface="Arial"/>
              </a:rPr>
              <a:t> is constrained to have only positive valu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85840" y="304560"/>
            <a:ext cx="8534160" cy="54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upertypes &amp; Subtyp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47320" y="1217520"/>
            <a:ext cx="8458200" cy="4727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61800" indent="-36180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he subtype/supertype structure is the mechanism for specifying classification (or categorization) of object types 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144756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TITY assembly </a:t>
            </a:r>
            <a:br>
              <a:rPr sz="1800"/>
            </a:b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ABSTRACT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UPERTYPE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OF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44756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(ONEOF (assembly_design, assembly_manufacturing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44756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ANDOR assembly_with_shape)</a:t>
            </a:r>
            <a:br>
              <a:rPr sz="1800"/>
            </a:b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UBTYPE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OF (structural_frame_product);</a:t>
            </a:r>
            <a:br>
              <a:rPr sz="1800"/>
            </a:b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assembly_sequence_number : OPTIONAL INTEGER;</a:t>
            </a:r>
            <a:br>
              <a:rPr sz="1800"/>
            </a:b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complexity : OPTIONAL complexity_level;</a:t>
            </a:r>
            <a:br>
              <a:rPr sz="1800"/>
            </a:b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D_ENT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1800" indent="-36180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00"/>
                </a:solidFill>
                <a:latin typeface="Arial"/>
              </a:rPr>
              <a:t>A subtype </a:t>
            </a: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inherits</a:t>
            </a:r>
            <a:r>
              <a:rPr b="1" i="1" lang="en-GB" sz="2400" spc="-1" strike="noStrike">
                <a:solidFill>
                  <a:srgbClr val="ffff00"/>
                </a:solidFill>
                <a:latin typeface="Arial"/>
              </a:rPr>
              <a:t> all the attributes of its supertype(s)</a:t>
            </a:r>
            <a:r>
              <a:rPr b="1" i="1" lang="en-GB" sz="2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23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1" i="1" lang="en-GB" sz="2000" spc="-1" strike="noStrike">
                <a:solidFill>
                  <a:srgbClr val="ffffff"/>
                </a:solidFill>
                <a:latin typeface="Arial"/>
              </a:rPr>
              <a:t>and the attributes of the supertypes’ supertypes, etc..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479760" y="3395520"/>
            <a:ext cx="2338560" cy="657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2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3090960" y="2085840"/>
            <a:ext cx="3054240" cy="3346560"/>
            <a:chOff x="3090960" y="2085840"/>
            <a:chExt cx="3054240" cy="3346560"/>
          </a:xfrm>
        </p:grpSpPr>
        <p:sp>
          <p:nvSpPr>
            <p:cNvPr id="91" name=""/>
            <p:cNvSpPr/>
            <p:nvPr/>
          </p:nvSpPr>
          <p:spPr>
            <a:xfrm>
              <a:off x="3090960" y="2085840"/>
              <a:ext cx="3054240" cy="3346560"/>
            </a:xfrm>
            <a:custGeom>
              <a:avLst/>
              <a:gdLst/>
              <a:ahLst/>
              <a:rect l="l" t="t" r="r" b="b"/>
              <a:pathLst>
                <a:path w="1924" h="2108">
                  <a:moveTo>
                    <a:pt x="733" y="440"/>
                  </a:moveTo>
                  <a:lnTo>
                    <a:pt x="752" y="417"/>
                  </a:lnTo>
                  <a:lnTo>
                    <a:pt x="766" y="394"/>
                  </a:lnTo>
                  <a:lnTo>
                    <a:pt x="773" y="369"/>
                  </a:lnTo>
                  <a:lnTo>
                    <a:pt x="773" y="336"/>
                  </a:lnTo>
                  <a:lnTo>
                    <a:pt x="764" y="298"/>
                  </a:lnTo>
                  <a:lnTo>
                    <a:pt x="757" y="267"/>
                  </a:lnTo>
                  <a:lnTo>
                    <a:pt x="746" y="228"/>
                  </a:lnTo>
                  <a:lnTo>
                    <a:pt x="742" y="186"/>
                  </a:lnTo>
                  <a:lnTo>
                    <a:pt x="746" y="160"/>
                  </a:lnTo>
                  <a:lnTo>
                    <a:pt x="754" y="129"/>
                  </a:lnTo>
                  <a:lnTo>
                    <a:pt x="769" y="96"/>
                  </a:lnTo>
                  <a:lnTo>
                    <a:pt x="789" y="64"/>
                  </a:lnTo>
                  <a:lnTo>
                    <a:pt x="816" y="39"/>
                  </a:lnTo>
                  <a:lnTo>
                    <a:pt x="840" y="20"/>
                  </a:lnTo>
                  <a:lnTo>
                    <a:pt x="873" y="8"/>
                  </a:lnTo>
                  <a:lnTo>
                    <a:pt x="912" y="2"/>
                  </a:lnTo>
                  <a:lnTo>
                    <a:pt x="954" y="0"/>
                  </a:lnTo>
                  <a:lnTo>
                    <a:pt x="1011" y="0"/>
                  </a:lnTo>
                  <a:lnTo>
                    <a:pt x="1056" y="5"/>
                  </a:lnTo>
                  <a:lnTo>
                    <a:pt x="1082" y="14"/>
                  </a:lnTo>
                  <a:lnTo>
                    <a:pt x="1101" y="26"/>
                  </a:lnTo>
                  <a:lnTo>
                    <a:pt x="1122" y="39"/>
                  </a:lnTo>
                  <a:lnTo>
                    <a:pt x="1143" y="60"/>
                  </a:lnTo>
                  <a:lnTo>
                    <a:pt x="1163" y="87"/>
                  </a:lnTo>
                  <a:lnTo>
                    <a:pt x="1177" y="111"/>
                  </a:lnTo>
                  <a:lnTo>
                    <a:pt x="1185" y="132"/>
                  </a:lnTo>
                  <a:lnTo>
                    <a:pt x="1191" y="168"/>
                  </a:lnTo>
                  <a:lnTo>
                    <a:pt x="1191" y="199"/>
                  </a:lnTo>
                  <a:lnTo>
                    <a:pt x="1186" y="231"/>
                  </a:lnTo>
                  <a:lnTo>
                    <a:pt x="1180" y="255"/>
                  </a:lnTo>
                  <a:lnTo>
                    <a:pt x="1173" y="294"/>
                  </a:lnTo>
                  <a:lnTo>
                    <a:pt x="1163" y="334"/>
                  </a:lnTo>
                  <a:lnTo>
                    <a:pt x="1158" y="360"/>
                  </a:lnTo>
                  <a:lnTo>
                    <a:pt x="1166" y="385"/>
                  </a:lnTo>
                  <a:lnTo>
                    <a:pt x="1174" y="403"/>
                  </a:lnTo>
                  <a:lnTo>
                    <a:pt x="1191" y="427"/>
                  </a:lnTo>
                  <a:lnTo>
                    <a:pt x="1215" y="446"/>
                  </a:lnTo>
                  <a:lnTo>
                    <a:pt x="1237" y="463"/>
                  </a:lnTo>
                  <a:lnTo>
                    <a:pt x="1270" y="476"/>
                  </a:lnTo>
                  <a:lnTo>
                    <a:pt x="1303" y="485"/>
                  </a:lnTo>
                  <a:lnTo>
                    <a:pt x="1335" y="493"/>
                  </a:lnTo>
                  <a:lnTo>
                    <a:pt x="1368" y="497"/>
                  </a:lnTo>
                  <a:lnTo>
                    <a:pt x="1402" y="506"/>
                  </a:lnTo>
                  <a:lnTo>
                    <a:pt x="1429" y="515"/>
                  </a:lnTo>
                  <a:lnTo>
                    <a:pt x="1450" y="526"/>
                  </a:lnTo>
                  <a:lnTo>
                    <a:pt x="1467" y="538"/>
                  </a:lnTo>
                  <a:lnTo>
                    <a:pt x="1479" y="551"/>
                  </a:lnTo>
                  <a:lnTo>
                    <a:pt x="1488" y="568"/>
                  </a:lnTo>
                  <a:lnTo>
                    <a:pt x="1495" y="587"/>
                  </a:lnTo>
                  <a:lnTo>
                    <a:pt x="1498" y="605"/>
                  </a:lnTo>
                  <a:lnTo>
                    <a:pt x="1501" y="622"/>
                  </a:lnTo>
                  <a:lnTo>
                    <a:pt x="1501" y="644"/>
                  </a:lnTo>
                  <a:lnTo>
                    <a:pt x="1498" y="670"/>
                  </a:lnTo>
                  <a:lnTo>
                    <a:pt x="1498" y="689"/>
                  </a:lnTo>
                  <a:lnTo>
                    <a:pt x="1503" y="713"/>
                  </a:lnTo>
                  <a:lnTo>
                    <a:pt x="1513" y="734"/>
                  </a:lnTo>
                  <a:lnTo>
                    <a:pt x="1525" y="752"/>
                  </a:lnTo>
                  <a:lnTo>
                    <a:pt x="1540" y="766"/>
                  </a:lnTo>
                  <a:lnTo>
                    <a:pt x="1559" y="781"/>
                  </a:lnTo>
                  <a:lnTo>
                    <a:pt x="1579" y="790"/>
                  </a:lnTo>
                  <a:lnTo>
                    <a:pt x="1609" y="796"/>
                  </a:lnTo>
                  <a:lnTo>
                    <a:pt x="1634" y="799"/>
                  </a:lnTo>
                  <a:lnTo>
                    <a:pt x="1658" y="800"/>
                  </a:lnTo>
                  <a:lnTo>
                    <a:pt x="1685" y="799"/>
                  </a:lnTo>
                  <a:lnTo>
                    <a:pt x="1718" y="796"/>
                  </a:lnTo>
                  <a:lnTo>
                    <a:pt x="1744" y="794"/>
                  </a:lnTo>
                  <a:lnTo>
                    <a:pt x="1769" y="791"/>
                  </a:lnTo>
                  <a:lnTo>
                    <a:pt x="1793" y="790"/>
                  </a:lnTo>
                  <a:lnTo>
                    <a:pt x="1822" y="791"/>
                  </a:lnTo>
                  <a:lnTo>
                    <a:pt x="1837" y="794"/>
                  </a:lnTo>
                  <a:lnTo>
                    <a:pt x="1855" y="799"/>
                  </a:lnTo>
                  <a:lnTo>
                    <a:pt x="1871" y="808"/>
                  </a:lnTo>
                  <a:lnTo>
                    <a:pt x="1889" y="821"/>
                  </a:lnTo>
                  <a:lnTo>
                    <a:pt x="1903" y="836"/>
                  </a:lnTo>
                  <a:lnTo>
                    <a:pt x="1913" y="858"/>
                  </a:lnTo>
                  <a:lnTo>
                    <a:pt x="1918" y="878"/>
                  </a:lnTo>
                  <a:lnTo>
                    <a:pt x="1921" y="902"/>
                  </a:lnTo>
                  <a:lnTo>
                    <a:pt x="1924" y="945"/>
                  </a:lnTo>
                  <a:lnTo>
                    <a:pt x="1922" y="996"/>
                  </a:lnTo>
                  <a:lnTo>
                    <a:pt x="1924" y="1050"/>
                  </a:lnTo>
                  <a:lnTo>
                    <a:pt x="1919" y="1113"/>
                  </a:lnTo>
                  <a:lnTo>
                    <a:pt x="1915" y="1157"/>
                  </a:lnTo>
                  <a:lnTo>
                    <a:pt x="1910" y="1191"/>
                  </a:lnTo>
                  <a:lnTo>
                    <a:pt x="1903" y="1211"/>
                  </a:lnTo>
                  <a:lnTo>
                    <a:pt x="1891" y="1229"/>
                  </a:lnTo>
                  <a:lnTo>
                    <a:pt x="1877" y="1240"/>
                  </a:lnTo>
                  <a:lnTo>
                    <a:pt x="1859" y="1251"/>
                  </a:lnTo>
                  <a:lnTo>
                    <a:pt x="1838" y="1257"/>
                  </a:lnTo>
                  <a:lnTo>
                    <a:pt x="1820" y="1261"/>
                  </a:lnTo>
                  <a:lnTo>
                    <a:pt x="1783" y="1263"/>
                  </a:lnTo>
                  <a:lnTo>
                    <a:pt x="1750" y="1261"/>
                  </a:lnTo>
                  <a:lnTo>
                    <a:pt x="1723" y="1257"/>
                  </a:lnTo>
                  <a:lnTo>
                    <a:pt x="1699" y="1255"/>
                  </a:lnTo>
                  <a:lnTo>
                    <a:pt x="1672" y="1254"/>
                  </a:lnTo>
                  <a:lnTo>
                    <a:pt x="1648" y="1254"/>
                  </a:lnTo>
                  <a:lnTo>
                    <a:pt x="1627" y="1255"/>
                  </a:lnTo>
                  <a:lnTo>
                    <a:pt x="1604" y="1257"/>
                  </a:lnTo>
                  <a:lnTo>
                    <a:pt x="1577" y="1264"/>
                  </a:lnTo>
                  <a:lnTo>
                    <a:pt x="1562" y="1270"/>
                  </a:lnTo>
                  <a:lnTo>
                    <a:pt x="1549" y="1276"/>
                  </a:lnTo>
                  <a:lnTo>
                    <a:pt x="1531" y="1288"/>
                  </a:lnTo>
                  <a:lnTo>
                    <a:pt x="1519" y="1303"/>
                  </a:lnTo>
                  <a:lnTo>
                    <a:pt x="1510" y="1317"/>
                  </a:lnTo>
                  <a:lnTo>
                    <a:pt x="1501" y="1333"/>
                  </a:lnTo>
                  <a:lnTo>
                    <a:pt x="1497" y="1350"/>
                  </a:lnTo>
                  <a:lnTo>
                    <a:pt x="1495" y="1368"/>
                  </a:lnTo>
                  <a:lnTo>
                    <a:pt x="1497" y="1387"/>
                  </a:lnTo>
                  <a:lnTo>
                    <a:pt x="1497" y="1420"/>
                  </a:lnTo>
                  <a:lnTo>
                    <a:pt x="1495" y="1455"/>
                  </a:lnTo>
                  <a:lnTo>
                    <a:pt x="1486" y="1480"/>
                  </a:lnTo>
                  <a:lnTo>
                    <a:pt x="1477" y="1501"/>
                  </a:lnTo>
                  <a:lnTo>
                    <a:pt x="1464" y="1516"/>
                  </a:lnTo>
                  <a:lnTo>
                    <a:pt x="1444" y="1528"/>
                  </a:lnTo>
                  <a:lnTo>
                    <a:pt x="1425" y="1539"/>
                  </a:lnTo>
                  <a:lnTo>
                    <a:pt x="1402" y="1545"/>
                  </a:lnTo>
                  <a:lnTo>
                    <a:pt x="1374" y="1551"/>
                  </a:lnTo>
                  <a:lnTo>
                    <a:pt x="1350" y="1558"/>
                  </a:lnTo>
                  <a:lnTo>
                    <a:pt x="1321" y="1563"/>
                  </a:lnTo>
                  <a:lnTo>
                    <a:pt x="1297" y="1567"/>
                  </a:lnTo>
                  <a:lnTo>
                    <a:pt x="1270" y="1573"/>
                  </a:lnTo>
                  <a:lnTo>
                    <a:pt x="1249" y="1584"/>
                  </a:lnTo>
                  <a:lnTo>
                    <a:pt x="1225" y="1594"/>
                  </a:lnTo>
                  <a:lnTo>
                    <a:pt x="1203" y="1608"/>
                  </a:lnTo>
                  <a:lnTo>
                    <a:pt x="1186" y="1626"/>
                  </a:lnTo>
                  <a:lnTo>
                    <a:pt x="1171" y="1646"/>
                  </a:lnTo>
                  <a:lnTo>
                    <a:pt x="1160" y="1672"/>
                  </a:lnTo>
                  <a:lnTo>
                    <a:pt x="1157" y="1694"/>
                  </a:lnTo>
                  <a:lnTo>
                    <a:pt x="1158" y="1720"/>
                  </a:lnTo>
                  <a:lnTo>
                    <a:pt x="1163" y="1744"/>
                  </a:lnTo>
                  <a:lnTo>
                    <a:pt x="1170" y="1769"/>
                  </a:lnTo>
                  <a:lnTo>
                    <a:pt x="1176" y="1798"/>
                  </a:lnTo>
                  <a:lnTo>
                    <a:pt x="1180" y="1823"/>
                  </a:lnTo>
                  <a:lnTo>
                    <a:pt x="1186" y="1856"/>
                  </a:lnTo>
                  <a:lnTo>
                    <a:pt x="1186" y="1889"/>
                  </a:lnTo>
                  <a:lnTo>
                    <a:pt x="1179" y="1922"/>
                  </a:lnTo>
                  <a:lnTo>
                    <a:pt x="1171" y="1948"/>
                  </a:lnTo>
                  <a:lnTo>
                    <a:pt x="1163" y="1973"/>
                  </a:lnTo>
                  <a:lnTo>
                    <a:pt x="1151" y="1997"/>
                  </a:lnTo>
                  <a:lnTo>
                    <a:pt x="1134" y="2027"/>
                  </a:lnTo>
                  <a:lnTo>
                    <a:pt x="1116" y="2046"/>
                  </a:lnTo>
                  <a:lnTo>
                    <a:pt x="1101" y="2060"/>
                  </a:lnTo>
                  <a:lnTo>
                    <a:pt x="1082" y="2076"/>
                  </a:lnTo>
                  <a:lnTo>
                    <a:pt x="1061" y="2091"/>
                  </a:lnTo>
                  <a:lnTo>
                    <a:pt x="1041" y="2099"/>
                  </a:lnTo>
                  <a:lnTo>
                    <a:pt x="1023" y="2103"/>
                  </a:lnTo>
                  <a:lnTo>
                    <a:pt x="993" y="2106"/>
                  </a:lnTo>
                  <a:lnTo>
                    <a:pt x="959" y="2108"/>
                  </a:lnTo>
                  <a:lnTo>
                    <a:pt x="917" y="2106"/>
                  </a:lnTo>
                  <a:lnTo>
                    <a:pt x="897" y="2106"/>
                  </a:lnTo>
                  <a:lnTo>
                    <a:pt x="872" y="2102"/>
                  </a:lnTo>
                  <a:lnTo>
                    <a:pt x="845" y="2094"/>
                  </a:lnTo>
                  <a:lnTo>
                    <a:pt x="821" y="2081"/>
                  </a:lnTo>
                  <a:lnTo>
                    <a:pt x="806" y="2069"/>
                  </a:lnTo>
                  <a:lnTo>
                    <a:pt x="789" y="2052"/>
                  </a:lnTo>
                  <a:lnTo>
                    <a:pt x="776" y="2037"/>
                  </a:lnTo>
                  <a:lnTo>
                    <a:pt x="763" y="2018"/>
                  </a:lnTo>
                  <a:lnTo>
                    <a:pt x="752" y="1999"/>
                  </a:lnTo>
                  <a:lnTo>
                    <a:pt x="743" y="1975"/>
                  </a:lnTo>
                  <a:lnTo>
                    <a:pt x="739" y="1949"/>
                  </a:lnTo>
                  <a:lnTo>
                    <a:pt x="737" y="1930"/>
                  </a:lnTo>
                  <a:lnTo>
                    <a:pt x="737" y="1903"/>
                  </a:lnTo>
                  <a:lnTo>
                    <a:pt x="739" y="1880"/>
                  </a:lnTo>
                  <a:lnTo>
                    <a:pt x="746" y="1856"/>
                  </a:lnTo>
                  <a:lnTo>
                    <a:pt x="752" y="1828"/>
                  </a:lnTo>
                  <a:lnTo>
                    <a:pt x="760" y="1801"/>
                  </a:lnTo>
                  <a:lnTo>
                    <a:pt x="764" y="1777"/>
                  </a:lnTo>
                  <a:lnTo>
                    <a:pt x="766" y="1754"/>
                  </a:lnTo>
                  <a:lnTo>
                    <a:pt x="764" y="1736"/>
                  </a:lnTo>
                  <a:lnTo>
                    <a:pt x="760" y="1718"/>
                  </a:lnTo>
                  <a:lnTo>
                    <a:pt x="748" y="1696"/>
                  </a:lnTo>
                  <a:lnTo>
                    <a:pt x="736" y="1681"/>
                  </a:lnTo>
                  <a:lnTo>
                    <a:pt x="721" y="1664"/>
                  </a:lnTo>
                  <a:lnTo>
                    <a:pt x="704" y="1652"/>
                  </a:lnTo>
                  <a:lnTo>
                    <a:pt x="688" y="1640"/>
                  </a:lnTo>
                  <a:lnTo>
                    <a:pt x="664" y="1632"/>
                  </a:lnTo>
                  <a:lnTo>
                    <a:pt x="643" y="1626"/>
                  </a:lnTo>
                  <a:lnTo>
                    <a:pt x="616" y="1620"/>
                  </a:lnTo>
                  <a:lnTo>
                    <a:pt x="592" y="1617"/>
                  </a:lnTo>
                  <a:lnTo>
                    <a:pt x="569" y="1611"/>
                  </a:lnTo>
                  <a:lnTo>
                    <a:pt x="542" y="1605"/>
                  </a:lnTo>
                  <a:lnTo>
                    <a:pt x="520" y="1596"/>
                  </a:lnTo>
                  <a:lnTo>
                    <a:pt x="493" y="1588"/>
                  </a:lnTo>
                  <a:lnTo>
                    <a:pt x="472" y="1579"/>
                  </a:lnTo>
                  <a:lnTo>
                    <a:pt x="455" y="1566"/>
                  </a:lnTo>
                  <a:lnTo>
                    <a:pt x="442" y="1548"/>
                  </a:lnTo>
                  <a:lnTo>
                    <a:pt x="433" y="1525"/>
                  </a:lnTo>
                  <a:lnTo>
                    <a:pt x="425" y="1495"/>
                  </a:lnTo>
                  <a:lnTo>
                    <a:pt x="424" y="1471"/>
                  </a:lnTo>
                  <a:lnTo>
                    <a:pt x="425" y="1444"/>
                  </a:lnTo>
                  <a:lnTo>
                    <a:pt x="428" y="1423"/>
                  </a:lnTo>
                  <a:lnTo>
                    <a:pt x="425" y="1398"/>
                  </a:lnTo>
                  <a:lnTo>
                    <a:pt x="418" y="1378"/>
                  </a:lnTo>
                  <a:lnTo>
                    <a:pt x="404" y="1357"/>
                  </a:lnTo>
                  <a:lnTo>
                    <a:pt x="391" y="1344"/>
                  </a:lnTo>
                  <a:lnTo>
                    <a:pt x="375" y="1330"/>
                  </a:lnTo>
                  <a:lnTo>
                    <a:pt x="352" y="1321"/>
                  </a:lnTo>
                  <a:lnTo>
                    <a:pt x="327" y="1312"/>
                  </a:lnTo>
                  <a:lnTo>
                    <a:pt x="300" y="1309"/>
                  </a:lnTo>
                  <a:lnTo>
                    <a:pt x="277" y="1306"/>
                  </a:lnTo>
                  <a:lnTo>
                    <a:pt x="252" y="1306"/>
                  </a:lnTo>
                  <a:lnTo>
                    <a:pt x="229" y="1309"/>
                  </a:lnTo>
                  <a:lnTo>
                    <a:pt x="207" y="1311"/>
                  </a:lnTo>
                  <a:lnTo>
                    <a:pt x="184" y="1314"/>
                  </a:lnTo>
                  <a:lnTo>
                    <a:pt x="162" y="1317"/>
                  </a:lnTo>
                  <a:lnTo>
                    <a:pt x="124" y="1317"/>
                  </a:lnTo>
                  <a:lnTo>
                    <a:pt x="100" y="1315"/>
                  </a:lnTo>
                  <a:lnTo>
                    <a:pt x="75" y="1309"/>
                  </a:lnTo>
                  <a:lnTo>
                    <a:pt x="57" y="1300"/>
                  </a:lnTo>
                  <a:lnTo>
                    <a:pt x="37" y="1285"/>
                  </a:lnTo>
                  <a:lnTo>
                    <a:pt x="24" y="1269"/>
                  </a:lnTo>
                  <a:lnTo>
                    <a:pt x="15" y="1251"/>
                  </a:lnTo>
                  <a:lnTo>
                    <a:pt x="4" y="1217"/>
                  </a:lnTo>
                  <a:lnTo>
                    <a:pt x="3" y="1181"/>
                  </a:lnTo>
                  <a:lnTo>
                    <a:pt x="2" y="1145"/>
                  </a:lnTo>
                  <a:lnTo>
                    <a:pt x="0" y="1100"/>
                  </a:lnTo>
                  <a:lnTo>
                    <a:pt x="3" y="1061"/>
                  </a:lnTo>
                  <a:lnTo>
                    <a:pt x="4" y="1019"/>
                  </a:lnTo>
                  <a:lnTo>
                    <a:pt x="6" y="981"/>
                  </a:lnTo>
                  <a:lnTo>
                    <a:pt x="9" y="942"/>
                  </a:lnTo>
                  <a:lnTo>
                    <a:pt x="13" y="912"/>
                  </a:lnTo>
                  <a:lnTo>
                    <a:pt x="18" y="879"/>
                  </a:lnTo>
                  <a:lnTo>
                    <a:pt x="24" y="854"/>
                  </a:lnTo>
                  <a:lnTo>
                    <a:pt x="33" y="837"/>
                  </a:lnTo>
                  <a:lnTo>
                    <a:pt x="46" y="821"/>
                  </a:lnTo>
                  <a:lnTo>
                    <a:pt x="60" y="811"/>
                  </a:lnTo>
                  <a:lnTo>
                    <a:pt x="78" y="799"/>
                  </a:lnTo>
                  <a:lnTo>
                    <a:pt x="94" y="796"/>
                  </a:lnTo>
                  <a:lnTo>
                    <a:pt x="115" y="791"/>
                  </a:lnTo>
                  <a:lnTo>
                    <a:pt x="142" y="790"/>
                  </a:lnTo>
                  <a:lnTo>
                    <a:pt x="166" y="791"/>
                  </a:lnTo>
                  <a:lnTo>
                    <a:pt x="199" y="796"/>
                  </a:lnTo>
                  <a:lnTo>
                    <a:pt x="228" y="797"/>
                  </a:lnTo>
                  <a:lnTo>
                    <a:pt x="252" y="799"/>
                  </a:lnTo>
                  <a:lnTo>
                    <a:pt x="285" y="800"/>
                  </a:lnTo>
                  <a:lnTo>
                    <a:pt x="319" y="796"/>
                  </a:lnTo>
                  <a:lnTo>
                    <a:pt x="348" y="790"/>
                  </a:lnTo>
                  <a:lnTo>
                    <a:pt x="375" y="779"/>
                  </a:lnTo>
                  <a:lnTo>
                    <a:pt x="392" y="769"/>
                  </a:lnTo>
                  <a:lnTo>
                    <a:pt x="410" y="752"/>
                  </a:lnTo>
                  <a:lnTo>
                    <a:pt x="424" y="731"/>
                  </a:lnTo>
                  <a:lnTo>
                    <a:pt x="433" y="710"/>
                  </a:lnTo>
                  <a:lnTo>
                    <a:pt x="436" y="688"/>
                  </a:lnTo>
                  <a:lnTo>
                    <a:pt x="434" y="671"/>
                  </a:lnTo>
                  <a:lnTo>
                    <a:pt x="433" y="640"/>
                  </a:lnTo>
                  <a:lnTo>
                    <a:pt x="434" y="608"/>
                  </a:lnTo>
                  <a:lnTo>
                    <a:pt x="440" y="584"/>
                  </a:lnTo>
                  <a:lnTo>
                    <a:pt x="448" y="562"/>
                  </a:lnTo>
                  <a:lnTo>
                    <a:pt x="458" y="545"/>
                  </a:lnTo>
                  <a:lnTo>
                    <a:pt x="479" y="529"/>
                  </a:lnTo>
                  <a:lnTo>
                    <a:pt x="502" y="517"/>
                  </a:lnTo>
                  <a:lnTo>
                    <a:pt x="530" y="508"/>
                  </a:lnTo>
                  <a:lnTo>
                    <a:pt x="559" y="500"/>
                  </a:lnTo>
                  <a:lnTo>
                    <a:pt x="583" y="494"/>
                  </a:lnTo>
                  <a:lnTo>
                    <a:pt x="613" y="490"/>
                  </a:lnTo>
                  <a:lnTo>
                    <a:pt x="641" y="484"/>
                  </a:lnTo>
                  <a:lnTo>
                    <a:pt x="674" y="475"/>
                  </a:lnTo>
                  <a:lnTo>
                    <a:pt x="706" y="461"/>
                  </a:lnTo>
                  <a:lnTo>
                    <a:pt x="733" y="440"/>
                  </a:lnTo>
                  <a:close/>
                </a:path>
              </a:pathLst>
            </a:custGeom>
            <a:solidFill>
              <a:srgbClr val="ff33cc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679560" y="3168720"/>
              <a:ext cx="1895400" cy="124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CIS/2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STEP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" name=""/>
          <p:cNvGrpSpPr/>
          <p:nvPr/>
        </p:nvGrpSpPr>
        <p:grpSpPr>
          <a:xfrm>
            <a:off x="4618080" y="3662280"/>
            <a:ext cx="2754360" cy="2237040"/>
            <a:chOff x="4618080" y="3662280"/>
            <a:chExt cx="2754360" cy="2237040"/>
          </a:xfrm>
        </p:grpSpPr>
        <p:sp>
          <p:nvSpPr>
            <p:cNvPr id="94" name=""/>
            <p:cNvSpPr/>
            <p:nvPr/>
          </p:nvSpPr>
          <p:spPr>
            <a:xfrm>
              <a:off x="4618080" y="3662280"/>
              <a:ext cx="2754360" cy="2237040"/>
            </a:xfrm>
            <a:custGeom>
              <a:avLst/>
              <a:gdLst/>
              <a:ahLst/>
              <a:rect l="l" t="t" r="r" b="b"/>
              <a:pathLst>
                <a:path w="1735" h="1409">
                  <a:moveTo>
                    <a:pt x="0" y="1113"/>
                  </a:moveTo>
                  <a:lnTo>
                    <a:pt x="0" y="1409"/>
                  </a:lnTo>
                  <a:lnTo>
                    <a:pt x="1735" y="1409"/>
                  </a:lnTo>
                  <a:lnTo>
                    <a:pt x="1733" y="0"/>
                  </a:lnTo>
                  <a:lnTo>
                    <a:pt x="1579" y="0"/>
                  </a:lnTo>
                  <a:lnTo>
                    <a:pt x="1571" y="27"/>
                  </a:lnTo>
                  <a:lnTo>
                    <a:pt x="1571" y="47"/>
                  </a:lnTo>
                  <a:lnTo>
                    <a:pt x="1576" y="74"/>
                  </a:lnTo>
                  <a:lnTo>
                    <a:pt x="1585" y="102"/>
                  </a:lnTo>
                  <a:lnTo>
                    <a:pt x="1594" y="137"/>
                  </a:lnTo>
                  <a:lnTo>
                    <a:pt x="1598" y="164"/>
                  </a:lnTo>
                  <a:lnTo>
                    <a:pt x="1598" y="188"/>
                  </a:lnTo>
                  <a:lnTo>
                    <a:pt x="1595" y="215"/>
                  </a:lnTo>
                  <a:lnTo>
                    <a:pt x="1588" y="240"/>
                  </a:lnTo>
                  <a:lnTo>
                    <a:pt x="1571" y="264"/>
                  </a:lnTo>
                  <a:lnTo>
                    <a:pt x="1552" y="285"/>
                  </a:lnTo>
                  <a:lnTo>
                    <a:pt x="1531" y="304"/>
                  </a:lnTo>
                  <a:lnTo>
                    <a:pt x="1507" y="318"/>
                  </a:lnTo>
                  <a:lnTo>
                    <a:pt x="1478" y="328"/>
                  </a:lnTo>
                  <a:lnTo>
                    <a:pt x="1453" y="334"/>
                  </a:lnTo>
                  <a:lnTo>
                    <a:pt x="1417" y="336"/>
                  </a:lnTo>
                  <a:lnTo>
                    <a:pt x="1375" y="333"/>
                  </a:lnTo>
                  <a:lnTo>
                    <a:pt x="1348" y="328"/>
                  </a:lnTo>
                  <a:lnTo>
                    <a:pt x="1324" y="322"/>
                  </a:lnTo>
                  <a:lnTo>
                    <a:pt x="1302" y="309"/>
                  </a:lnTo>
                  <a:lnTo>
                    <a:pt x="1273" y="286"/>
                  </a:lnTo>
                  <a:lnTo>
                    <a:pt x="1255" y="265"/>
                  </a:lnTo>
                  <a:lnTo>
                    <a:pt x="1239" y="243"/>
                  </a:lnTo>
                  <a:lnTo>
                    <a:pt x="1230" y="219"/>
                  </a:lnTo>
                  <a:lnTo>
                    <a:pt x="1224" y="197"/>
                  </a:lnTo>
                  <a:lnTo>
                    <a:pt x="1224" y="171"/>
                  </a:lnTo>
                  <a:lnTo>
                    <a:pt x="1227" y="146"/>
                  </a:lnTo>
                  <a:lnTo>
                    <a:pt x="1233" y="122"/>
                  </a:lnTo>
                  <a:lnTo>
                    <a:pt x="1239" y="99"/>
                  </a:lnTo>
                  <a:lnTo>
                    <a:pt x="1246" y="75"/>
                  </a:lnTo>
                  <a:lnTo>
                    <a:pt x="1251" y="51"/>
                  </a:lnTo>
                  <a:lnTo>
                    <a:pt x="1251" y="30"/>
                  </a:lnTo>
                  <a:lnTo>
                    <a:pt x="1245" y="6"/>
                  </a:lnTo>
                  <a:lnTo>
                    <a:pt x="954" y="6"/>
                  </a:lnTo>
                  <a:lnTo>
                    <a:pt x="957" y="56"/>
                  </a:lnTo>
                  <a:lnTo>
                    <a:pt x="954" y="90"/>
                  </a:lnTo>
                  <a:lnTo>
                    <a:pt x="953" y="119"/>
                  </a:lnTo>
                  <a:lnTo>
                    <a:pt x="953" y="144"/>
                  </a:lnTo>
                  <a:lnTo>
                    <a:pt x="950" y="171"/>
                  </a:lnTo>
                  <a:lnTo>
                    <a:pt x="944" y="198"/>
                  </a:lnTo>
                  <a:lnTo>
                    <a:pt x="936" y="216"/>
                  </a:lnTo>
                  <a:lnTo>
                    <a:pt x="926" y="233"/>
                  </a:lnTo>
                  <a:lnTo>
                    <a:pt x="911" y="246"/>
                  </a:lnTo>
                  <a:lnTo>
                    <a:pt x="894" y="256"/>
                  </a:lnTo>
                  <a:lnTo>
                    <a:pt x="875" y="262"/>
                  </a:lnTo>
                  <a:lnTo>
                    <a:pt x="854" y="265"/>
                  </a:lnTo>
                  <a:lnTo>
                    <a:pt x="834" y="267"/>
                  </a:lnTo>
                  <a:lnTo>
                    <a:pt x="809" y="267"/>
                  </a:lnTo>
                  <a:lnTo>
                    <a:pt x="785" y="264"/>
                  </a:lnTo>
                  <a:lnTo>
                    <a:pt x="765" y="262"/>
                  </a:lnTo>
                  <a:lnTo>
                    <a:pt x="740" y="261"/>
                  </a:lnTo>
                  <a:lnTo>
                    <a:pt x="713" y="258"/>
                  </a:lnTo>
                  <a:lnTo>
                    <a:pt x="683" y="258"/>
                  </a:lnTo>
                  <a:lnTo>
                    <a:pt x="657" y="261"/>
                  </a:lnTo>
                  <a:lnTo>
                    <a:pt x="632" y="264"/>
                  </a:lnTo>
                  <a:lnTo>
                    <a:pt x="605" y="271"/>
                  </a:lnTo>
                  <a:lnTo>
                    <a:pt x="586" y="282"/>
                  </a:lnTo>
                  <a:lnTo>
                    <a:pt x="565" y="295"/>
                  </a:lnTo>
                  <a:lnTo>
                    <a:pt x="551" y="313"/>
                  </a:lnTo>
                  <a:lnTo>
                    <a:pt x="538" y="333"/>
                  </a:lnTo>
                  <a:lnTo>
                    <a:pt x="532" y="352"/>
                  </a:lnTo>
                  <a:lnTo>
                    <a:pt x="529" y="375"/>
                  </a:lnTo>
                  <a:lnTo>
                    <a:pt x="532" y="397"/>
                  </a:lnTo>
                  <a:lnTo>
                    <a:pt x="533" y="421"/>
                  </a:lnTo>
                  <a:lnTo>
                    <a:pt x="532" y="447"/>
                  </a:lnTo>
                  <a:lnTo>
                    <a:pt x="527" y="466"/>
                  </a:lnTo>
                  <a:lnTo>
                    <a:pt x="521" y="487"/>
                  </a:lnTo>
                  <a:lnTo>
                    <a:pt x="512" y="507"/>
                  </a:lnTo>
                  <a:lnTo>
                    <a:pt x="500" y="520"/>
                  </a:lnTo>
                  <a:lnTo>
                    <a:pt x="481" y="534"/>
                  </a:lnTo>
                  <a:lnTo>
                    <a:pt x="457" y="543"/>
                  </a:lnTo>
                  <a:lnTo>
                    <a:pt x="433" y="550"/>
                  </a:lnTo>
                  <a:lnTo>
                    <a:pt x="410" y="556"/>
                  </a:lnTo>
                  <a:lnTo>
                    <a:pt x="386" y="562"/>
                  </a:lnTo>
                  <a:lnTo>
                    <a:pt x="355" y="568"/>
                  </a:lnTo>
                  <a:lnTo>
                    <a:pt x="331" y="573"/>
                  </a:lnTo>
                  <a:lnTo>
                    <a:pt x="305" y="580"/>
                  </a:lnTo>
                  <a:lnTo>
                    <a:pt x="284" y="588"/>
                  </a:lnTo>
                  <a:lnTo>
                    <a:pt x="263" y="597"/>
                  </a:lnTo>
                  <a:lnTo>
                    <a:pt x="247" y="609"/>
                  </a:lnTo>
                  <a:lnTo>
                    <a:pt x="232" y="621"/>
                  </a:lnTo>
                  <a:lnTo>
                    <a:pt x="215" y="640"/>
                  </a:lnTo>
                  <a:lnTo>
                    <a:pt x="205" y="658"/>
                  </a:lnTo>
                  <a:lnTo>
                    <a:pt x="196" y="679"/>
                  </a:lnTo>
                  <a:lnTo>
                    <a:pt x="192" y="704"/>
                  </a:lnTo>
                  <a:lnTo>
                    <a:pt x="195" y="728"/>
                  </a:lnTo>
                  <a:lnTo>
                    <a:pt x="198" y="752"/>
                  </a:lnTo>
                  <a:lnTo>
                    <a:pt x="205" y="781"/>
                  </a:lnTo>
                  <a:lnTo>
                    <a:pt x="212" y="812"/>
                  </a:lnTo>
                  <a:lnTo>
                    <a:pt x="218" y="841"/>
                  </a:lnTo>
                  <a:lnTo>
                    <a:pt x="221" y="863"/>
                  </a:lnTo>
                  <a:lnTo>
                    <a:pt x="221" y="884"/>
                  </a:lnTo>
                  <a:lnTo>
                    <a:pt x="218" y="913"/>
                  </a:lnTo>
                  <a:lnTo>
                    <a:pt x="211" y="937"/>
                  </a:lnTo>
                  <a:lnTo>
                    <a:pt x="205" y="958"/>
                  </a:lnTo>
                  <a:lnTo>
                    <a:pt x="196" y="977"/>
                  </a:lnTo>
                  <a:lnTo>
                    <a:pt x="184" y="1003"/>
                  </a:lnTo>
                  <a:lnTo>
                    <a:pt x="168" y="1031"/>
                  </a:lnTo>
                  <a:lnTo>
                    <a:pt x="150" y="1052"/>
                  </a:lnTo>
                  <a:lnTo>
                    <a:pt x="132" y="1068"/>
                  </a:lnTo>
                  <a:lnTo>
                    <a:pt x="115" y="1083"/>
                  </a:lnTo>
                  <a:lnTo>
                    <a:pt x="97" y="1095"/>
                  </a:lnTo>
                  <a:lnTo>
                    <a:pt x="79" y="1103"/>
                  </a:lnTo>
                  <a:lnTo>
                    <a:pt x="54" y="1109"/>
                  </a:lnTo>
                  <a:lnTo>
                    <a:pt x="25" y="1113"/>
                  </a:lnTo>
                  <a:lnTo>
                    <a:pt x="0" y="1113"/>
                  </a:lnTo>
                  <a:close/>
                </a:path>
              </a:pathLst>
            </a:custGeom>
            <a:solidFill>
              <a:srgbClr val="0033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318640" y="4195800"/>
              <a:ext cx="1946880" cy="16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4x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Generi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Resource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4629240" y="1533600"/>
            <a:ext cx="2743200" cy="2668680"/>
            <a:chOff x="4629240" y="1533600"/>
            <a:chExt cx="2743200" cy="2668680"/>
          </a:xfrm>
        </p:grpSpPr>
        <p:sp>
          <p:nvSpPr>
            <p:cNvPr id="97" name=""/>
            <p:cNvSpPr/>
            <p:nvPr/>
          </p:nvSpPr>
          <p:spPr>
            <a:xfrm>
              <a:off x="4629240" y="153360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0" y="351"/>
                  </a:moveTo>
                  <a:lnTo>
                    <a:pt x="0" y="0"/>
                  </a:lnTo>
                  <a:lnTo>
                    <a:pt x="1726" y="0"/>
                  </a:lnTo>
                  <a:lnTo>
                    <a:pt x="1728" y="1343"/>
                  </a:lnTo>
                  <a:lnTo>
                    <a:pt x="1578" y="1343"/>
                  </a:lnTo>
                  <a:lnTo>
                    <a:pt x="1572" y="1355"/>
                  </a:lnTo>
                  <a:lnTo>
                    <a:pt x="1567" y="1371"/>
                  </a:lnTo>
                  <a:lnTo>
                    <a:pt x="1567" y="1385"/>
                  </a:lnTo>
                  <a:lnTo>
                    <a:pt x="1569" y="1401"/>
                  </a:lnTo>
                  <a:lnTo>
                    <a:pt x="1575" y="1422"/>
                  </a:lnTo>
                  <a:lnTo>
                    <a:pt x="1581" y="1449"/>
                  </a:lnTo>
                  <a:lnTo>
                    <a:pt x="1587" y="1467"/>
                  </a:lnTo>
                  <a:lnTo>
                    <a:pt x="1591" y="1490"/>
                  </a:lnTo>
                  <a:lnTo>
                    <a:pt x="1594" y="1511"/>
                  </a:lnTo>
                  <a:lnTo>
                    <a:pt x="1594" y="1532"/>
                  </a:lnTo>
                  <a:lnTo>
                    <a:pt x="1591" y="1551"/>
                  </a:lnTo>
                  <a:lnTo>
                    <a:pt x="1587" y="1572"/>
                  </a:lnTo>
                  <a:lnTo>
                    <a:pt x="1579" y="1591"/>
                  </a:lnTo>
                  <a:lnTo>
                    <a:pt x="1567" y="1606"/>
                  </a:lnTo>
                  <a:lnTo>
                    <a:pt x="1551" y="1624"/>
                  </a:lnTo>
                  <a:lnTo>
                    <a:pt x="1534" y="1638"/>
                  </a:lnTo>
                  <a:lnTo>
                    <a:pt x="1519" y="1651"/>
                  </a:lnTo>
                  <a:lnTo>
                    <a:pt x="1501" y="1662"/>
                  </a:lnTo>
                  <a:lnTo>
                    <a:pt x="1480" y="1669"/>
                  </a:lnTo>
                  <a:lnTo>
                    <a:pt x="1455" y="1677"/>
                  </a:lnTo>
                  <a:lnTo>
                    <a:pt x="1431" y="1680"/>
                  </a:lnTo>
                  <a:lnTo>
                    <a:pt x="1410" y="1681"/>
                  </a:lnTo>
                  <a:lnTo>
                    <a:pt x="1387" y="1681"/>
                  </a:lnTo>
                  <a:lnTo>
                    <a:pt x="1367" y="1680"/>
                  </a:lnTo>
                  <a:lnTo>
                    <a:pt x="1350" y="1677"/>
                  </a:lnTo>
                  <a:lnTo>
                    <a:pt x="1331" y="1671"/>
                  </a:lnTo>
                  <a:lnTo>
                    <a:pt x="1311" y="1665"/>
                  </a:lnTo>
                  <a:lnTo>
                    <a:pt x="1296" y="1656"/>
                  </a:lnTo>
                  <a:lnTo>
                    <a:pt x="1280" y="1644"/>
                  </a:lnTo>
                  <a:lnTo>
                    <a:pt x="1265" y="1629"/>
                  </a:lnTo>
                  <a:lnTo>
                    <a:pt x="1250" y="1612"/>
                  </a:lnTo>
                  <a:lnTo>
                    <a:pt x="1236" y="1596"/>
                  </a:lnTo>
                  <a:lnTo>
                    <a:pt x="1226" y="1578"/>
                  </a:lnTo>
                  <a:lnTo>
                    <a:pt x="1218" y="1556"/>
                  </a:lnTo>
                  <a:lnTo>
                    <a:pt x="1212" y="1530"/>
                  </a:lnTo>
                  <a:lnTo>
                    <a:pt x="1212" y="1506"/>
                  </a:lnTo>
                  <a:lnTo>
                    <a:pt x="1218" y="1482"/>
                  </a:lnTo>
                  <a:lnTo>
                    <a:pt x="1224" y="1458"/>
                  </a:lnTo>
                  <a:lnTo>
                    <a:pt x="1230" y="1434"/>
                  </a:lnTo>
                  <a:lnTo>
                    <a:pt x="1238" y="1407"/>
                  </a:lnTo>
                  <a:lnTo>
                    <a:pt x="1241" y="1386"/>
                  </a:lnTo>
                  <a:lnTo>
                    <a:pt x="1241" y="1374"/>
                  </a:lnTo>
                  <a:lnTo>
                    <a:pt x="1239" y="1364"/>
                  </a:lnTo>
                  <a:lnTo>
                    <a:pt x="1235" y="1352"/>
                  </a:lnTo>
                  <a:lnTo>
                    <a:pt x="947" y="1352"/>
                  </a:lnTo>
                  <a:lnTo>
                    <a:pt x="952" y="1301"/>
                  </a:lnTo>
                  <a:lnTo>
                    <a:pt x="950" y="1272"/>
                  </a:lnTo>
                  <a:lnTo>
                    <a:pt x="947" y="1245"/>
                  </a:lnTo>
                  <a:lnTo>
                    <a:pt x="944" y="1220"/>
                  </a:lnTo>
                  <a:lnTo>
                    <a:pt x="940" y="1203"/>
                  </a:lnTo>
                  <a:lnTo>
                    <a:pt x="932" y="1188"/>
                  </a:lnTo>
                  <a:lnTo>
                    <a:pt x="923" y="1175"/>
                  </a:lnTo>
                  <a:lnTo>
                    <a:pt x="908" y="1163"/>
                  </a:lnTo>
                  <a:lnTo>
                    <a:pt x="892" y="1153"/>
                  </a:lnTo>
                  <a:lnTo>
                    <a:pt x="875" y="1147"/>
                  </a:lnTo>
                  <a:lnTo>
                    <a:pt x="860" y="1144"/>
                  </a:lnTo>
                  <a:lnTo>
                    <a:pt x="835" y="1142"/>
                  </a:lnTo>
                  <a:lnTo>
                    <a:pt x="805" y="1142"/>
                  </a:lnTo>
                  <a:lnTo>
                    <a:pt x="776" y="1145"/>
                  </a:lnTo>
                  <a:lnTo>
                    <a:pt x="745" y="1147"/>
                  </a:lnTo>
                  <a:lnTo>
                    <a:pt x="721" y="1150"/>
                  </a:lnTo>
                  <a:lnTo>
                    <a:pt x="689" y="1151"/>
                  </a:lnTo>
                  <a:lnTo>
                    <a:pt x="664" y="1150"/>
                  </a:lnTo>
                  <a:lnTo>
                    <a:pt x="641" y="1147"/>
                  </a:lnTo>
                  <a:lnTo>
                    <a:pt x="607" y="1139"/>
                  </a:lnTo>
                  <a:lnTo>
                    <a:pt x="585" y="1129"/>
                  </a:lnTo>
                  <a:lnTo>
                    <a:pt x="564" y="1114"/>
                  </a:lnTo>
                  <a:lnTo>
                    <a:pt x="550" y="1097"/>
                  </a:lnTo>
                  <a:lnTo>
                    <a:pt x="538" y="1079"/>
                  </a:lnTo>
                  <a:lnTo>
                    <a:pt x="529" y="1057"/>
                  </a:lnTo>
                  <a:lnTo>
                    <a:pt x="528" y="1033"/>
                  </a:lnTo>
                  <a:lnTo>
                    <a:pt x="528" y="1003"/>
                  </a:lnTo>
                  <a:lnTo>
                    <a:pt x="529" y="980"/>
                  </a:lnTo>
                  <a:lnTo>
                    <a:pt x="528" y="958"/>
                  </a:lnTo>
                  <a:lnTo>
                    <a:pt x="522" y="932"/>
                  </a:lnTo>
                  <a:lnTo>
                    <a:pt x="517" y="917"/>
                  </a:lnTo>
                  <a:lnTo>
                    <a:pt x="510" y="902"/>
                  </a:lnTo>
                  <a:lnTo>
                    <a:pt x="501" y="892"/>
                  </a:lnTo>
                  <a:lnTo>
                    <a:pt x="492" y="883"/>
                  </a:lnTo>
                  <a:lnTo>
                    <a:pt x="472" y="874"/>
                  </a:lnTo>
                  <a:lnTo>
                    <a:pt x="450" y="863"/>
                  </a:lnTo>
                  <a:lnTo>
                    <a:pt x="424" y="856"/>
                  </a:lnTo>
                  <a:lnTo>
                    <a:pt x="394" y="848"/>
                  </a:lnTo>
                  <a:lnTo>
                    <a:pt x="364" y="842"/>
                  </a:lnTo>
                  <a:lnTo>
                    <a:pt x="333" y="838"/>
                  </a:lnTo>
                  <a:lnTo>
                    <a:pt x="310" y="830"/>
                  </a:lnTo>
                  <a:lnTo>
                    <a:pt x="286" y="823"/>
                  </a:lnTo>
                  <a:lnTo>
                    <a:pt x="262" y="814"/>
                  </a:lnTo>
                  <a:lnTo>
                    <a:pt x="246" y="800"/>
                  </a:lnTo>
                  <a:lnTo>
                    <a:pt x="226" y="784"/>
                  </a:lnTo>
                  <a:lnTo>
                    <a:pt x="213" y="769"/>
                  </a:lnTo>
                  <a:lnTo>
                    <a:pt x="201" y="751"/>
                  </a:lnTo>
                  <a:lnTo>
                    <a:pt x="192" y="730"/>
                  </a:lnTo>
                  <a:lnTo>
                    <a:pt x="189" y="708"/>
                  </a:lnTo>
                  <a:lnTo>
                    <a:pt x="189" y="687"/>
                  </a:lnTo>
                  <a:lnTo>
                    <a:pt x="194" y="667"/>
                  </a:lnTo>
                  <a:lnTo>
                    <a:pt x="201" y="639"/>
                  </a:lnTo>
                  <a:lnTo>
                    <a:pt x="208" y="610"/>
                  </a:lnTo>
                  <a:lnTo>
                    <a:pt x="211" y="585"/>
                  </a:lnTo>
                  <a:lnTo>
                    <a:pt x="217" y="559"/>
                  </a:lnTo>
                  <a:lnTo>
                    <a:pt x="220" y="534"/>
                  </a:lnTo>
                  <a:lnTo>
                    <a:pt x="217" y="507"/>
                  </a:lnTo>
                  <a:lnTo>
                    <a:pt x="211" y="483"/>
                  </a:lnTo>
                  <a:lnTo>
                    <a:pt x="202" y="459"/>
                  </a:lnTo>
                  <a:lnTo>
                    <a:pt x="191" y="436"/>
                  </a:lnTo>
                  <a:lnTo>
                    <a:pt x="177" y="418"/>
                  </a:lnTo>
                  <a:lnTo>
                    <a:pt x="170" y="408"/>
                  </a:lnTo>
                  <a:lnTo>
                    <a:pt x="156" y="394"/>
                  </a:lnTo>
                  <a:lnTo>
                    <a:pt x="143" y="383"/>
                  </a:lnTo>
                  <a:lnTo>
                    <a:pt x="129" y="374"/>
                  </a:lnTo>
                  <a:lnTo>
                    <a:pt x="111" y="365"/>
                  </a:lnTo>
                  <a:lnTo>
                    <a:pt x="93" y="359"/>
                  </a:lnTo>
                  <a:lnTo>
                    <a:pt x="71" y="353"/>
                  </a:lnTo>
                  <a:lnTo>
                    <a:pt x="45" y="351"/>
                  </a:lnTo>
                  <a:lnTo>
                    <a:pt x="23" y="351"/>
                  </a:lnTo>
                  <a:lnTo>
                    <a:pt x="0" y="351"/>
                  </a:lnTo>
                  <a:close/>
                </a:path>
              </a:pathLst>
            </a:custGeom>
            <a:solidFill>
              <a:srgbClr val="cc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946040" y="1619280"/>
              <a:ext cx="2386080" cy="16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21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Physical Fil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Forma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" name=""/>
          <p:cNvGrpSpPr/>
          <p:nvPr/>
        </p:nvGrpSpPr>
        <p:grpSpPr>
          <a:xfrm>
            <a:off x="1874880" y="1533600"/>
            <a:ext cx="2754360" cy="2236680"/>
            <a:chOff x="1874880" y="1533600"/>
            <a:chExt cx="2754360" cy="2236680"/>
          </a:xfrm>
        </p:grpSpPr>
        <p:sp>
          <p:nvSpPr>
            <p:cNvPr id="100" name=""/>
            <p:cNvSpPr/>
            <p:nvPr/>
          </p:nvSpPr>
          <p:spPr>
            <a:xfrm>
              <a:off x="1874880" y="1533600"/>
              <a:ext cx="2754360" cy="2236680"/>
            </a:xfrm>
            <a:custGeom>
              <a:avLst/>
              <a:gdLst/>
              <a:ahLst/>
              <a:rect l="l" t="t" r="r" b="b"/>
              <a:pathLst>
                <a:path w="1735" h="1409">
                  <a:moveTo>
                    <a:pt x="1735" y="351"/>
                  </a:moveTo>
                  <a:lnTo>
                    <a:pt x="1735" y="0"/>
                  </a:lnTo>
                  <a:lnTo>
                    <a:pt x="0" y="0"/>
                  </a:lnTo>
                  <a:lnTo>
                    <a:pt x="2" y="1409"/>
                  </a:lnTo>
                  <a:lnTo>
                    <a:pt x="156" y="1409"/>
                  </a:lnTo>
                  <a:lnTo>
                    <a:pt x="164" y="1382"/>
                  </a:lnTo>
                  <a:lnTo>
                    <a:pt x="164" y="1362"/>
                  </a:lnTo>
                  <a:lnTo>
                    <a:pt x="159" y="1335"/>
                  </a:lnTo>
                  <a:lnTo>
                    <a:pt x="150" y="1307"/>
                  </a:lnTo>
                  <a:lnTo>
                    <a:pt x="141" y="1272"/>
                  </a:lnTo>
                  <a:lnTo>
                    <a:pt x="137" y="1245"/>
                  </a:lnTo>
                  <a:lnTo>
                    <a:pt x="135" y="1221"/>
                  </a:lnTo>
                  <a:lnTo>
                    <a:pt x="140" y="1194"/>
                  </a:lnTo>
                  <a:lnTo>
                    <a:pt x="147" y="1169"/>
                  </a:lnTo>
                  <a:lnTo>
                    <a:pt x="164" y="1144"/>
                  </a:lnTo>
                  <a:lnTo>
                    <a:pt x="183" y="1124"/>
                  </a:lnTo>
                  <a:lnTo>
                    <a:pt x="204" y="1105"/>
                  </a:lnTo>
                  <a:lnTo>
                    <a:pt x="228" y="1091"/>
                  </a:lnTo>
                  <a:lnTo>
                    <a:pt x="257" y="1079"/>
                  </a:lnTo>
                  <a:lnTo>
                    <a:pt x="282" y="1075"/>
                  </a:lnTo>
                  <a:lnTo>
                    <a:pt x="318" y="1073"/>
                  </a:lnTo>
                  <a:lnTo>
                    <a:pt x="360" y="1076"/>
                  </a:lnTo>
                  <a:lnTo>
                    <a:pt x="387" y="1079"/>
                  </a:lnTo>
                  <a:lnTo>
                    <a:pt x="411" y="1087"/>
                  </a:lnTo>
                  <a:lnTo>
                    <a:pt x="433" y="1100"/>
                  </a:lnTo>
                  <a:lnTo>
                    <a:pt x="462" y="1123"/>
                  </a:lnTo>
                  <a:lnTo>
                    <a:pt x="480" y="1144"/>
                  </a:lnTo>
                  <a:lnTo>
                    <a:pt x="496" y="1166"/>
                  </a:lnTo>
                  <a:lnTo>
                    <a:pt x="505" y="1190"/>
                  </a:lnTo>
                  <a:lnTo>
                    <a:pt x="511" y="1212"/>
                  </a:lnTo>
                  <a:lnTo>
                    <a:pt x="511" y="1238"/>
                  </a:lnTo>
                  <a:lnTo>
                    <a:pt x="508" y="1263"/>
                  </a:lnTo>
                  <a:lnTo>
                    <a:pt x="502" y="1287"/>
                  </a:lnTo>
                  <a:lnTo>
                    <a:pt x="496" y="1310"/>
                  </a:lnTo>
                  <a:lnTo>
                    <a:pt x="489" y="1334"/>
                  </a:lnTo>
                  <a:lnTo>
                    <a:pt x="484" y="1358"/>
                  </a:lnTo>
                  <a:lnTo>
                    <a:pt x="484" y="1379"/>
                  </a:lnTo>
                  <a:lnTo>
                    <a:pt x="490" y="1403"/>
                  </a:lnTo>
                  <a:lnTo>
                    <a:pt x="781" y="1403"/>
                  </a:lnTo>
                  <a:lnTo>
                    <a:pt x="778" y="1353"/>
                  </a:lnTo>
                  <a:lnTo>
                    <a:pt x="781" y="1317"/>
                  </a:lnTo>
                  <a:lnTo>
                    <a:pt x="781" y="1290"/>
                  </a:lnTo>
                  <a:lnTo>
                    <a:pt x="782" y="1265"/>
                  </a:lnTo>
                  <a:lnTo>
                    <a:pt x="785" y="1238"/>
                  </a:lnTo>
                  <a:lnTo>
                    <a:pt x="791" y="1211"/>
                  </a:lnTo>
                  <a:lnTo>
                    <a:pt x="799" y="1193"/>
                  </a:lnTo>
                  <a:lnTo>
                    <a:pt x="809" y="1177"/>
                  </a:lnTo>
                  <a:lnTo>
                    <a:pt x="824" y="1163"/>
                  </a:lnTo>
                  <a:lnTo>
                    <a:pt x="841" y="1153"/>
                  </a:lnTo>
                  <a:lnTo>
                    <a:pt x="860" y="1147"/>
                  </a:lnTo>
                  <a:lnTo>
                    <a:pt x="881" y="1144"/>
                  </a:lnTo>
                  <a:lnTo>
                    <a:pt x="901" y="1142"/>
                  </a:lnTo>
                  <a:lnTo>
                    <a:pt x="926" y="1142"/>
                  </a:lnTo>
                  <a:lnTo>
                    <a:pt x="950" y="1144"/>
                  </a:lnTo>
                  <a:lnTo>
                    <a:pt x="970" y="1147"/>
                  </a:lnTo>
                  <a:lnTo>
                    <a:pt x="995" y="1148"/>
                  </a:lnTo>
                  <a:lnTo>
                    <a:pt x="1022" y="1151"/>
                  </a:lnTo>
                  <a:lnTo>
                    <a:pt x="1052" y="1151"/>
                  </a:lnTo>
                  <a:lnTo>
                    <a:pt x="1078" y="1148"/>
                  </a:lnTo>
                  <a:lnTo>
                    <a:pt x="1103" y="1144"/>
                  </a:lnTo>
                  <a:lnTo>
                    <a:pt x="1130" y="1138"/>
                  </a:lnTo>
                  <a:lnTo>
                    <a:pt x="1150" y="1127"/>
                  </a:lnTo>
                  <a:lnTo>
                    <a:pt x="1170" y="1114"/>
                  </a:lnTo>
                  <a:lnTo>
                    <a:pt x="1184" y="1096"/>
                  </a:lnTo>
                  <a:lnTo>
                    <a:pt x="1197" y="1076"/>
                  </a:lnTo>
                  <a:lnTo>
                    <a:pt x="1203" y="1057"/>
                  </a:lnTo>
                  <a:lnTo>
                    <a:pt x="1206" y="1034"/>
                  </a:lnTo>
                  <a:lnTo>
                    <a:pt x="1203" y="1012"/>
                  </a:lnTo>
                  <a:lnTo>
                    <a:pt x="1202" y="988"/>
                  </a:lnTo>
                  <a:lnTo>
                    <a:pt x="1203" y="962"/>
                  </a:lnTo>
                  <a:lnTo>
                    <a:pt x="1208" y="943"/>
                  </a:lnTo>
                  <a:lnTo>
                    <a:pt x="1214" y="922"/>
                  </a:lnTo>
                  <a:lnTo>
                    <a:pt x="1223" y="902"/>
                  </a:lnTo>
                  <a:lnTo>
                    <a:pt x="1235" y="889"/>
                  </a:lnTo>
                  <a:lnTo>
                    <a:pt x="1254" y="875"/>
                  </a:lnTo>
                  <a:lnTo>
                    <a:pt x="1278" y="866"/>
                  </a:lnTo>
                  <a:lnTo>
                    <a:pt x="1302" y="859"/>
                  </a:lnTo>
                  <a:lnTo>
                    <a:pt x="1325" y="853"/>
                  </a:lnTo>
                  <a:lnTo>
                    <a:pt x="1349" y="847"/>
                  </a:lnTo>
                  <a:lnTo>
                    <a:pt x="1380" y="841"/>
                  </a:lnTo>
                  <a:lnTo>
                    <a:pt x="1404" y="836"/>
                  </a:lnTo>
                  <a:lnTo>
                    <a:pt x="1430" y="829"/>
                  </a:lnTo>
                  <a:lnTo>
                    <a:pt x="1451" y="821"/>
                  </a:lnTo>
                  <a:lnTo>
                    <a:pt x="1472" y="812"/>
                  </a:lnTo>
                  <a:lnTo>
                    <a:pt x="1488" y="800"/>
                  </a:lnTo>
                  <a:lnTo>
                    <a:pt x="1503" y="788"/>
                  </a:lnTo>
                  <a:lnTo>
                    <a:pt x="1520" y="769"/>
                  </a:lnTo>
                  <a:lnTo>
                    <a:pt x="1530" y="751"/>
                  </a:lnTo>
                  <a:lnTo>
                    <a:pt x="1539" y="730"/>
                  </a:lnTo>
                  <a:lnTo>
                    <a:pt x="1544" y="703"/>
                  </a:lnTo>
                  <a:lnTo>
                    <a:pt x="1541" y="681"/>
                  </a:lnTo>
                  <a:lnTo>
                    <a:pt x="1538" y="657"/>
                  </a:lnTo>
                  <a:lnTo>
                    <a:pt x="1530" y="628"/>
                  </a:lnTo>
                  <a:lnTo>
                    <a:pt x="1523" y="597"/>
                  </a:lnTo>
                  <a:lnTo>
                    <a:pt x="1515" y="568"/>
                  </a:lnTo>
                  <a:lnTo>
                    <a:pt x="1514" y="546"/>
                  </a:lnTo>
                  <a:lnTo>
                    <a:pt x="1514" y="525"/>
                  </a:lnTo>
                  <a:lnTo>
                    <a:pt x="1517" y="496"/>
                  </a:lnTo>
                  <a:lnTo>
                    <a:pt x="1524" y="472"/>
                  </a:lnTo>
                  <a:lnTo>
                    <a:pt x="1532" y="454"/>
                  </a:lnTo>
                  <a:lnTo>
                    <a:pt x="1542" y="436"/>
                  </a:lnTo>
                  <a:lnTo>
                    <a:pt x="1557" y="417"/>
                  </a:lnTo>
                  <a:lnTo>
                    <a:pt x="1573" y="397"/>
                  </a:lnTo>
                  <a:lnTo>
                    <a:pt x="1594" y="381"/>
                  </a:lnTo>
                  <a:lnTo>
                    <a:pt x="1617" y="368"/>
                  </a:lnTo>
                  <a:lnTo>
                    <a:pt x="1638" y="360"/>
                  </a:lnTo>
                  <a:lnTo>
                    <a:pt x="1659" y="354"/>
                  </a:lnTo>
                  <a:lnTo>
                    <a:pt x="1681" y="351"/>
                  </a:lnTo>
                  <a:lnTo>
                    <a:pt x="1708" y="351"/>
                  </a:lnTo>
                  <a:lnTo>
                    <a:pt x="1735" y="351"/>
                  </a:lnTo>
                  <a:close/>
                </a:path>
              </a:pathLst>
            </a:custGeom>
            <a:solidFill>
              <a:srgbClr val="008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917000" y="1663560"/>
              <a:ext cx="2010960" cy="113004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11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EXPRES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1874880" y="3230640"/>
            <a:ext cx="2743200" cy="2668680"/>
            <a:chOff x="1874880" y="3230640"/>
            <a:chExt cx="2743200" cy="2668680"/>
          </a:xfrm>
        </p:grpSpPr>
        <p:sp>
          <p:nvSpPr>
            <p:cNvPr id="103" name=""/>
            <p:cNvSpPr/>
            <p:nvPr/>
          </p:nvSpPr>
          <p:spPr>
            <a:xfrm>
              <a:off x="1874880" y="323064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1728" y="1384"/>
                  </a:moveTo>
                  <a:lnTo>
                    <a:pt x="1728" y="1681"/>
                  </a:lnTo>
                  <a:lnTo>
                    <a:pt x="2" y="1681"/>
                  </a:lnTo>
                  <a:lnTo>
                    <a:pt x="0" y="338"/>
                  </a:lnTo>
                  <a:lnTo>
                    <a:pt x="150" y="338"/>
                  </a:lnTo>
                  <a:lnTo>
                    <a:pt x="156" y="326"/>
                  </a:lnTo>
                  <a:lnTo>
                    <a:pt x="161" y="310"/>
                  </a:lnTo>
                  <a:lnTo>
                    <a:pt x="161" y="296"/>
                  </a:lnTo>
                  <a:lnTo>
                    <a:pt x="159" y="280"/>
                  </a:lnTo>
                  <a:lnTo>
                    <a:pt x="153" y="259"/>
                  </a:lnTo>
                  <a:lnTo>
                    <a:pt x="147" y="232"/>
                  </a:lnTo>
                  <a:lnTo>
                    <a:pt x="141" y="214"/>
                  </a:lnTo>
                  <a:lnTo>
                    <a:pt x="135" y="191"/>
                  </a:lnTo>
                  <a:lnTo>
                    <a:pt x="134" y="170"/>
                  </a:lnTo>
                  <a:lnTo>
                    <a:pt x="134" y="149"/>
                  </a:lnTo>
                  <a:lnTo>
                    <a:pt x="135" y="130"/>
                  </a:lnTo>
                  <a:lnTo>
                    <a:pt x="141" y="109"/>
                  </a:lnTo>
                  <a:lnTo>
                    <a:pt x="149" y="90"/>
                  </a:lnTo>
                  <a:lnTo>
                    <a:pt x="161" y="75"/>
                  </a:lnTo>
                  <a:lnTo>
                    <a:pt x="177" y="57"/>
                  </a:lnTo>
                  <a:lnTo>
                    <a:pt x="192" y="43"/>
                  </a:lnTo>
                  <a:lnTo>
                    <a:pt x="209" y="30"/>
                  </a:lnTo>
                  <a:lnTo>
                    <a:pt x="227" y="19"/>
                  </a:lnTo>
                  <a:lnTo>
                    <a:pt x="248" y="10"/>
                  </a:lnTo>
                  <a:lnTo>
                    <a:pt x="272" y="4"/>
                  </a:lnTo>
                  <a:lnTo>
                    <a:pt x="297" y="1"/>
                  </a:lnTo>
                  <a:lnTo>
                    <a:pt x="318" y="0"/>
                  </a:lnTo>
                  <a:lnTo>
                    <a:pt x="341" y="0"/>
                  </a:lnTo>
                  <a:lnTo>
                    <a:pt x="362" y="1"/>
                  </a:lnTo>
                  <a:lnTo>
                    <a:pt x="378" y="4"/>
                  </a:lnTo>
                  <a:lnTo>
                    <a:pt x="397" y="10"/>
                  </a:lnTo>
                  <a:lnTo>
                    <a:pt x="417" y="16"/>
                  </a:lnTo>
                  <a:lnTo>
                    <a:pt x="432" y="25"/>
                  </a:lnTo>
                  <a:lnTo>
                    <a:pt x="448" y="37"/>
                  </a:lnTo>
                  <a:lnTo>
                    <a:pt x="463" y="52"/>
                  </a:lnTo>
                  <a:lnTo>
                    <a:pt x="478" y="69"/>
                  </a:lnTo>
                  <a:lnTo>
                    <a:pt x="492" y="85"/>
                  </a:lnTo>
                  <a:lnTo>
                    <a:pt x="502" y="103"/>
                  </a:lnTo>
                  <a:lnTo>
                    <a:pt x="510" y="125"/>
                  </a:lnTo>
                  <a:lnTo>
                    <a:pt x="516" y="151"/>
                  </a:lnTo>
                  <a:lnTo>
                    <a:pt x="516" y="175"/>
                  </a:lnTo>
                  <a:lnTo>
                    <a:pt x="510" y="199"/>
                  </a:lnTo>
                  <a:lnTo>
                    <a:pt x="504" y="223"/>
                  </a:lnTo>
                  <a:lnTo>
                    <a:pt x="498" y="247"/>
                  </a:lnTo>
                  <a:lnTo>
                    <a:pt x="490" y="274"/>
                  </a:lnTo>
                  <a:lnTo>
                    <a:pt x="486" y="295"/>
                  </a:lnTo>
                  <a:lnTo>
                    <a:pt x="486" y="307"/>
                  </a:lnTo>
                  <a:lnTo>
                    <a:pt x="489" y="317"/>
                  </a:lnTo>
                  <a:lnTo>
                    <a:pt x="493" y="329"/>
                  </a:lnTo>
                  <a:lnTo>
                    <a:pt x="779" y="329"/>
                  </a:lnTo>
                  <a:lnTo>
                    <a:pt x="773" y="385"/>
                  </a:lnTo>
                  <a:lnTo>
                    <a:pt x="772" y="418"/>
                  </a:lnTo>
                  <a:lnTo>
                    <a:pt x="773" y="445"/>
                  </a:lnTo>
                  <a:lnTo>
                    <a:pt x="775" y="470"/>
                  </a:lnTo>
                  <a:lnTo>
                    <a:pt x="778" y="497"/>
                  </a:lnTo>
                  <a:lnTo>
                    <a:pt x="782" y="524"/>
                  </a:lnTo>
                  <a:lnTo>
                    <a:pt x="791" y="542"/>
                  </a:lnTo>
                  <a:lnTo>
                    <a:pt x="802" y="557"/>
                  </a:lnTo>
                  <a:lnTo>
                    <a:pt x="815" y="570"/>
                  </a:lnTo>
                  <a:lnTo>
                    <a:pt x="833" y="581"/>
                  </a:lnTo>
                  <a:lnTo>
                    <a:pt x="853" y="588"/>
                  </a:lnTo>
                  <a:lnTo>
                    <a:pt x="872" y="591"/>
                  </a:lnTo>
                  <a:lnTo>
                    <a:pt x="893" y="593"/>
                  </a:lnTo>
                  <a:lnTo>
                    <a:pt x="917" y="593"/>
                  </a:lnTo>
                  <a:lnTo>
                    <a:pt x="943" y="590"/>
                  </a:lnTo>
                  <a:lnTo>
                    <a:pt x="961" y="588"/>
                  </a:lnTo>
                  <a:lnTo>
                    <a:pt x="988" y="585"/>
                  </a:lnTo>
                  <a:lnTo>
                    <a:pt x="1015" y="582"/>
                  </a:lnTo>
                  <a:lnTo>
                    <a:pt x="1045" y="582"/>
                  </a:lnTo>
                  <a:lnTo>
                    <a:pt x="1070" y="585"/>
                  </a:lnTo>
                  <a:lnTo>
                    <a:pt x="1096" y="590"/>
                  </a:lnTo>
                  <a:lnTo>
                    <a:pt x="1121" y="599"/>
                  </a:lnTo>
                  <a:lnTo>
                    <a:pt x="1142" y="608"/>
                  </a:lnTo>
                  <a:lnTo>
                    <a:pt x="1163" y="623"/>
                  </a:lnTo>
                  <a:lnTo>
                    <a:pt x="1176" y="639"/>
                  </a:lnTo>
                  <a:lnTo>
                    <a:pt x="1188" y="659"/>
                  </a:lnTo>
                  <a:lnTo>
                    <a:pt x="1196" y="680"/>
                  </a:lnTo>
                  <a:lnTo>
                    <a:pt x="1199" y="701"/>
                  </a:lnTo>
                  <a:lnTo>
                    <a:pt x="1196" y="725"/>
                  </a:lnTo>
                  <a:lnTo>
                    <a:pt x="1194" y="749"/>
                  </a:lnTo>
                  <a:lnTo>
                    <a:pt x="1196" y="773"/>
                  </a:lnTo>
                  <a:lnTo>
                    <a:pt x="1199" y="794"/>
                  </a:lnTo>
                  <a:lnTo>
                    <a:pt x="1206" y="813"/>
                  </a:lnTo>
                  <a:lnTo>
                    <a:pt x="1215" y="833"/>
                  </a:lnTo>
                  <a:lnTo>
                    <a:pt x="1227" y="846"/>
                  </a:lnTo>
                  <a:lnTo>
                    <a:pt x="1245" y="860"/>
                  </a:lnTo>
                  <a:lnTo>
                    <a:pt x="1269" y="869"/>
                  </a:lnTo>
                  <a:lnTo>
                    <a:pt x="1295" y="876"/>
                  </a:lnTo>
                  <a:lnTo>
                    <a:pt x="1316" y="882"/>
                  </a:lnTo>
                  <a:lnTo>
                    <a:pt x="1341" y="888"/>
                  </a:lnTo>
                  <a:lnTo>
                    <a:pt x="1371" y="894"/>
                  </a:lnTo>
                  <a:lnTo>
                    <a:pt x="1397" y="899"/>
                  </a:lnTo>
                  <a:lnTo>
                    <a:pt x="1422" y="906"/>
                  </a:lnTo>
                  <a:lnTo>
                    <a:pt x="1443" y="913"/>
                  </a:lnTo>
                  <a:lnTo>
                    <a:pt x="1464" y="922"/>
                  </a:lnTo>
                  <a:lnTo>
                    <a:pt x="1481" y="934"/>
                  </a:lnTo>
                  <a:lnTo>
                    <a:pt x="1494" y="946"/>
                  </a:lnTo>
                  <a:lnTo>
                    <a:pt x="1512" y="966"/>
                  </a:lnTo>
                  <a:lnTo>
                    <a:pt x="1523" y="984"/>
                  </a:lnTo>
                  <a:lnTo>
                    <a:pt x="1532" y="1003"/>
                  </a:lnTo>
                  <a:lnTo>
                    <a:pt x="1536" y="1030"/>
                  </a:lnTo>
                  <a:lnTo>
                    <a:pt x="1533" y="1056"/>
                  </a:lnTo>
                  <a:lnTo>
                    <a:pt x="1529" y="1078"/>
                  </a:lnTo>
                  <a:lnTo>
                    <a:pt x="1523" y="1107"/>
                  </a:lnTo>
                  <a:lnTo>
                    <a:pt x="1515" y="1138"/>
                  </a:lnTo>
                  <a:lnTo>
                    <a:pt x="1508" y="1167"/>
                  </a:lnTo>
                  <a:lnTo>
                    <a:pt x="1505" y="1191"/>
                  </a:lnTo>
                  <a:lnTo>
                    <a:pt x="1505" y="1210"/>
                  </a:lnTo>
                  <a:lnTo>
                    <a:pt x="1509" y="1239"/>
                  </a:lnTo>
                  <a:lnTo>
                    <a:pt x="1515" y="1263"/>
                  </a:lnTo>
                  <a:lnTo>
                    <a:pt x="1524" y="1281"/>
                  </a:lnTo>
                  <a:lnTo>
                    <a:pt x="1535" y="1299"/>
                  </a:lnTo>
                  <a:lnTo>
                    <a:pt x="1549" y="1318"/>
                  </a:lnTo>
                  <a:lnTo>
                    <a:pt x="1566" y="1337"/>
                  </a:lnTo>
                  <a:lnTo>
                    <a:pt x="1585" y="1354"/>
                  </a:lnTo>
                  <a:lnTo>
                    <a:pt x="1608" y="1367"/>
                  </a:lnTo>
                  <a:lnTo>
                    <a:pt x="1629" y="1375"/>
                  </a:lnTo>
                  <a:lnTo>
                    <a:pt x="1651" y="1381"/>
                  </a:lnTo>
                  <a:lnTo>
                    <a:pt x="1674" y="1384"/>
                  </a:lnTo>
                  <a:lnTo>
                    <a:pt x="1701" y="1385"/>
                  </a:lnTo>
                  <a:lnTo>
                    <a:pt x="1728" y="1384"/>
                  </a:lnTo>
                  <a:close/>
                </a:path>
              </a:pathLst>
            </a:custGeom>
            <a:solidFill>
              <a:srgbClr val="9933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961280" y="4581360"/>
              <a:ext cx="1767240" cy="119124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22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SDAI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INVERSE attribut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47680" y="1143000"/>
            <a:ext cx="8572320" cy="4896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-38088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very attribute which as an entity as its data type, establishes an entity relationship.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952560" indent="-3808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In both directions!!!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52560" indent="-3808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By default the inverse cardinality is [0:?]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Inverse attributes are declared following the 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INVERSE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 keyword.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0880" indent="-38088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he INVERSE clause constrains the relationship in the </a:t>
            </a:r>
            <a:r>
              <a:rPr b="1" i="1" lang="en-GB" sz="2800" spc="-1" strike="noStrike">
                <a:solidFill>
                  <a:srgbClr val="ffff00"/>
                </a:solidFill>
                <a:latin typeface="Arial"/>
              </a:rPr>
              <a:t>inverse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 direction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952560" indent="-3808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n inverse attribute captures the relationship between the entity being referred to, and the named attribute of the referencing entity.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INVERSE attributes (Example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TITY </a:t>
            </a:r>
            <a:r>
              <a:rPr b="1" lang="en-GB" sz="1800" spc="-1" strike="noStrike">
                <a:solidFill>
                  <a:srgbClr val="66ff33"/>
                </a:solidFill>
                <a:latin typeface="Arial"/>
              </a:rPr>
              <a:t>analysis_model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...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INVERSE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component_elements : SET [1:?] OF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lement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FOR </a:t>
            </a:r>
            <a:r>
              <a:rPr b="1" lang="en-GB" sz="1800" spc="-1" strike="noStrike">
                <a:solidFill>
                  <a:srgbClr val="66ff33"/>
                </a:solidFill>
                <a:latin typeface="Arial"/>
              </a:rPr>
              <a:t>parent_model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component_nodes : SET [2:?] OF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node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FOR </a:t>
            </a:r>
            <a:r>
              <a:rPr b="1" lang="en-GB" sz="1800" spc="-1" strike="noStrike">
                <a:solidFill>
                  <a:srgbClr val="66ff33"/>
                </a:solidFill>
                <a:latin typeface="Arial"/>
              </a:rPr>
              <a:t>parent_model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D_ENTITY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TITY node;</a:t>
            </a:r>
            <a:br>
              <a:rPr sz="1800"/>
            </a:b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node_name : label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...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66ff33"/>
                </a:solidFill>
                <a:latin typeface="Arial"/>
              </a:rPr>
              <a:t>parent_model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: </a:t>
            </a:r>
            <a:r>
              <a:rPr b="1" lang="en-GB" sz="1800" spc="-1" strike="noStrike">
                <a:solidFill>
                  <a:srgbClr val="66ff33"/>
                </a:solidFill>
                <a:latin typeface="Arial"/>
              </a:rPr>
              <a:t>analysis_model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UNIQUE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UR1 : node_name, parent_model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D_ENTITY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251600" y="3713040"/>
            <a:ext cx="5270400" cy="23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08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TITYel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lement_name : lab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parent_model : </a:t>
            </a:r>
            <a:r>
              <a:rPr b="1" lang="en-GB" sz="1800" spc="-1" strike="noStrike">
                <a:solidFill>
                  <a:srgbClr val="66ff33"/>
                </a:solidFill>
                <a:latin typeface="Arial"/>
              </a:rPr>
              <a:t>analysis_model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UNIQ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UR1 : element_name, parent_mod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D_ENTIT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2193840" y="2712960"/>
            <a:ext cx="3422520" cy="1025640"/>
            <a:chOff x="2193840" y="2712960"/>
            <a:chExt cx="3422520" cy="1025640"/>
          </a:xfrm>
        </p:grpSpPr>
        <p:sp>
          <p:nvSpPr>
            <p:cNvPr id="153" name=""/>
            <p:cNvSpPr/>
            <p:nvPr/>
          </p:nvSpPr>
          <p:spPr>
            <a:xfrm>
              <a:off x="2193840" y="3030480"/>
              <a:ext cx="663840" cy="708120"/>
            </a:xfrm>
            <a:prstGeom prst="upDownArrow">
              <a:avLst>
                <a:gd name="adj1" fmla="val 50000"/>
                <a:gd name="adj2" fmla="val 21235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937040" y="2712960"/>
              <a:ext cx="663840" cy="909720"/>
            </a:xfrm>
            <a:prstGeom prst="upDownArrow">
              <a:avLst>
                <a:gd name="adj1" fmla="val 50000"/>
                <a:gd name="adj2" fmla="val 27281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328120" y="3127320"/>
              <a:ext cx="328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3300"/>
                  </a:solidFill>
                  <a:latin typeface="Univers"/>
                </a:rPr>
                <a:t>mutual dependency!!!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6" name=""/>
          <p:cNvGraphicFramePr/>
          <p:nvPr/>
        </p:nvGraphicFramePr>
        <p:xfrm>
          <a:off x="47520" y="85680"/>
          <a:ext cx="9191880" cy="10522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520" y="85680"/>
                    <a:ext cx="9191880" cy="1052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8" name=""/>
          <p:cNvGraphicFramePr/>
          <p:nvPr/>
        </p:nvGraphicFramePr>
        <p:xfrm>
          <a:off x="9360" y="-4761000"/>
          <a:ext cx="9191880" cy="10522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360" y="-4761000"/>
                    <a:ext cx="9191880" cy="1052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XPRESS-G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420720" y="877680"/>
            <a:ext cx="5576760" cy="25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 Graphical form of EXRES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Used to illustrated EXPRESS data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Presents a limited subset of EXPRESS languag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8173800" y="4235400"/>
            <a:ext cx="66096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ab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125360" y="3678120"/>
            <a:ext cx="287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7578720" y="5235480"/>
            <a:ext cx="1235160" cy="552600"/>
            <a:chOff x="7578720" y="5235480"/>
            <a:chExt cx="1235160" cy="552600"/>
          </a:xfrm>
        </p:grpSpPr>
        <p:sp>
          <p:nvSpPr>
            <p:cNvPr id="165" name=""/>
            <p:cNvSpPr/>
            <p:nvPr/>
          </p:nvSpPr>
          <p:spPr>
            <a:xfrm>
              <a:off x="7578720" y="5403600"/>
              <a:ext cx="123516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TR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083440" y="5235480"/>
              <a:ext cx="15264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V="1">
              <a:off x="8672400" y="5411520"/>
              <a:ext cx="0" cy="376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3063960" y="4978440"/>
            <a:ext cx="4004280" cy="1009440"/>
            <a:chOff x="3063960" y="4978440"/>
            <a:chExt cx="4004280" cy="1009440"/>
          </a:xfrm>
        </p:grpSpPr>
        <p:sp>
          <p:nvSpPr>
            <p:cNvPr id="169" name=""/>
            <p:cNvSpPr/>
            <p:nvPr/>
          </p:nvSpPr>
          <p:spPr>
            <a:xfrm>
              <a:off x="3304440" y="5145120"/>
              <a:ext cx="916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i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063960" y="530532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440600" y="4978440"/>
              <a:ext cx="751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2" name=""/>
            <p:cNvGrpSpPr/>
            <p:nvPr/>
          </p:nvGrpSpPr>
          <p:grpSpPr>
            <a:xfrm>
              <a:off x="5311800" y="5110200"/>
              <a:ext cx="1756440" cy="374400"/>
              <a:chOff x="5311800" y="5110200"/>
              <a:chExt cx="1756440" cy="374400"/>
            </a:xfrm>
          </p:grpSpPr>
          <p:sp>
            <p:nvSpPr>
              <p:cNvPr id="173" name=""/>
              <p:cNvSpPr/>
              <p:nvPr/>
            </p:nvSpPr>
            <p:spPr>
              <a:xfrm>
                <a:off x="5311800" y="526248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5468760" y="5113440"/>
                <a:ext cx="1599480" cy="368280"/>
              </a:xfrm>
              <a:prstGeom prst="rect">
                <a:avLst/>
              </a:prstGeom>
              <a:solidFill>
                <a:srgbClr val="66ff33"/>
              </a:solidFill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si_unit_nam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 flipV="1">
                <a:off x="6969960" y="5110200"/>
                <a:ext cx="0" cy="374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6" name=""/>
            <p:cNvGrpSpPr/>
            <p:nvPr/>
          </p:nvGrpSpPr>
          <p:grpSpPr>
            <a:xfrm>
              <a:off x="5325840" y="5613120"/>
              <a:ext cx="1339200" cy="374760"/>
              <a:chOff x="5325840" y="5613120"/>
              <a:chExt cx="1339200" cy="374760"/>
            </a:xfrm>
          </p:grpSpPr>
          <p:sp>
            <p:nvSpPr>
              <p:cNvPr id="177" name=""/>
              <p:cNvSpPr/>
              <p:nvPr/>
            </p:nvSpPr>
            <p:spPr>
              <a:xfrm>
                <a:off x="5325840" y="575172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5482800" y="5616720"/>
                <a:ext cx="1182240" cy="368280"/>
              </a:xfrm>
              <a:prstGeom prst="rect">
                <a:avLst/>
              </a:prstGeom>
              <a:solidFill>
                <a:srgbClr val="66ff33"/>
              </a:solidFill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si_prefix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 flipV="1">
                <a:off x="6567120" y="5613120"/>
                <a:ext cx="0" cy="374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180" name=""/>
            <p:cNvCxnSpPr>
              <a:stCxn id="169" idx="3"/>
              <a:endCxn id="173" idx="2"/>
            </p:cNvCxnSpPr>
            <p:nvPr/>
          </p:nvCxnSpPr>
          <p:spPr>
            <a:xfrm flipV="1">
              <a:off x="4250880" y="5338080"/>
              <a:ext cx="1046520" cy="198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81" name=""/>
            <p:cNvCxnSpPr>
              <a:stCxn id="169" idx="2"/>
              <a:endCxn id="177" idx="2"/>
            </p:cNvCxnSpPr>
            <p:nvPr/>
          </p:nvCxnSpPr>
          <p:spPr>
            <a:xfrm flipH="1" rot="16200000">
              <a:off x="4415400" y="4932360"/>
              <a:ext cx="243360" cy="1548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82" name=""/>
            <p:cNvSpPr/>
            <p:nvPr/>
          </p:nvSpPr>
          <p:spPr>
            <a:xfrm>
              <a:off x="4440240" y="5469120"/>
              <a:ext cx="7390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prefi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83" name=""/>
          <p:cNvCxnSpPr>
            <a:stCxn id="184" idx="2"/>
            <a:endCxn id="170" idx="2"/>
          </p:cNvCxnSpPr>
          <p:nvPr/>
        </p:nvCxnSpPr>
        <p:spPr>
          <a:xfrm flipH="1" rot="16200000">
            <a:off x="2482920" y="4846320"/>
            <a:ext cx="770400" cy="33552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sp>
        <p:nvSpPr>
          <p:cNvPr id="185" name=""/>
          <p:cNvSpPr/>
          <p:nvPr/>
        </p:nvSpPr>
        <p:spPr>
          <a:xfrm>
            <a:off x="312840" y="1338120"/>
            <a:ext cx="2318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1131840" y="2548080"/>
            <a:ext cx="690480" cy="592560"/>
            <a:chOff x="1131840" y="2548080"/>
            <a:chExt cx="690480" cy="592560"/>
          </a:xfrm>
        </p:grpSpPr>
        <p:sp>
          <p:nvSpPr>
            <p:cNvPr id="187" name=""/>
            <p:cNvSpPr/>
            <p:nvPr/>
          </p:nvSpPr>
          <p:spPr>
            <a:xfrm>
              <a:off x="1131840" y="2770200"/>
              <a:ext cx="690480" cy="36828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uni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382400" y="2548080"/>
              <a:ext cx="18684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1241280" y="2752200"/>
              <a:ext cx="0" cy="38844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90" name=""/>
          <p:cNvCxnSpPr>
            <a:stCxn id="185" idx="2"/>
            <a:endCxn id="188" idx="0"/>
          </p:cNvCxnSpPr>
          <p:nvPr/>
        </p:nvCxnSpPr>
        <p:spPr>
          <a:xfrm>
            <a:off x="1472760" y="1777680"/>
            <a:ext cx="3960" cy="7563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191" name=""/>
          <p:cNvGrpSpPr/>
          <p:nvPr/>
        </p:nvGrpSpPr>
        <p:grpSpPr>
          <a:xfrm>
            <a:off x="1693800" y="3598920"/>
            <a:ext cx="1792440" cy="398880"/>
            <a:chOff x="1693800" y="3598920"/>
            <a:chExt cx="1792440" cy="398880"/>
          </a:xfrm>
        </p:grpSpPr>
        <p:sp>
          <p:nvSpPr>
            <p:cNvPr id="192" name=""/>
            <p:cNvSpPr/>
            <p:nvPr/>
          </p:nvSpPr>
          <p:spPr>
            <a:xfrm>
              <a:off x="1917000" y="3598920"/>
              <a:ext cx="1569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derived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693800" y="3700440"/>
              <a:ext cx="18756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4" name=""/>
          <p:cNvGrpSpPr/>
          <p:nvPr/>
        </p:nvGrpSpPr>
        <p:grpSpPr>
          <a:xfrm>
            <a:off x="1720800" y="4189320"/>
            <a:ext cx="1734840" cy="398880"/>
            <a:chOff x="1720800" y="4189320"/>
            <a:chExt cx="1734840" cy="398880"/>
          </a:xfrm>
        </p:grpSpPr>
        <p:sp>
          <p:nvSpPr>
            <p:cNvPr id="184" name=""/>
            <p:cNvSpPr/>
            <p:nvPr/>
          </p:nvSpPr>
          <p:spPr>
            <a:xfrm>
              <a:off x="1944360" y="4189320"/>
              <a:ext cx="1511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named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720800" y="4290840"/>
              <a:ext cx="187200" cy="187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96" name=""/>
          <p:cNvCxnSpPr>
            <a:stCxn id="187" idx="2"/>
            <a:endCxn id="195" idx="2"/>
          </p:cNvCxnSpPr>
          <p:nvPr/>
        </p:nvCxnSpPr>
        <p:spPr>
          <a:xfrm flipH="1" rot="16200000">
            <a:off x="988560" y="3667680"/>
            <a:ext cx="1205640" cy="2293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97" name=""/>
          <p:cNvCxnSpPr>
            <a:stCxn id="187" idx="2"/>
            <a:endCxn id="193" idx="2"/>
          </p:cNvCxnSpPr>
          <p:nvPr/>
        </p:nvCxnSpPr>
        <p:spPr>
          <a:xfrm flipH="1" rot="16200000">
            <a:off x="1271520" y="3385800"/>
            <a:ext cx="614880" cy="2023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98" name=""/>
          <p:cNvSpPr/>
          <p:nvPr/>
        </p:nvSpPr>
        <p:spPr>
          <a:xfrm>
            <a:off x="1438560" y="2023920"/>
            <a:ext cx="180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t_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85760" y="1665360"/>
            <a:ext cx="103320" cy="1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424160" y="1674720"/>
            <a:ext cx="102960" cy="1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3960720" y="4056120"/>
            <a:ext cx="4189320" cy="508680"/>
            <a:chOff x="3960720" y="4056120"/>
            <a:chExt cx="4189320" cy="508680"/>
          </a:xfrm>
        </p:grpSpPr>
        <p:sp>
          <p:nvSpPr>
            <p:cNvPr id="202" name=""/>
            <p:cNvSpPr/>
            <p:nvPr/>
          </p:nvSpPr>
          <p:spPr>
            <a:xfrm>
              <a:off x="4197600" y="4165920"/>
              <a:ext cx="28994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context_dependent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960720" y="431172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183800" y="4056120"/>
              <a:ext cx="751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7111440" y="4424400"/>
              <a:ext cx="870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997760" y="434052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07" name=""/>
          <p:cNvCxnSpPr>
            <a:stCxn id="184" idx="3"/>
            <a:endCxn id="203" idx="2"/>
          </p:cNvCxnSpPr>
          <p:nvPr/>
        </p:nvCxnSpPr>
        <p:spPr>
          <a:xfrm>
            <a:off x="3484440" y="4401720"/>
            <a:ext cx="448560" cy="3960"/>
          </a:xfrm>
          <a:prstGeom prst="bentConnector3">
            <a:avLst>
              <a:gd name="adj1" fmla="val 51405"/>
            </a:avLst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208" name=""/>
          <p:cNvCxnSpPr>
            <a:stCxn id="162" idx="2"/>
            <a:endCxn id="166" idx="0"/>
          </p:cNvCxnSpPr>
          <p:nvPr/>
        </p:nvCxnSpPr>
        <p:spPr>
          <a:xfrm rot="5400000">
            <a:off x="8043120" y="4760640"/>
            <a:ext cx="577080" cy="345240"/>
          </a:xfrm>
          <a:prstGeom prst="bentConnector3">
            <a:avLst>
              <a:gd name="adj1" fmla="val 49812"/>
            </a:avLst>
          </a:prstGeom>
          <a:ln w="2844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imple &amp; Defined Data typ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370320" y="166860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tem_num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878080" y="2508120"/>
            <a:ext cx="66096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ab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730840" y="42800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3" name=""/>
          <p:cNvCxnSpPr>
            <a:stCxn id="214" idx="2"/>
            <a:endCxn id="212" idx="2"/>
          </p:cNvCxnSpPr>
          <p:nvPr/>
        </p:nvCxnSpPr>
        <p:spPr>
          <a:xfrm flipH="1" rot="16200000">
            <a:off x="2640240" y="1280880"/>
            <a:ext cx="2085120" cy="4065840"/>
          </a:xfrm>
          <a:prstGeom prst="bentConnector2">
            <a:avLst/>
          </a:prstGeom>
          <a:ln w="28440">
            <a:solidFill>
              <a:srgbClr val="000000"/>
            </a:solidFill>
            <a:prstDash val="dash"/>
            <a:miter/>
          </a:ln>
        </p:spPr>
      </p:cxnSp>
      <p:sp>
        <p:nvSpPr>
          <p:cNvPr id="215" name=""/>
          <p:cNvSpPr/>
          <p:nvPr/>
        </p:nvSpPr>
        <p:spPr>
          <a:xfrm>
            <a:off x="5688000" y="26449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"/>
          <p:cNvCxnSpPr>
            <a:stCxn id="214" idx="3"/>
            <a:endCxn id="217" idx="2"/>
          </p:cNvCxnSpPr>
          <p:nvPr/>
        </p:nvCxnSpPr>
        <p:spPr>
          <a:xfrm>
            <a:off x="3025800" y="2044440"/>
            <a:ext cx="2370960" cy="10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17" name=""/>
          <p:cNvSpPr/>
          <p:nvPr/>
        </p:nvSpPr>
        <p:spPr>
          <a:xfrm>
            <a:off x="5410080" y="196848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89080" y="1832040"/>
            <a:ext cx="27223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uctural_frame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034640" y="1206360"/>
            <a:ext cx="102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Ent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275800" y="1206360"/>
            <a:ext cx="18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Data Typ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935680" y="4118040"/>
            <a:ext cx="54936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471480" y="2317680"/>
            <a:ext cx="130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tem_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205440" y="3941640"/>
            <a:ext cx="184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tem_descri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316320" y="1206360"/>
            <a:ext cx="16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Attribu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309800" y="1797120"/>
            <a:ext cx="11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Si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250400" y="4051440"/>
            <a:ext cx="12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Defin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5600880" y="1836360"/>
            <a:ext cx="1363320" cy="376200"/>
            <a:chOff x="5600880" y="1836360"/>
            <a:chExt cx="1363320" cy="376200"/>
          </a:xfrm>
        </p:grpSpPr>
        <p:sp>
          <p:nvSpPr>
            <p:cNvPr id="227" name=""/>
            <p:cNvSpPr/>
            <p:nvPr/>
          </p:nvSpPr>
          <p:spPr>
            <a:xfrm>
              <a:off x="5600880" y="1836720"/>
              <a:ext cx="136332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INTEG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 flipV="1">
              <a:off x="6823080" y="1836360"/>
              <a:ext cx="0" cy="376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9" name=""/>
          <p:cNvSpPr/>
          <p:nvPr/>
        </p:nvSpPr>
        <p:spPr>
          <a:xfrm>
            <a:off x="2338560" y="2038320"/>
            <a:ext cx="28728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2"/>
            <a:endCxn id="215" idx="2"/>
          </p:cNvCxnSpPr>
          <p:nvPr/>
        </p:nvCxnSpPr>
        <p:spPr>
          <a:xfrm flipH="1" rot="16200000">
            <a:off x="3836880" y="884880"/>
            <a:ext cx="481680" cy="31914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231" name=""/>
          <p:cNvGrpSpPr/>
          <p:nvPr/>
        </p:nvGrpSpPr>
        <p:grpSpPr>
          <a:xfrm>
            <a:off x="5629320" y="3135240"/>
            <a:ext cx="1234800" cy="744480"/>
            <a:chOff x="5629320" y="3135240"/>
            <a:chExt cx="1234800" cy="744480"/>
          </a:xfrm>
        </p:grpSpPr>
        <p:sp>
          <p:nvSpPr>
            <p:cNvPr id="232" name=""/>
            <p:cNvSpPr/>
            <p:nvPr/>
          </p:nvSpPr>
          <p:spPr>
            <a:xfrm>
              <a:off x="5629320" y="3303720"/>
              <a:ext cx="123480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TR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134040" y="313524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V="1">
              <a:off x="6723000" y="3311280"/>
              <a:ext cx="0" cy="376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134040" y="372744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36" name=""/>
          <p:cNvCxnSpPr>
            <a:stCxn id="220" idx="0"/>
            <a:endCxn id="235" idx="4"/>
          </p:cNvCxnSpPr>
          <p:nvPr/>
        </p:nvCxnSpPr>
        <p:spPr>
          <a:xfrm flipV="1">
            <a:off x="6210000" y="3893760"/>
            <a:ext cx="1080" cy="2102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237" name=""/>
          <p:cNvCxnSpPr>
            <a:stCxn id="211" idx="2"/>
            <a:endCxn id="233" idx="0"/>
          </p:cNvCxnSpPr>
          <p:nvPr/>
        </p:nvCxnSpPr>
        <p:spPr>
          <a:xfrm flipH="1" rot="16200000">
            <a:off x="6106680" y="3018240"/>
            <a:ext cx="204120" cy="252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7250400" y="2548080"/>
            <a:ext cx="12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Defin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309800" y="3255840"/>
            <a:ext cx="11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Si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-119160" y="4595760"/>
            <a:ext cx="48740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TITY structural_frame_item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tem_number : INTEGER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tem_name : lab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tem_description : OPTIONAL text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604160" y="3375000"/>
            <a:ext cx="230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Arial"/>
              </a:rPr>
              <a:t>Optional attribu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ntity Data Typ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438360" y="178596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5" idx="3"/>
            <a:endCxn id="243" idx="2"/>
          </p:cNvCxnSpPr>
          <p:nvPr/>
        </p:nvCxnSpPr>
        <p:spPr>
          <a:xfrm>
            <a:off x="1825200" y="1857240"/>
            <a:ext cx="1599480" cy="57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46" name=""/>
          <p:cNvSpPr/>
          <p:nvPr/>
        </p:nvSpPr>
        <p:spPr>
          <a:xfrm>
            <a:off x="1987560" y="1495440"/>
            <a:ext cx="1333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imen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617280" y="1644480"/>
            <a:ext cx="28584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mensional_expon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285480" y="1644480"/>
            <a:ext cx="1511280" cy="411120"/>
            <a:chOff x="285480" y="1644480"/>
            <a:chExt cx="1511280" cy="411120"/>
          </a:xfrm>
        </p:grpSpPr>
        <p:sp>
          <p:nvSpPr>
            <p:cNvPr id="245" name=""/>
            <p:cNvSpPr/>
            <p:nvPr/>
          </p:nvSpPr>
          <p:spPr>
            <a:xfrm>
              <a:off x="285480" y="1644480"/>
              <a:ext cx="1511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named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17240" y="1968120"/>
              <a:ext cx="101160" cy="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1500120" y="1968120"/>
              <a:ext cx="101160" cy="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223920" y="3441600"/>
            <a:ext cx="4368600" cy="28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TITY named_uni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imensions : dimensional_exponent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TITY dimensional_exponent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ength_exponent : REA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ass_exponent : REA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ime_exponent : REA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191920" y="3360600"/>
            <a:ext cx="186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ength_ex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stCxn id="247" idx="2"/>
            <a:endCxn id="254" idx="2"/>
          </p:cNvCxnSpPr>
          <p:nvPr/>
        </p:nvCxnSpPr>
        <p:spPr>
          <a:xfrm flipH="1" rot="16200000">
            <a:off x="5782320" y="1347480"/>
            <a:ext cx="1129320" cy="26024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55" name=""/>
          <p:cNvSpPr/>
          <p:nvPr/>
        </p:nvSpPr>
        <p:spPr>
          <a:xfrm>
            <a:off x="485280" y="1092240"/>
            <a:ext cx="102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Ent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865160" y="1092240"/>
            <a:ext cx="16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Attribu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754080" y="1092240"/>
            <a:ext cx="256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Entity Data 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551920" y="2825640"/>
            <a:ext cx="178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ass_ex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026400" y="2276640"/>
            <a:ext cx="167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ime_ex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0" name=""/>
          <p:cNvCxnSpPr>
            <a:stCxn id="261" idx="2"/>
            <a:endCxn id="262" idx="2"/>
          </p:cNvCxnSpPr>
          <p:nvPr/>
        </p:nvCxnSpPr>
        <p:spPr>
          <a:xfrm flipH="1" rot="16200000">
            <a:off x="5022000" y="1124280"/>
            <a:ext cx="1694520" cy="35568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61" name=""/>
          <p:cNvSpPr/>
          <p:nvPr/>
        </p:nvSpPr>
        <p:spPr>
          <a:xfrm>
            <a:off x="3954600" y="1897200"/>
            <a:ext cx="27288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4" idx="2"/>
            <a:endCxn id="265" idx="2"/>
          </p:cNvCxnSpPr>
          <p:nvPr/>
        </p:nvCxnSpPr>
        <p:spPr>
          <a:xfrm flipH="1" rot="16200000">
            <a:off x="6483960" y="1516320"/>
            <a:ext cx="624600" cy="17028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64" name=""/>
          <p:cNvSpPr/>
          <p:nvPr/>
        </p:nvSpPr>
        <p:spPr>
          <a:xfrm>
            <a:off x="5808600" y="1897200"/>
            <a:ext cx="2732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823160" y="3022560"/>
            <a:ext cx="94464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8669160" y="3022200"/>
            <a:ext cx="0" cy="376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62960" y="31370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7661160" y="367344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824960" y="3527280"/>
            <a:ext cx="94428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8642520" y="3527280"/>
            <a:ext cx="0" cy="376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0" name=""/>
          <p:cNvGrpSpPr/>
          <p:nvPr/>
        </p:nvGrpSpPr>
        <p:grpSpPr>
          <a:xfrm>
            <a:off x="7661160" y="2487240"/>
            <a:ext cx="1123920" cy="376200"/>
            <a:chOff x="7661160" y="2487240"/>
            <a:chExt cx="1123920" cy="376200"/>
          </a:xfrm>
        </p:grpSpPr>
        <p:sp>
          <p:nvSpPr>
            <p:cNvPr id="265" name=""/>
            <p:cNvSpPr/>
            <p:nvPr/>
          </p:nvSpPr>
          <p:spPr>
            <a:xfrm>
              <a:off x="7661160" y="260352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7840440" y="2487600"/>
              <a:ext cx="94464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8658000" y="2487240"/>
              <a:ext cx="0" cy="376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upertypes &amp; Subtyp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111320" y="1268280"/>
            <a:ext cx="27223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uctural_frame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5" name=""/>
          <p:cNvGrpSpPr/>
          <p:nvPr/>
        </p:nvGrpSpPr>
        <p:grpSpPr>
          <a:xfrm>
            <a:off x="919080" y="2400480"/>
            <a:ext cx="3119400" cy="626040"/>
            <a:chOff x="919080" y="2400480"/>
            <a:chExt cx="3119400" cy="626040"/>
          </a:xfrm>
        </p:grpSpPr>
        <p:sp>
          <p:nvSpPr>
            <p:cNvPr id="276" name=""/>
            <p:cNvSpPr/>
            <p:nvPr/>
          </p:nvSpPr>
          <p:spPr>
            <a:xfrm>
              <a:off x="919080" y="2629080"/>
              <a:ext cx="3119400" cy="39744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tructural_frame_produ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371680" y="24004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78" name=""/>
          <p:cNvCxnSpPr>
            <a:stCxn id="274" idx="2"/>
            <a:endCxn id="277" idx="0"/>
          </p:cNvCxnSpPr>
          <p:nvPr/>
        </p:nvCxnSpPr>
        <p:spPr>
          <a:xfrm rot="5400000">
            <a:off x="2136960" y="2035800"/>
            <a:ext cx="664200" cy="8640"/>
          </a:xfrm>
          <a:prstGeom prst="bentConnector3">
            <a:avLst>
              <a:gd name="adj1" fmla="val 50921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279" name=""/>
          <p:cNvSpPr/>
          <p:nvPr/>
        </p:nvSpPr>
        <p:spPr>
          <a:xfrm>
            <a:off x="2170080" y="1817640"/>
            <a:ext cx="31752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853800" y="1239840"/>
            <a:ext cx="166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Super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4052880" y="2411280"/>
            <a:ext cx="4834440" cy="1326600"/>
            <a:chOff x="4052880" y="2411280"/>
            <a:chExt cx="4834440" cy="1326600"/>
          </a:xfrm>
        </p:grpSpPr>
        <p:grpSp>
          <p:nvGrpSpPr>
            <p:cNvPr id="282" name=""/>
            <p:cNvGrpSpPr/>
            <p:nvPr/>
          </p:nvGrpSpPr>
          <p:grpSpPr>
            <a:xfrm>
              <a:off x="4052880" y="2411280"/>
              <a:ext cx="4834440" cy="762840"/>
              <a:chOff x="4052880" y="2411280"/>
              <a:chExt cx="4834440" cy="762840"/>
            </a:xfrm>
          </p:grpSpPr>
          <p:grpSp>
            <p:nvGrpSpPr>
              <p:cNvPr id="283" name=""/>
              <p:cNvGrpSpPr/>
              <p:nvPr/>
            </p:nvGrpSpPr>
            <p:grpSpPr>
              <a:xfrm>
                <a:off x="5656320" y="2470320"/>
                <a:ext cx="3231000" cy="703800"/>
                <a:chOff x="5656320" y="2470320"/>
                <a:chExt cx="3231000" cy="703800"/>
              </a:xfrm>
            </p:grpSpPr>
            <p:sp>
              <p:nvSpPr>
                <p:cNvPr id="284" name=""/>
                <p:cNvSpPr/>
                <p:nvPr/>
              </p:nvSpPr>
              <p:spPr>
                <a:xfrm>
                  <a:off x="5873400" y="2470320"/>
                  <a:ext cx="3013920" cy="703800"/>
                </a:xfrm>
                <a:prstGeom prst="rect">
                  <a:avLst/>
                </a:prstGeom>
                <a:solidFill>
                  <a:srgbClr val="ffff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Arial"/>
                    </a:rPr>
                    <a:t>structural_frame_product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Arial"/>
                    </a:rPr>
                    <a:t>_with_material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5656320" y="2746440"/>
                  <a:ext cx="181080" cy="187200"/>
                </a:xfrm>
                <a:prstGeom prst="ellipse">
                  <a:avLst/>
                </a:prstGeom>
                <a:solidFill>
                  <a:srgbClr val="ffffff"/>
                </a:solidFill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cxnSp>
            <p:nvCxnSpPr>
              <p:cNvPr id="286" name=""/>
              <p:cNvCxnSpPr>
                <a:stCxn id="276" idx="3"/>
                <a:endCxn id="285" idx="2"/>
              </p:cNvCxnSpPr>
              <p:nvPr/>
            </p:nvCxnSpPr>
            <p:spPr>
              <a:xfrm flipV="1">
                <a:off x="4052880" y="2839680"/>
                <a:ext cx="1575360" cy="2160"/>
              </a:xfrm>
              <a:prstGeom prst="bentConnector3">
                <a:avLst>
                  <a:gd name="adj1" fmla="val 50400"/>
                </a:avLst>
              </a:prstGeom>
              <a:ln w="76320">
                <a:solidFill>
                  <a:srgbClr val="000000"/>
                </a:solidFill>
                <a:miter/>
              </a:ln>
            </p:spPr>
          </p:cxnSp>
          <p:sp>
            <p:nvSpPr>
              <p:cNvPr id="287" name=""/>
              <p:cNvSpPr/>
              <p:nvPr/>
            </p:nvSpPr>
            <p:spPr>
              <a:xfrm>
                <a:off x="4454640" y="2411280"/>
                <a:ext cx="100584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ffffff"/>
                    </a:solidFill>
                    <a:latin typeface="Arial"/>
                  </a:rPr>
                  <a:t>ANDOR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8" name=""/>
            <p:cNvSpPr/>
            <p:nvPr/>
          </p:nvSpPr>
          <p:spPr>
            <a:xfrm>
              <a:off x="6691680" y="3278160"/>
              <a:ext cx="1381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ffff"/>
                  </a:solidFill>
                  <a:latin typeface="Arial"/>
                </a:rPr>
                <a:t>Subtyp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9" name=""/>
          <p:cNvGrpSpPr/>
          <p:nvPr/>
        </p:nvGrpSpPr>
        <p:grpSpPr>
          <a:xfrm>
            <a:off x="313560" y="3068280"/>
            <a:ext cx="2851200" cy="2788560"/>
            <a:chOff x="313560" y="3068280"/>
            <a:chExt cx="2851200" cy="2788560"/>
          </a:xfrm>
        </p:grpSpPr>
        <p:grpSp>
          <p:nvGrpSpPr>
            <p:cNvPr id="290" name=""/>
            <p:cNvGrpSpPr/>
            <p:nvPr/>
          </p:nvGrpSpPr>
          <p:grpSpPr>
            <a:xfrm>
              <a:off x="313560" y="3068280"/>
              <a:ext cx="2166120" cy="2788560"/>
              <a:chOff x="313560" y="3068280"/>
              <a:chExt cx="2166120" cy="2788560"/>
            </a:xfrm>
          </p:grpSpPr>
          <p:grpSp>
            <p:nvGrpSpPr>
              <p:cNvPr id="291" name=""/>
              <p:cNvGrpSpPr/>
              <p:nvPr/>
            </p:nvGrpSpPr>
            <p:grpSpPr>
              <a:xfrm>
                <a:off x="949680" y="4068720"/>
                <a:ext cx="858240" cy="398880"/>
                <a:chOff x="949680" y="4068720"/>
                <a:chExt cx="858240" cy="398880"/>
              </a:xfrm>
            </p:grpSpPr>
            <p:sp>
              <p:nvSpPr>
                <p:cNvPr id="292" name=""/>
                <p:cNvSpPr/>
                <p:nvPr/>
              </p:nvSpPr>
              <p:spPr>
                <a:xfrm>
                  <a:off x="949680" y="4068720"/>
                  <a:ext cx="619560" cy="398880"/>
                </a:xfrm>
                <a:prstGeom prst="rect">
                  <a:avLst/>
                </a:prstGeom>
                <a:solidFill>
                  <a:srgbClr val="ffff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Arial"/>
                    </a:rPr>
                    <a:t>part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1620720" y="4170240"/>
                  <a:ext cx="187200" cy="187560"/>
                </a:xfrm>
                <a:prstGeom prst="ellipse">
                  <a:avLst/>
                </a:prstGeom>
                <a:solidFill>
                  <a:srgbClr val="ffffff"/>
                </a:solidFill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4" name=""/>
              <p:cNvGrpSpPr/>
              <p:nvPr/>
            </p:nvGrpSpPr>
            <p:grpSpPr>
              <a:xfrm>
                <a:off x="573480" y="3541680"/>
                <a:ext cx="1234440" cy="398880"/>
                <a:chOff x="573480" y="3541680"/>
                <a:chExt cx="1234440" cy="398880"/>
              </a:xfrm>
            </p:grpSpPr>
            <p:sp>
              <p:nvSpPr>
                <p:cNvPr id="295" name=""/>
                <p:cNvSpPr/>
                <p:nvPr/>
              </p:nvSpPr>
              <p:spPr>
                <a:xfrm>
                  <a:off x="573480" y="3541680"/>
                  <a:ext cx="1002240" cy="398880"/>
                </a:xfrm>
                <a:prstGeom prst="rect">
                  <a:avLst/>
                </a:prstGeom>
                <a:solidFill>
                  <a:srgbClr val="ffff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Arial"/>
                    </a:rPr>
                    <a:t>coating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1620720" y="3657600"/>
                  <a:ext cx="187200" cy="187200"/>
                </a:xfrm>
                <a:prstGeom prst="ellipse">
                  <a:avLst/>
                </a:prstGeom>
                <a:solidFill>
                  <a:srgbClr val="ffffff"/>
                </a:solidFill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7" name=""/>
              <p:cNvGrpSpPr/>
              <p:nvPr/>
            </p:nvGrpSpPr>
            <p:grpSpPr>
              <a:xfrm>
                <a:off x="472320" y="4589640"/>
                <a:ext cx="1335240" cy="398880"/>
                <a:chOff x="472320" y="4589640"/>
                <a:chExt cx="1335240" cy="398880"/>
              </a:xfrm>
            </p:grpSpPr>
            <p:sp>
              <p:nvSpPr>
                <p:cNvPr id="298" name=""/>
                <p:cNvSpPr/>
                <p:nvPr/>
              </p:nvSpPr>
              <p:spPr>
                <a:xfrm>
                  <a:off x="472320" y="4589640"/>
                  <a:ext cx="1101240" cy="398880"/>
                </a:xfrm>
                <a:prstGeom prst="rect">
                  <a:avLst/>
                </a:prstGeom>
                <a:solidFill>
                  <a:srgbClr val="ffff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Arial"/>
                    </a:rPr>
                    <a:t>fastener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1620360" y="4707000"/>
                  <a:ext cx="187200" cy="187200"/>
                </a:xfrm>
                <a:prstGeom prst="ellipse">
                  <a:avLst/>
                </a:prstGeom>
                <a:solidFill>
                  <a:srgbClr val="ffffff"/>
                </a:solidFill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00" name=""/>
              <p:cNvSpPr/>
              <p:nvPr/>
            </p:nvSpPr>
            <p:spPr>
              <a:xfrm>
                <a:off x="2123640" y="3276720"/>
                <a:ext cx="32328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301" name=""/>
              <p:cNvCxnSpPr>
                <a:stCxn id="276" idx="2"/>
                <a:endCxn id="296" idx="6"/>
              </p:cNvCxnSpPr>
              <p:nvPr/>
            </p:nvCxnSpPr>
            <p:spPr>
              <a:xfrm rot="5400000">
                <a:off x="1816920" y="3088440"/>
                <a:ext cx="682920" cy="643320"/>
              </a:xfrm>
              <a:prstGeom prst="bentConnector2">
                <a:avLst/>
              </a:prstGeom>
              <a:ln w="76320">
                <a:solidFill>
                  <a:srgbClr val="000000"/>
                </a:solidFill>
                <a:miter/>
              </a:ln>
            </p:spPr>
          </p:cxnSp>
          <p:cxnSp>
            <p:nvCxnSpPr>
              <p:cNvPr id="302" name=""/>
              <p:cNvCxnSpPr>
                <a:stCxn id="276" idx="2"/>
                <a:endCxn id="293" idx="6"/>
              </p:cNvCxnSpPr>
              <p:nvPr/>
            </p:nvCxnSpPr>
            <p:spPr>
              <a:xfrm rot="5400000">
                <a:off x="1560240" y="3344760"/>
                <a:ext cx="1196280" cy="643320"/>
              </a:xfrm>
              <a:prstGeom prst="bentConnector2">
                <a:avLst/>
              </a:prstGeom>
              <a:ln w="76320">
                <a:solidFill>
                  <a:srgbClr val="000000"/>
                </a:solidFill>
                <a:miter/>
              </a:ln>
            </p:spPr>
          </p:cxnSp>
          <p:cxnSp>
            <p:nvCxnSpPr>
              <p:cNvPr id="303" name=""/>
              <p:cNvCxnSpPr>
                <a:stCxn id="276" idx="2"/>
                <a:endCxn id="299" idx="6"/>
              </p:cNvCxnSpPr>
              <p:nvPr/>
            </p:nvCxnSpPr>
            <p:spPr>
              <a:xfrm rot="5400000">
                <a:off x="1292040" y="3612960"/>
                <a:ext cx="1732680" cy="643320"/>
              </a:xfrm>
              <a:prstGeom prst="bentConnector2">
                <a:avLst/>
              </a:prstGeom>
              <a:ln w="76320">
                <a:solidFill>
                  <a:srgbClr val="000000"/>
                </a:solidFill>
                <a:miter/>
              </a:ln>
            </p:spPr>
          </p:cxnSp>
          <p:grpSp>
            <p:nvGrpSpPr>
              <p:cNvPr id="304" name=""/>
              <p:cNvGrpSpPr/>
              <p:nvPr/>
            </p:nvGrpSpPr>
            <p:grpSpPr>
              <a:xfrm>
                <a:off x="313560" y="5153040"/>
                <a:ext cx="1479960" cy="703800"/>
                <a:chOff x="313560" y="5153040"/>
                <a:chExt cx="1479960" cy="703800"/>
              </a:xfrm>
            </p:grpSpPr>
            <p:sp>
              <p:nvSpPr>
                <p:cNvPr id="305" name=""/>
                <p:cNvSpPr/>
                <p:nvPr/>
              </p:nvSpPr>
              <p:spPr>
                <a:xfrm>
                  <a:off x="313560" y="5153040"/>
                  <a:ext cx="1258200" cy="703800"/>
                </a:xfrm>
                <a:prstGeom prst="rect">
                  <a:avLst/>
                </a:prstGeom>
                <a:solidFill>
                  <a:srgbClr val="ffff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Arial"/>
                    </a:rPr>
                    <a:t>(ABS)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Arial"/>
                    </a:rPr>
                    <a:t>assembly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>
                  <a:off x="1606320" y="5443200"/>
                  <a:ext cx="187200" cy="187200"/>
                </a:xfrm>
                <a:prstGeom prst="ellipse">
                  <a:avLst/>
                </a:prstGeom>
                <a:solidFill>
                  <a:srgbClr val="ffffff"/>
                </a:solidFill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cxnSp>
            <p:nvCxnSpPr>
              <p:cNvPr id="307" name=""/>
              <p:cNvCxnSpPr>
                <a:stCxn id="276" idx="2"/>
                <a:endCxn id="306" idx="6"/>
              </p:cNvCxnSpPr>
              <p:nvPr/>
            </p:nvCxnSpPr>
            <p:spPr>
              <a:xfrm rot="5400000">
                <a:off x="916200" y="3974040"/>
                <a:ext cx="2469240" cy="658080"/>
              </a:xfrm>
              <a:prstGeom prst="bentConnector2">
                <a:avLst/>
              </a:prstGeom>
              <a:ln w="76320">
                <a:solidFill>
                  <a:srgbClr val="000000"/>
                </a:solidFill>
                <a:miter/>
              </a:ln>
            </p:spPr>
          </p:cxnSp>
        </p:grpSp>
        <p:sp>
          <p:nvSpPr>
            <p:cNvPr id="308" name=""/>
            <p:cNvSpPr/>
            <p:nvPr/>
          </p:nvSpPr>
          <p:spPr>
            <a:xfrm rot="16200000">
              <a:off x="2159280" y="4400640"/>
              <a:ext cx="155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ffff"/>
                  </a:solidFill>
                  <a:latin typeface="Arial"/>
                </a:rPr>
                <a:t>Subtyp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2824560" y="2097000"/>
            <a:ext cx="138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Sub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031920" y="3997440"/>
            <a:ext cx="6287040" cy="22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TITY structural_frame_produ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UPERTYPE OF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ONEOF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(assembly,coating, part, fastener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ANDOR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structural_frame_product_with_materi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UBTYPE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OF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(structural_frame_item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ife_cycle_stage : OPTIONAL lab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numeration Data Typ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312" name=""/>
          <p:cNvGrpSpPr/>
          <p:nvPr/>
        </p:nvGrpSpPr>
        <p:grpSpPr>
          <a:xfrm>
            <a:off x="2847960" y="1933560"/>
            <a:ext cx="4005000" cy="1009440"/>
            <a:chOff x="2847960" y="1933560"/>
            <a:chExt cx="4005000" cy="1009440"/>
          </a:xfrm>
        </p:grpSpPr>
        <p:sp>
          <p:nvSpPr>
            <p:cNvPr id="313" name=""/>
            <p:cNvSpPr/>
            <p:nvPr/>
          </p:nvSpPr>
          <p:spPr>
            <a:xfrm>
              <a:off x="3088800" y="2100240"/>
              <a:ext cx="916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i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847960" y="226044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4224960" y="1933560"/>
              <a:ext cx="751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6" name=""/>
            <p:cNvGrpSpPr/>
            <p:nvPr/>
          </p:nvGrpSpPr>
          <p:grpSpPr>
            <a:xfrm>
              <a:off x="5096160" y="2065320"/>
              <a:ext cx="1756800" cy="374400"/>
              <a:chOff x="5096160" y="2065320"/>
              <a:chExt cx="1756800" cy="374400"/>
            </a:xfrm>
          </p:grpSpPr>
          <p:sp>
            <p:nvSpPr>
              <p:cNvPr id="317" name=""/>
              <p:cNvSpPr/>
              <p:nvPr/>
            </p:nvSpPr>
            <p:spPr>
              <a:xfrm>
                <a:off x="5096160" y="221760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5253120" y="2068560"/>
                <a:ext cx="1599840" cy="368280"/>
              </a:xfrm>
              <a:prstGeom prst="rect">
                <a:avLst/>
              </a:prstGeom>
              <a:solidFill>
                <a:srgbClr val="66ff33"/>
              </a:solidFill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si_unit_nam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flipV="1">
                <a:off x="6754680" y="2065320"/>
                <a:ext cx="0" cy="374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0" name=""/>
            <p:cNvGrpSpPr/>
            <p:nvPr/>
          </p:nvGrpSpPr>
          <p:grpSpPr>
            <a:xfrm>
              <a:off x="5110200" y="2568240"/>
              <a:ext cx="1339920" cy="374760"/>
              <a:chOff x="5110200" y="2568240"/>
              <a:chExt cx="1339920" cy="374760"/>
            </a:xfrm>
          </p:grpSpPr>
          <p:sp>
            <p:nvSpPr>
              <p:cNvPr id="321" name=""/>
              <p:cNvSpPr/>
              <p:nvPr/>
            </p:nvSpPr>
            <p:spPr>
              <a:xfrm>
                <a:off x="5110200" y="2706840"/>
                <a:ext cx="15264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5267520" y="2571840"/>
                <a:ext cx="1182600" cy="368280"/>
              </a:xfrm>
              <a:prstGeom prst="rect">
                <a:avLst/>
              </a:prstGeom>
              <a:solidFill>
                <a:srgbClr val="66ff33"/>
              </a:solidFill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si_prefix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flipV="1">
                <a:off x="6351840" y="2568240"/>
                <a:ext cx="0" cy="374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324" name=""/>
            <p:cNvCxnSpPr>
              <a:stCxn id="313" idx="3"/>
              <a:endCxn id="317" idx="2"/>
            </p:cNvCxnSpPr>
            <p:nvPr/>
          </p:nvCxnSpPr>
          <p:spPr>
            <a:xfrm flipV="1">
              <a:off x="4035600" y="2293200"/>
              <a:ext cx="1046880" cy="198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25" name=""/>
            <p:cNvCxnSpPr>
              <a:stCxn id="313" idx="2"/>
              <a:endCxn id="321" idx="2"/>
            </p:cNvCxnSpPr>
            <p:nvPr/>
          </p:nvCxnSpPr>
          <p:spPr>
            <a:xfrm flipH="1" rot="16200000">
              <a:off x="4200840" y="1887120"/>
              <a:ext cx="243360" cy="15487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326" name=""/>
            <p:cNvSpPr/>
            <p:nvPr/>
          </p:nvSpPr>
          <p:spPr>
            <a:xfrm>
              <a:off x="4224960" y="2424240"/>
              <a:ext cx="7390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prefi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7" name=""/>
          <p:cNvGrpSpPr/>
          <p:nvPr/>
        </p:nvGrpSpPr>
        <p:grpSpPr>
          <a:xfrm>
            <a:off x="1020600" y="1247760"/>
            <a:ext cx="1511280" cy="411120"/>
            <a:chOff x="1020600" y="1247760"/>
            <a:chExt cx="1511280" cy="411120"/>
          </a:xfrm>
        </p:grpSpPr>
        <p:sp>
          <p:nvSpPr>
            <p:cNvPr id="328" name=""/>
            <p:cNvSpPr/>
            <p:nvPr/>
          </p:nvSpPr>
          <p:spPr>
            <a:xfrm>
              <a:off x="1020600" y="1247760"/>
              <a:ext cx="1511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named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1152360" y="1571400"/>
              <a:ext cx="101160" cy="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235240" y="1571400"/>
              <a:ext cx="101160" cy="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1" name=""/>
          <p:cNvCxnSpPr>
            <a:stCxn id="330" idx="2"/>
            <a:endCxn id="314" idx="2"/>
          </p:cNvCxnSpPr>
          <p:nvPr/>
        </p:nvCxnSpPr>
        <p:spPr>
          <a:xfrm flipH="1" rot="16200000">
            <a:off x="2205000" y="1739520"/>
            <a:ext cx="696240" cy="5342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32" name=""/>
          <p:cNvSpPr/>
          <p:nvPr/>
        </p:nvSpPr>
        <p:spPr>
          <a:xfrm>
            <a:off x="1917360" y="180180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970680" y="2068560"/>
            <a:ext cx="207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Enumer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Data Typ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95120" y="2602080"/>
            <a:ext cx="875052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TITY si_unit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UBTYPE OF (named_unit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efix : OPTIONAL si_prefix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ame :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i_unit_name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YPE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i_unit_name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= ENUMERATION OF (METRE, GRAM,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ECOND, AMPERE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KELVIN, MOLE, CANDELA, RADIAN, STERADIAN, HERTZ, NEWTON, PASCAL, JOULE, WATT, COULOMB, VOLT, FARAD, OHM, SIEMENS, WEBER, TESLA, HENRY, DEGREE_CELSIUS, LUMEN, LUX, BECQUEREL, GRAY, SIEVERT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_TYP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u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elect Data Types (1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335920" y="1685880"/>
            <a:ext cx="2318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725400" y="1720800"/>
            <a:ext cx="1889280" cy="368280"/>
          </a:xfrm>
          <a:prstGeom prst="rect">
            <a:avLst/>
          </a:prstGeom>
          <a:solidFill>
            <a:srgbClr val="99ccff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easure_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629080" y="1825560"/>
            <a:ext cx="19188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865080" y="1703520"/>
            <a:ext cx="0" cy="3888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0" name=""/>
          <p:cNvCxnSpPr>
            <a:stCxn id="336" idx="1"/>
            <a:endCxn id="338" idx="6"/>
          </p:cNvCxnSpPr>
          <p:nvPr/>
        </p:nvCxnSpPr>
        <p:spPr>
          <a:xfrm flipH="1">
            <a:off x="2835000" y="1898280"/>
            <a:ext cx="2473920" cy="208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41" name=""/>
          <p:cNvSpPr/>
          <p:nvPr/>
        </p:nvSpPr>
        <p:spPr>
          <a:xfrm>
            <a:off x="3112560" y="1517760"/>
            <a:ext cx="197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value_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5208480" y="2013120"/>
            <a:ext cx="103320" cy="1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740520" y="3376440"/>
            <a:ext cx="77652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052640" y="31910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514520" y="3376440"/>
            <a:ext cx="144360" cy="3906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6" name=""/>
          <p:cNvCxnSpPr>
            <a:stCxn id="347" idx="2"/>
            <a:endCxn id="344" idx="0"/>
          </p:cNvCxnSpPr>
          <p:nvPr/>
        </p:nvCxnSpPr>
        <p:spPr>
          <a:xfrm>
            <a:off x="1123560" y="2975040"/>
            <a:ext cx="5400" cy="2023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48" name=""/>
          <p:cNvSpPr/>
          <p:nvPr/>
        </p:nvSpPr>
        <p:spPr>
          <a:xfrm>
            <a:off x="1112760" y="377496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9" name=""/>
          <p:cNvGrpSpPr/>
          <p:nvPr/>
        </p:nvGrpSpPr>
        <p:grpSpPr>
          <a:xfrm>
            <a:off x="216720" y="2565360"/>
            <a:ext cx="2002680" cy="368280"/>
            <a:chOff x="216720" y="2565360"/>
            <a:chExt cx="2002680" cy="368280"/>
          </a:xfrm>
        </p:grpSpPr>
        <p:sp>
          <p:nvSpPr>
            <p:cNvPr id="347" name=""/>
            <p:cNvSpPr/>
            <p:nvPr/>
          </p:nvSpPr>
          <p:spPr>
            <a:xfrm>
              <a:off x="216720" y="2565360"/>
              <a:ext cx="1814400" cy="368280"/>
            </a:xfrm>
            <a:prstGeom prst="rect">
              <a:avLst/>
            </a:prstGeom>
            <a:solidFill>
              <a:srgbClr val="fe7550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length_meas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066760" y="2697120"/>
              <a:ext cx="15264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2336760" y="2006640"/>
            <a:ext cx="217440" cy="1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52" name=""/>
          <p:cNvCxnSpPr>
            <a:stCxn id="351" idx="2"/>
            <a:endCxn id="350" idx="6"/>
          </p:cNvCxnSpPr>
          <p:nvPr/>
        </p:nvCxnSpPr>
        <p:spPr>
          <a:xfrm rot="5400000">
            <a:off x="2006640" y="2334240"/>
            <a:ext cx="665640" cy="2134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353" name=""/>
          <p:cNvCxnSpPr>
            <a:stCxn id="351" idx="2"/>
            <a:endCxn id="354" idx="6"/>
          </p:cNvCxnSpPr>
          <p:nvPr/>
        </p:nvCxnSpPr>
        <p:spPr>
          <a:xfrm rot="5400000">
            <a:off x="1168200" y="3172320"/>
            <a:ext cx="2342160" cy="2134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355" name=""/>
          <p:cNvCxnSpPr>
            <a:stCxn id="348" idx="4"/>
            <a:endCxn id="356" idx="0"/>
          </p:cNvCxnSpPr>
          <p:nvPr/>
        </p:nvCxnSpPr>
        <p:spPr>
          <a:xfrm flipH="1">
            <a:off x="1185120" y="3941640"/>
            <a:ext cx="3960" cy="2865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357" name=""/>
          <p:cNvGrpSpPr/>
          <p:nvPr/>
        </p:nvGrpSpPr>
        <p:grpSpPr>
          <a:xfrm>
            <a:off x="315720" y="4241880"/>
            <a:ext cx="1903680" cy="368280"/>
            <a:chOff x="315720" y="4241880"/>
            <a:chExt cx="1903680" cy="368280"/>
          </a:xfrm>
        </p:grpSpPr>
        <p:sp>
          <p:nvSpPr>
            <p:cNvPr id="356" name=""/>
            <p:cNvSpPr/>
            <p:nvPr/>
          </p:nvSpPr>
          <p:spPr>
            <a:xfrm>
              <a:off x="315720" y="4241880"/>
              <a:ext cx="1739880" cy="368280"/>
            </a:xfrm>
            <a:prstGeom prst="rect">
              <a:avLst/>
            </a:prstGeom>
            <a:solidFill>
              <a:srgbClr val="fe7550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mass_meas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2066760" y="4373640"/>
              <a:ext cx="15264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8" name=""/>
          <p:cNvSpPr/>
          <p:nvPr/>
        </p:nvSpPr>
        <p:spPr>
          <a:xfrm>
            <a:off x="6446880" y="2022480"/>
            <a:ext cx="103320" cy="1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29040" y="1203480"/>
            <a:ext cx="187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Select 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925720" y="2293920"/>
            <a:ext cx="59817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TITY measure_with_uni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value_component :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measure_value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t_component : uni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YPE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 measure_value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= SELEC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length_measure, mass_measur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_TYP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YPE length_measure = REA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_TYP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YPE mass_measure = REA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_TYP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1874880" y="1533600"/>
            <a:ext cx="2754360" cy="2236680"/>
            <a:chOff x="1874880" y="1533600"/>
            <a:chExt cx="2754360" cy="2236680"/>
          </a:xfrm>
        </p:grpSpPr>
        <p:sp>
          <p:nvSpPr>
            <p:cNvPr id="107" name=""/>
            <p:cNvSpPr/>
            <p:nvPr/>
          </p:nvSpPr>
          <p:spPr>
            <a:xfrm>
              <a:off x="1874880" y="1533600"/>
              <a:ext cx="2754360" cy="2236680"/>
            </a:xfrm>
            <a:custGeom>
              <a:avLst/>
              <a:gdLst/>
              <a:ahLst/>
              <a:rect l="l" t="t" r="r" b="b"/>
              <a:pathLst>
                <a:path w="1735" h="1409">
                  <a:moveTo>
                    <a:pt x="1735" y="351"/>
                  </a:moveTo>
                  <a:lnTo>
                    <a:pt x="1735" y="0"/>
                  </a:lnTo>
                  <a:lnTo>
                    <a:pt x="0" y="0"/>
                  </a:lnTo>
                  <a:lnTo>
                    <a:pt x="2" y="1409"/>
                  </a:lnTo>
                  <a:lnTo>
                    <a:pt x="156" y="1409"/>
                  </a:lnTo>
                  <a:lnTo>
                    <a:pt x="164" y="1382"/>
                  </a:lnTo>
                  <a:lnTo>
                    <a:pt x="164" y="1362"/>
                  </a:lnTo>
                  <a:lnTo>
                    <a:pt x="159" y="1335"/>
                  </a:lnTo>
                  <a:lnTo>
                    <a:pt x="150" y="1307"/>
                  </a:lnTo>
                  <a:lnTo>
                    <a:pt x="141" y="1272"/>
                  </a:lnTo>
                  <a:lnTo>
                    <a:pt x="137" y="1245"/>
                  </a:lnTo>
                  <a:lnTo>
                    <a:pt x="135" y="1221"/>
                  </a:lnTo>
                  <a:lnTo>
                    <a:pt x="140" y="1194"/>
                  </a:lnTo>
                  <a:lnTo>
                    <a:pt x="147" y="1169"/>
                  </a:lnTo>
                  <a:lnTo>
                    <a:pt x="164" y="1144"/>
                  </a:lnTo>
                  <a:lnTo>
                    <a:pt x="183" y="1124"/>
                  </a:lnTo>
                  <a:lnTo>
                    <a:pt x="204" y="1105"/>
                  </a:lnTo>
                  <a:lnTo>
                    <a:pt x="228" y="1091"/>
                  </a:lnTo>
                  <a:lnTo>
                    <a:pt x="257" y="1079"/>
                  </a:lnTo>
                  <a:lnTo>
                    <a:pt x="282" y="1075"/>
                  </a:lnTo>
                  <a:lnTo>
                    <a:pt x="318" y="1073"/>
                  </a:lnTo>
                  <a:lnTo>
                    <a:pt x="360" y="1076"/>
                  </a:lnTo>
                  <a:lnTo>
                    <a:pt x="387" y="1079"/>
                  </a:lnTo>
                  <a:lnTo>
                    <a:pt x="411" y="1087"/>
                  </a:lnTo>
                  <a:lnTo>
                    <a:pt x="433" y="1100"/>
                  </a:lnTo>
                  <a:lnTo>
                    <a:pt x="462" y="1123"/>
                  </a:lnTo>
                  <a:lnTo>
                    <a:pt x="480" y="1144"/>
                  </a:lnTo>
                  <a:lnTo>
                    <a:pt x="496" y="1166"/>
                  </a:lnTo>
                  <a:lnTo>
                    <a:pt x="505" y="1190"/>
                  </a:lnTo>
                  <a:lnTo>
                    <a:pt x="511" y="1212"/>
                  </a:lnTo>
                  <a:lnTo>
                    <a:pt x="511" y="1238"/>
                  </a:lnTo>
                  <a:lnTo>
                    <a:pt x="508" y="1263"/>
                  </a:lnTo>
                  <a:lnTo>
                    <a:pt x="502" y="1287"/>
                  </a:lnTo>
                  <a:lnTo>
                    <a:pt x="496" y="1310"/>
                  </a:lnTo>
                  <a:lnTo>
                    <a:pt x="489" y="1334"/>
                  </a:lnTo>
                  <a:lnTo>
                    <a:pt x="484" y="1358"/>
                  </a:lnTo>
                  <a:lnTo>
                    <a:pt x="484" y="1379"/>
                  </a:lnTo>
                  <a:lnTo>
                    <a:pt x="490" y="1403"/>
                  </a:lnTo>
                  <a:lnTo>
                    <a:pt x="781" y="1403"/>
                  </a:lnTo>
                  <a:lnTo>
                    <a:pt x="778" y="1353"/>
                  </a:lnTo>
                  <a:lnTo>
                    <a:pt x="781" y="1317"/>
                  </a:lnTo>
                  <a:lnTo>
                    <a:pt x="781" y="1290"/>
                  </a:lnTo>
                  <a:lnTo>
                    <a:pt x="782" y="1265"/>
                  </a:lnTo>
                  <a:lnTo>
                    <a:pt x="785" y="1238"/>
                  </a:lnTo>
                  <a:lnTo>
                    <a:pt x="791" y="1211"/>
                  </a:lnTo>
                  <a:lnTo>
                    <a:pt x="799" y="1193"/>
                  </a:lnTo>
                  <a:lnTo>
                    <a:pt x="809" y="1177"/>
                  </a:lnTo>
                  <a:lnTo>
                    <a:pt x="824" y="1163"/>
                  </a:lnTo>
                  <a:lnTo>
                    <a:pt x="841" y="1153"/>
                  </a:lnTo>
                  <a:lnTo>
                    <a:pt x="860" y="1147"/>
                  </a:lnTo>
                  <a:lnTo>
                    <a:pt x="881" y="1144"/>
                  </a:lnTo>
                  <a:lnTo>
                    <a:pt x="901" y="1142"/>
                  </a:lnTo>
                  <a:lnTo>
                    <a:pt x="926" y="1142"/>
                  </a:lnTo>
                  <a:lnTo>
                    <a:pt x="950" y="1144"/>
                  </a:lnTo>
                  <a:lnTo>
                    <a:pt x="970" y="1147"/>
                  </a:lnTo>
                  <a:lnTo>
                    <a:pt x="995" y="1148"/>
                  </a:lnTo>
                  <a:lnTo>
                    <a:pt x="1022" y="1151"/>
                  </a:lnTo>
                  <a:lnTo>
                    <a:pt x="1052" y="1151"/>
                  </a:lnTo>
                  <a:lnTo>
                    <a:pt x="1078" y="1148"/>
                  </a:lnTo>
                  <a:lnTo>
                    <a:pt x="1103" y="1144"/>
                  </a:lnTo>
                  <a:lnTo>
                    <a:pt x="1130" y="1138"/>
                  </a:lnTo>
                  <a:lnTo>
                    <a:pt x="1150" y="1127"/>
                  </a:lnTo>
                  <a:lnTo>
                    <a:pt x="1170" y="1114"/>
                  </a:lnTo>
                  <a:lnTo>
                    <a:pt x="1184" y="1096"/>
                  </a:lnTo>
                  <a:lnTo>
                    <a:pt x="1197" y="1076"/>
                  </a:lnTo>
                  <a:lnTo>
                    <a:pt x="1203" y="1057"/>
                  </a:lnTo>
                  <a:lnTo>
                    <a:pt x="1206" y="1034"/>
                  </a:lnTo>
                  <a:lnTo>
                    <a:pt x="1203" y="1012"/>
                  </a:lnTo>
                  <a:lnTo>
                    <a:pt x="1202" y="988"/>
                  </a:lnTo>
                  <a:lnTo>
                    <a:pt x="1203" y="962"/>
                  </a:lnTo>
                  <a:lnTo>
                    <a:pt x="1208" y="943"/>
                  </a:lnTo>
                  <a:lnTo>
                    <a:pt x="1214" y="922"/>
                  </a:lnTo>
                  <a:lnTo>
                    <a:pt x="1223" y="902"/>
                  </a:lnTo>
                  <a:lnTo>
                    <a:pt x="1235" y="889"/>
                  </a:lnTo>
                  <a:lnTo>
                    <a:pt x="1254" y="875"/>
                  </a:lnTo>
                  <a:lnTo>
                    <a:pt x="1278" y="866"/>
                  </a:lnTo>
                  <a:lnTo>
                    <a:pt x="1302" y="859"/>
                  </a:lnTo>
                  <a:lnTo>
                    <a:pt x="1325" y="853"/>
                  </a:lnTo>
                  <a:lnTo>
                    <a:pt x="1349" y="847"/>
                  </a:lnTo>
                  <a:lnTo>
                    <a:pt x="1380" y="841"/>
                  </a:lnTo>
                  <a:lnTo>
                    <a:pt x="1404" y="836"/>
                  </a:lnTo>
                  <a:lnTo>
                    <a:pt x="1430" y="829"/>
                  </a:lnTo>
                  <a:lnTo>
                    <a:pt x="1451" y="821"/>
                  </a:lnTo>
                  <a:lnTo>
                    <a:pt x="1472" y="812"/>
                  </a:lnTo>
                  <a:lnTo>
                    <a:pt x="1488" y="800"/>
                  </a:lnTo>
                  <a:lnTo>
                    <a:pt x="1503" y="788"/>
                  </a:lnTo>
                  <a:lnTo>
                    <a:pt x="1520" y="769"/>
                  </a:lnTo>
                  <a:lnTo>
                    <a:pt x="1530" y="751"/>
                  </a:lnTo>
                  <a:lnTo>
                    <a:pt x="1539" y="730"/>
                  </a:lnTo>
                  <a:lnTo>
                    <a:pt x="1544" y="703"/>
                  </a:lnTo>
                  <a:lnTo>
                    <a:pt x="1541" y="681"/>
                  </a:lnTo>
                  <a:lnTo>
                    <a:pt x="1538" y="657"/>
                  </a:lnTo>
                  <a:lnTo>
                    <a:pt x="1530" y="628"/>
                  </a:lnTo>
                  <a:lnTo>
                    <a:pt x="1523" y="597"/>
                  </a:lnTo>
                  <a:lnTo>
                    <a:pt x="1515" y="568"/>
                  </a:lnTo>
                  <a:lnTo>
                    <a:pt x="1514" y="546"/>
                  </a:lnTo>
                  <a:lnTo>
                    <a:pt x="1514" y="525"/>
                  </a:lnTo>
                  <a:lnTo>
                    <a:pt x="1517" y="496"/>
                  </a:lnTo>
                  <a:lnTo>
                    <a:pt x="1524" y="472"/>
                  </a:lnTo>
                  <a:lnTo>
                    <a:pt x="1532" y="454"/>
                  </a:lnTo>
                  <a:lnTo>
                    <a:pt x="1542" y="436"/>
                  </a:lnTo>
                  <a:lnTo>
                    <a:pt x="1557" y="417"/>
                  </a:lnTo>
                  <a:lnTo>
                    <a:pt x="1573" y="397"/>
                  </a:lnTo>
                  <a:lnTo>
                    <a:pt x="1594" y="381"/>
                  </a:lnTo>
                  <a:lnTo>
                    <a:pt x="1617" y="368"/>
                  </a:lnTo>
                  <a:lnTo>
                    <a:pt x="1638" y="360"/>
                  </a:lnTo>
                  <a:lnTo>
                    <a:pt x="1659" y="354"/>
                  </a:lnTo>
                  <a:lnTo>
                    <a:pt x="1681" y="351"/>
                  </a:lnTo>
                  <a:lnTo>
                    <a:pt x="1708" y="351"/>
                  </a:lnTo>
                  <a:lnTo>
                    <a:pt x="1735" y="351"/>
                  </a:lnTo>
                  <a:close/>
                </a:path>
              </a:pathLst>
            </a:custGeom>
            <a:solidFill>
              <a:srgbClr val="008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917000" y="1663560"/>
              <a:ext cx="2010960" cy="113004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11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EXPRES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492800" y="2979720"/>
            <a:ext cx="4505040" cy="319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99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Origin in STEP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99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Its Role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99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Its use in LPM/5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99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Main features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99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EXPRESS-G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elect Data Types (2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5335920" y="1574640"/>
            <a:ext cx="2318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3" name=""/>
          <p:cNvGrpSpPr/>
          <p:nvPr/>
        </p:nvGrpSpPr>
        <p:grpSpPr>
          <a:xfrm>
            <a:off x="6154560" y="2481120"/>
            <a:ext cx="690840" cy="593640"/>
            <a:chOff x="6154560" y="2481120"/>
            <a:chExt cx="690840" cy="593640"/>
          </a:xfrm>
        </p:grpSpPr>
        <p:sp>
          <p:nvSpPr>
            <p:cNvPr id="364" name=""/>
            <p:cNvSpPr/>
            <p:nvPr/>
          </p:nvSpPr>
          <p:spPr>
            <a:xfrm>
              <a:off x="6154560" y="2703600"/>
              <a:ext cx="690840" cy="36828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uni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405480" y="2481120"/>
              <a:ext cx="187200" cy="187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64360" y="2685960"/>
              <a:ext cx="0" cy="3888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67" name=""/>
          <p:cNvCxnSpPr>
            <a:stCxn id="362" idx="2"/>
            <a:endCxn id="365" idx="0"/>
          </p:cNvCxnSpPr>
          <p:nvPr/>
        </p:nvCxnSpPr>
        <p:spPr>
          <a:xfrm>
            <a:off x="6496200" y="2014200"/>
            <a:ext cx="3600" cy="4532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368" name=""/>
          <p:cNvGrpSpPr/>
          <p:nvPr/>
        </p:nvGrpSpPr>
        <p:grpSpPr>
          <a:xfrm>
            <a:off x="7120080" y="3243240"/>
            <a:ext cx="1792440" cy="398880"/>
            <a:chOff x="7120080" y="3243240"/>
            <a:chExt cx="1792440" cy="398880"/>
          </a:xfrm>
        </p:grpSpPr>
        <p:sp>
          <p:nvSpPr>
            <p:cNvPr id="369" name=""/>
            <p:cNvSpPr/>
            <p:nvPr/>
          </p:nvSpPr>
          <p:spPr>
            <a:xfrm>
              <a:off x="7343280" y="3243240"/>
              <a:ext cx="1569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derived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7120080" y="3344760"/>
              <a:ext cx="18756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1" name=""/>
          <p:cNvGrpSpPr/>
          <p:nvPr/>
        </p:nvGrpSpPr>
        <p:grpSpPr>
          <a:xfrm>
            <a:off x="7147080" y="3833640"/>
            <a:ext cx="1734840" cy="398880"/>
            <a:chOff x="7147080" y="3833640"/>
            <a:chExt cx="1734840" cy="398880"/>
          </a:xfrm>
        </p:grpSpPr>
        <p:sp>
          <p:nvSpPr>
            <p:cNvPr id="372" name=""/>
            <p:cNvSpPr/>
            <p:nvPr/>
          </p:nvSpPr>
          <p:spPr>
            <a:xfrm>
              <a:off x="7370640" y="3833640"/>
              <a:ext cx="1511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named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7147080" y="3935160"/>
              <a:ext cx="187200" cy="187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74" name=""/>
          <p:cNvCxnSpPr>
            <a:stCxn id="364" idx="2"/>
            <a:endCxn id="373" idx="2"/>
          </p:cNvCxnSpPr>
          <p:nvPr/>
        </p:nvCxnSpPr>
        <p:spPr>
          <a:xfrm flipH="1" rot="16200000">
            <a:off x="6357600" y="3254760"/>
            <a:ext cx="916920" cy="6325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375" name=""/>
          <p:cNvCxnSpPr>
            <a:stCxn id="364" idx="2"/>
            <a:endCxn id="370" idx="2"/>
          </p:cNvCxnSpPr>
          <p:nvPr/>
        </p:nvCxnSpPr>
        <p:spPr>
          <a:xfrm flipH="1" rot="16200000">
            <a:off x="6640560" y="2972880"/>
            <a:ext cx="326160" cy="6055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76" name=""/>
          <p:cNvSpPr/>
          <p:nvPr/>
        </p:nvSpPr>
        <p:spPr>
          <a:xfrm>
            <a:off x="6518880" y="2043000"/>
            <a:ext cx="180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t_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725400" y="1609560"/>
            <a:ext cx="1889280" cy="368280"/>
          </a:xfrm>
          <a:prstGeom prst="rect">
            <a:avLst/>
          </a:prstGeom>
          <a:solidFill>
            <a:srgbClr val="99ccff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easure_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2629080" y="1714680"/>
            <a:ext cx="19188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 flipV="1">
            <a:off x="865080" y="1592280"/>
            <a:ext cx="0" cy="3888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80" name=""/>
          <p:cNvCxnSpPr>
            <a:stCxn id="362" idx="1"/>
            <a:endCxn id="378" idx="6"/>
          </p:cNvCxnSpPr>
          <p:nvPr/>
        </p:nvCxnSpPr>
        <p:spPr>
          <a:xfrm flipH="1">
            <a:off x="2835000" y="1787400"/>
            <a:ext cx="2473920" cy="216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81" name=""/>
          <p:cNvSpPr/>
          <p:nvPr/>
        </p:nvSpPr>
        <p:spPr>
          <a:xfrm>
            <a:off x="3112560" y="1406520"/>
            <a:ext cx="197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value_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208480" y="1901880"/>
            <a:ext cx="103320" cy="1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2336760" y="1895400"/>
            <a:ext cx="217440" cy="1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446880" y="1911240"/>
            <a:ext cx="103320" cy="1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6925320" y="2647800"/>
            <a:ext cx="187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Select 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85840" y="2227320"/>
            <a:ext cx="59817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TITY measure_with_uni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value_component : measure_valu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t_component :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uni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YPE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 uni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= SELEC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derived_unit, named_unit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_TYP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TITY named_uni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YPE derived_uni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Aggregation Data Typ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874080" y="3348000"/>
            <a:ext cx="357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oments_of_inertia A[1:3] A[1:3]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89" name=""/>
          <p:cNvCxnSpPr>
            <a:stCxn id="390" idx="2"/>
            <a:endCxn id="391" idx="2"/>
          </p:cNvCxnSpPr>
          <p:nvPr/>
        </p:nvCxnSpPr>
        <p:spPr>
          <a:xfrm flipH="1" rot="16200000">
            <a:off x="2950200" y="1361880"/>
            <a:ext cx="726120" cy="21452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92" name=""/>
          <p:cNvSpPr/>
          <p:nvPr/>
        </p:nvSpPr>
        <p:spPr>
          <a:xfrm>
            <a:off x="2475000" y="2425680"/>
            <a:ext cx="162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asses A[1:3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93" name=""/>
          <p:cNvCxnSpPr>
            <a:stCxn id="394" idx="2"/>
            <a:endCxn id="395" idx="2"/>
          </p:cNvCxnSpPr>
          <p:nvPr/>
        </p:nvCxnSpPr>
        <p:spPr>
          <a:xfrm flipH="1" rot="16200000">
            <a:off x="1759680" y="1111320"/>
            <a:ext cx="1694520" cy="35568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396" name=""/>
          <p:cNvGrpSpPr/>
          <p:nvPr/>
        </p:nvGrpSpPr>
        <p:grpSpPr>
          <a:xfrm>
            <a:off x="352800" y="1631880"/>
            <a:ext cx="3777480" cy="411120"/>
            <a:chOff x="352800" y="1631880"/>
            <a:chExt cx="3777480" cy="411120"/>
          </a:xfrm>
        </p:grpSpPr>
        <p:sp>
          <p:nvSpPr>
            <p:cNvPr id="390" name=""/>
            <p:cNvSpPr/>
            <p:nvPr/>
          </p:nvSpPr>
          <p:spPr>
            <a:xfrm>
              <a:off x="352800" y="1631880"/>
              <a:ext cx="37774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point_stationary_mas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692280" y="1884240"/>
              <a:ext cx="272880" cy="15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2546280" y="1884240"/>
              <a:ext cx="273240" cy="15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8" name=""/>
          <p:cNvSpPr/>
          <p:nvPr/>
        </p:nvSpPr>
        <p:spPr>
          <a:xfrm>
            <a:off x="4560840" y="2606760"/>
            <a:ext cx="94464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 flipV="1">
            <a:off x="5407200" y="2606400"/>
            <a:ext cx="0" cy="376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400640" y="272088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398840" y="366084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4562640" y="3514680"/>
            <a:ext cx="94428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 flipV="1">
            <a:off x="5380200" y="3514320"/>
            <a:ext cx="0" cy="376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558320" y="3979800"/>
            <a:ext cx="38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Two Dimensional ARR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560120" y="2058840"/>
            <a:ext cx="383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One Dimensional ARR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-62280" y="4871880"/>
            <a:ext cx="7643160" cy="13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TITY element_point_stationary_ma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asses : ARRAY [1:3] OF REA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oments_of_inertia : ARRAY [1:3] OF ARRAY [1:3] OF REA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Inverse Claus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1439640" y="1305000"/>
            <a:ext cx="181044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res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282960" y="2219400"/>
            <a:ext cx="751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 flipH="1">
            <a:off x="254160" y="2585880"/>
            <a:ext cx="8697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01520" y="250344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126080" y="2351160"/>
            <a:ext cx="243252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resentation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257560" y="21891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H="1">
            <a:off x="3480120" y="1157400"/>
            <a:ext cx="1906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text_of_i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3" name=""/>
          <p:cNvGrpSpPr/>
          <p:nvPr/>
        </p:nvGrpSpPr>
        <p:grpSpPr>
          <a:xfrm>
            <a:off x="4088160" y="2046240"/>
            <a:ext cx="4776480" cy="784080"/>
            <a:chOff x="4088160" y="2046240"/>
            <a:chExt cx="4776480" cy="784080"/>
          </a:xfrm>
        </p:grpSpPr>
        <p:sp>
          <p:nvSpPr>
            <p:cNvPr id="414" name=""/>
            <p:cNvSpPr/>
            <p:nvPr/>
          </p:nvSpPr>
          <p:spPr>
            <a:xfrm>
              <a:off x="4088160" y="2349360"/>
              <a:ext cx="2773800" cy="39744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representation_contex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 flipH="1">
              <a:off x="6858000" y="2406600"/>
              <a:ext cx="1830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8697960" y="23446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 flipH="1">
              <a:off x="6946920" y="2406600"/>
              <a:ext cx="14752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context_typ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 flipH="1">
              <a:off x="6870240" y="2754000"/>
              <a:ext cx="1846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8712360" y="267804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6843600" y="2046240"/>
              <a:ext cx="19051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context_identifi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5391000" y="2182680"/>
              <a:ext cx="15264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2" name=""/>
          <p:cNvSpPr/>
          <p:nvPr/>
        </p:nvSpPr>
        <p:spPr>
          <a:xfrm>
            <a:off x="893520" y="1768320"/>
            <a:ext cx="138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tem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84600" y="1579680"/>
            <a:ext cx="4046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4" name=""/>
          <p:cNvCxnSpPr>
            <a:stCxn id="406" idx="3"/>
            <a:endCxn id="421" idx="0"/>
          </p:cNvCxnSpPr>
          <p:nvPr/>
        </p:nvCxnSpPr>
        <p:spPr>
          <a:xfrm>
            <a:off x="3274920" y="1517760"/>
            <a:ext cx="2193120" cy="6516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425" name=""/>
          <p:cNvCxnSpPr>
            <a:stCxn id="406" idx="2"/>
            <a:endCxn id="411" idx="0"/>
          </p:cNvCxnSpPr>
          <p:nvPr/>
        </p:nvCxnSpPr>
        <p:spPr>
          <a:xfrm rot="5400000">
            <a:off x="2123280" y="1953720"/>
            <a:ext cx="430920" cy="11880"/>
          </a:xfrm>
          <a:prstGeom prst="bentConnector3">
            <a:avLst>
              <a:gd name="adj1" fmla="val 49749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426" name=""/>
          <p:cNvSpPr/>
          <p:nvPr/>
        </p:nvSpPr>
        <p:spPr>
          <a:xfrm>
            <a:off x="586080" y="1162080"/>
            <a:ext cx="751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 flipH="1">
            <a:off x="571680" y="1528920"/>
            <a:ext cx="8697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419040" y="144612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 flipH="1">
            <a:off x="3399840" y="1547640"/>
            <a:ext cx="4887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(INV) representations_in_context S 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-140400" y="2797200"/>
            <a:ext cx="9491760" cy="34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TITY representation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ame : lab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tems : SET [1:?] OF representation_item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text_of_items : representation_contex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TITY representation_contex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text_identifier : identifier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text_type : tex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NVER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presentations_in_context : SET [1:?] OF representation FOR context_of_item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/>
          <p:nvPr/>
        </p:nvSpPr>
        <p:spPr>
          <a:xfrm>
            <a:off x="3479760" y="3395520"/>
            <a:ext cx="2338560" cy="657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2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2" name=""/>
          <p:cNvGrpSpPr/>
          <p:nvPr/>
        </p:nvGrpSpPr>
        <p:grpSpPr>
          <a:xfrm>
            <a:off x="3090960" y="2085840"/>
            <a:ext cx="3054240" cy="3346560"/>
            <a:chOff x="3090960" y="2085840"/>
            <a:chExt cx="3054240" cy="3346560"/>
          </a:xfrm>
        </p:grpSpPr>
        <p:sp>
          <p:nvSpPr>
            <p:cNvPr id="433" name=""/>
            <p:cNvSpPr/>
            <p:nvPr/>
          </p:nvSpPr>
          <p:spPr>
            <a:xfrm>
              <a:off x="3090960" y="2085840"/>
              <a:ext cx="3054240" cy="3346560"/>
            </a:xfrm>
            <a:custGeom>
              <a:avLst/>
              <a:gdLst/>
              <a:ahLst/>
              <a:rect l="l" t="t" r="r" b="b"/>
              <a:pathLst>
                <a:path w="1924" h="2108">
                  <a:moveTo>
                    <a:pt x="733" y="440"/>
                  </a:moveTo>
                  <a:lnTo>
                    <a:pt x="752" y="417"/>
                  </a:lnTo>
                  <a:lnTo>
                    <a:pt x="766" y="394"/>
                  </a:lnTo>
                  <a:lnTo>
                    <a:pt x="773" y="369"/>
                  </a:lnTo>
                  <a:lnTo>
                    <a:pt x="773" y="336"/>
                  </a:lnTo>
                  <a:lnTo>
                    <a:pt x="764" y="298"/>
                  </a:lnTo>
                  <a:lnTo>
                    <a:pt x="757" y="267"/>
                  </a:lnTo>
                  <a:lnTo>
                    <a:pt x="746" y="228"/>
                  </a:lnTo>
                  <a:lnTo>
                    <a:pt x="742" y="186"/>
                  </a:lnTo>
                  <a:lnTo>
                    <a:pt x="746" y="160"/>
                  </a:lnTo>
                  <a:lnTo>
                    <a:pt x="754" y="129"/>
                  </a:lnTo>
                  <a:lnTo>
                    <a:pt x="769" y="96"/>
                  </a:lnTo>
                  <a:lnTo>
                    <a:pt x="789" y="64"/>
                  </a:lnTo>
                  <a:lnTo>
                    <a:pt x="816" y="39"/>
                  </a:lnTo>
                  <a:lnTo>
                    <a:pt x="840" y="20"/>
                  </a:lnTo>
                  <a:lnTo>
                    <a:pt x="873" y="8"/>
                  </a:lnTo>
                  <a:lnTo>
                    <a:pt x="912" y="2"/>
                  </a:lnTo>
                  <a:lnTo>
                    <a:pt x="954" y="0"/>
                  </a:lnTo>
                  <a:lnTo>
                    <a:pt x="1011" y="0"/>
                  </a:lnTo>
                  <a:lnTo>
                    <a:pt x="1056" y="5"/>
                  </a:lnTo>
                  <a:lnTo>
                    <a:pt x="1082" y="14"/>
                  </a:lnTo>
                  <a:lnTo>
                    <a:pt x="1101" y="26"/>
                  </a:lnTo>
                  <a:lnTo>
                    <a:pt x="1122" y="39"/>
                  </a:lnTo>
                  <a:lnTo>
                    <a:pt x="1143" y="60"/>
                  </a:lnTo>
                  <a:lnTo>
                    <a:pt x="1163" y="87"/>
                  </a:lnTo>
                  <a:lnTo>
                    <a:pt x="1177" y="111"/>
                  </a:lnTo>
                  <a:lnTo>
                    <a:pt x="1185" y="132"/>
                  </a:lnTo>
                  <a:lnTo>
                    <a:pt x="1191" y="168"/>
                  </a:lnTo>
                  <a:lnTo>
                    <a:pt x="1191" y="199"/>
                  </a:lnTo>
                  <a:lnTo>
                    <a:pt x="1186" y="231"/>
                  </a:lnTo>
                  <a:lnTo>
                    <a:pt x="1180" y="255"/>
                  </a:lnTo>
                  <a:lnTo>
                    <a:pt x="1173" y="294"/>
                  </a:lnTo>
                  <a:lnTo>
                    <a:pt x="1163" y="334"/>
                  </a:lnTo>
                  <a:lnTo>
                    <a:pt x="1158" y="360"/>
                  </a:lnTo>
                  <a:lnTo>
                    <a:pt x="1166" y="385"/>
                  </a:lnTo>
                  <a:lnTo>
                    <a:pt x="1174" y="403"/>
                  </a:lnTo>
                  <a:lnTo>
                    <a:pt x="1191" y="427"/>
                  </a:lnTo>
                  <a:lnTo>
                    <a:pt x="1215" y="446"/>
                  </a:lnTo>
                  <a:lnTo>
                    <a:pt x="1237" y="463"/>
                  </a:lnTo>
                  <a:lnTo>
                    <a:pt x="1270" y="476"/>
                  </a:lnTo>
                  <a:lnTo>
                    <a:pt x="1303" y="485"/>
                  </a:lnTo>
                  <a:lnTo>
                    <a:pt x="1335" y="493"/>
                  </a:lnTo>
                  <a:lnTo>
                    <a:pt x="1368" y="497"/>
                  </a:lnTo>
                  <a:lnTo>
                    <a:pt x="1402" y="506"/>
                  </a:lnTo>
                  <a:lnTo>
                    <a:pt x="1429" y="515"/>
                  </a:lnTo>
                  <a:lnTo>
                    <a:pt x="1450" y="526"/>
                  </a:lnTo>
                  <a:lnTo>
                    <a:pt x="1467" y="538"/>
                  </a:lnTo>
                  <a:lnTo>
                    <a:pt x="1479" y="551"/>
                  </a:lnTo>
                  <a:lnTo>
                    <a:pt x="1488" y="568"/>
                  </a:lnTo>
                  <a:lnTo>
                    <a:pt x="1495" y="587"/>
                  </a:lnTo>
                  <a:lnTo>
                    <a:pt x="1498" y="605"/>
                  </a:lnTo>
                  <a:lnTo>
                    <a:pt x="1501" y="622"/>
                  </a:lnTo>
                  <a:lnTo>
                    <a:pt x="1501" y="644"/>
                  </a:lnTo>
                  <a:lnTo>
                    <a:pt x="1498" y="670"/>
                  </a:lnTo>
                  <a:lnTo>
                    <a:pt x="1498" y="689"/>
                  </a:lnTo>
                  <a:lnTo>
                    <a:pt x="1503" y="713"/>
                  </a:lnTo>
                  <a:lnTo>
                    <a:pt x="1513" y="734"/>
                  </a:lnTo>
                  <a:lnTo>
                    <a:pt x="1525" y="752"/>
                  </a:lnTo>
                  <a:lnTo>
                    <a:pt x="1540" y="766"/>
                  </a:lnTo>
                  <a:lnTo>
                    <a:pt x="1559" y="781"/>
                  </a:lnTo>
                  <a:lnTo>
                    <a:pt x="1579" y="790"/>
                  </a:lnTo>
                  <a:lnTo>
                    <a:pt x="1609" y="796"/>
                  </a:lnTo>
                  <a:lnTo>
                    <a:pt x="1634" y="799"/>
                  </a:lnTo>
                  <a:lnTo>
                    <a:pt x="1658" y="800"/>
                  </a:lnTo>
                  <a:lnTo>
                    <a:pt x="1685" y="799"/>
                  </a:lnTo>
                  <a:lnTo>
                    <a:pt x="1718" y="796"/>
                  </a:lnTo>
                  <a:lnTo>
                    <a:pt x="1744" y="794"/>
                  </a:lnTo>
                  <a:lnTo>
                    <a:pt x="1769" y="791"/>
                  </a:lnTo>
                  <a:lnTo>
                    <a:pt x="1793" y="790"/>
                  </a:lnTo>
                  <a:lnTo>
                    <a:pt x="1822" y="791"/>
                  </a:lnTo>
                  <a:lnTo>
                    <a:pt x="1837" y="794"/>
                  </a:lnTo>
                  <a:lnTo>
                    <a:pt x="1855" y="799"/>
                  </a:lnTo>
                  <a:lnTo>
                    <a:pt x="1871" y="808"/>
                  </a:lnTo>
                  <a:lnTo>
                    <a:pt x="1889" y="821"/>
                  </a:lnTo>
                  <a:lnTo>
                    <a:pt x="1903" y="836"/>
                  </a:lnTo>
                  <a:lnTo>
                    <a:pt x="1913" y="858"/>
                  </a:lnTo>
                  <a:lnTo>
                    <a:pt x="1918" y="878"/>
                  </a:lnTo>
                  <a:lnTo>
                    <a:pt x="1921" y="902"/>
                  </a:lnTo>
                  <a:lnTo>
                    <a:pt x="1924" y="945"/>
                  </a:lnTo>
                  <a:lnTo>
                    <a:pt x="1922" y="996"/>
                  </a:lnTo>
                  <a:lnTo>
                    <a:pt x="1924" y="1050"/>
                  </a:lnTo>
                  <a:lnTo>
                    <a:pt x="1919" y="1113"/>
                  </a:lnTo>
                  <a:lnTo>
                    <a:pt x="1915" y="1157"/>
                  </a:lnTo>
                  <a:lnTo>
                    <a:pt x="1910" y="1191"/>
                  </a:lnTo>
                  <a:lnTo>
                    <a:pt x="1903" y="1211"/>
                  </a:lnTo>
                  <a:lnTo>
                    <a:pt x="1891" y="1229"/>
                  </a:lnTo>
                  <a:lnTo>
                    <a:pt x="1877" y="1240"/>
                  </a:lnTo>
                  <a:lnTo>
                    <a:pt x="1859" y="1251"/>
                  </a:lnTo>
                  <a:lnTo>
                    <a:pt x="1838" y="1257"/>
                  </a:lnTo>
                  <a:lnTo>
                    <a:pt x="1820" y="1261"/>
                  </a:lnTo>
                  <a:lnTo>
                    <a:pt x="1783" y="1263"/>
                  </a:lnTo>
                  <a:lnTo>
                    <a:pt x="1750" y="1261"/>
                  </a:lnTo>
                  <a:lnTo>
                    <a:pt x="1723" y="1257"/>
                  </a:lnTo>
                  <a:lnTo>
                    <a:pt x="1699" y="1255"/>
                  </a:lnTo>
                  <a:lnTo>
                    <a:pt x="1672" y="1254"/>
                  </a:lnTo>
                  <a:lnTo>
                    <a:pt x="1648" y="1254"/>
                  </a:lnTo>
                  <a:lnTo>
                    <a:pt x="1627" y="1255"/>
                  </a:lnTo>
                  <a:lnTo>
                    <a:pt x="1604" y="1257"/>
                  </a:lnTo>
                  <a:lnTo>
                    <a:pt x="1577" y="1264"/>
                  </a:lnTo>
                  <a:lnTo>
                    <a:pt x="1562" y="1270"/>
                  </a:lnTo>
                  <a:lnTo>
                    <a:pt x="1549" y="1276"/>
                  </a:lnTo>
                  <a:lnTo>
                    <a:pt x="1531" y="1288"/>
                  </a:lnTo>
                  <a:lnTo>
                    <a:pt x="1519" y="1303"/>
                  </a:lnTo>
                  <a:lnTo>
                    <a:pt x="1510" y="1317"/>
                  </a:lnTo>
                  <a:lnTo>
                    <a:pt x="1501" y="1333"/>
                  </a:lnTo>
                  <a:lnTo>
                    <a:pt x="1497" y="1350"/>
                  </a:lnTo>
                  <a:lnTo>
                    <a:pt x="1495" y="1368"/>
                  </a:lnTo>
                  <a:lnTo>
                    <a:pt x="1497" y="1387"/>
                  </a:lnTo>
                  <a:lnTo>
                    <a:pt x="1497" y="1420"/>
                  </a:lnTo>
                  <a:lnTo>
                    <a:pt x="1495" y="1455"/>
                  </a:lnTo>
                  <a:lnTo>
                    <a:pt x="1486" y="1480"/>
                  </a:lnTo>
                  <a:lnTo>
                    <a:pt x="1477" y="1501"/>
                  </a:lnTo>
                  <a:lnTo>
                    <a:pt x="1464" y="1516"/>
                  </a:lnTo>
                  <a:lnTo>
                    <a:pt x="1444" y="1528"/>
                  </a:lnTo>
                  <a:lnTo>
                    <a:pt x="1425" y="1539"/>
                  </a:lnTo>
                  <a:lnTo>
                    <a:pt x="1402" y="1545"/>
                  </a:lnTo>
                  <a:lnTo>
                    <a:pt x="1374" y="1551"/>
                  </a:lnTo>
                  <a:lnTo>
                    <a:pt x="1350" y="1558"/>
                  </a:lnTo>
                  <a:lnTo>
                    <a:pt x="1321" y="1563"/>
                  </a:lnTo>
                  <a:lnTo>
                    <a:pt x="1297" y="1567"/>
                  </a:lnTo>
                  <a:lnTo>
                    <a:pt x="1270" y="1573"/>
                  </a:lnTo>
                  <a:lnTo>
                    <a:pt x="1249" y="1584"/>
                  </a:lnTo>
                  <a:lnTo>
                    <a:pt x="1225" y="1594"/>
                  </a:lnTo>
                  <a:lnTo>
                    <a:pt x="1203" y="1608"/>
                  </a:lnTo>
                  <a:lnTo>
                    <a:pt x="1186" y="1626"/>
                  </a:lnTo>
                  <a:lnTo>
                    <a:pt x="1171" y="1646"/>
                  </a:lnTo>
                  <a:lnTo>
                    <a:pt x="1160" y="1672"/>
                  </a:lnTo>
                  <a:lnTo>
                    <a:pt x="1157" y="1694"/>
                  </a:lnTo>
                  <a:lnTo>
                    <a:pt x="1158" y="1720"/>
                  </a:lnTo>
                  <a:lnTo>
                    <a:pt x="1163" y="1744"/>
                  </a:lnTo>
                  <a:lnTo>
                    <a:pt x="1170" y="1769"/>
                  </a:lnTo>
                  <a:lnTo>
                    <a:pt x="1176" y="1798"/>
                  </a:lnTo>
                  <a:lnTo>
                    <a:pt x="1180" y="1823"/>
                  </a:lnTo>
                  <a:lnTo>
                    <a:pt x="1186" y="1856"/>
                  </a:lnTo>
                  <a:lnTo>
                    <a:pt x="1186" y="1889"/>
                  </a:lnTo>
                  <a:lnTo>
                    <a:pt x="1179" y="1922"/>
                  </a:lnTo>
                  <a:lnTo>
                    <a:pt x="1171" y="1948"/>
                  </a:lnTo>
                  <a:lnTo>
                    <a:pt x="1163" y="1973"/>
                  </a:lnTo>
                  <a:lnTo>
                    <a:pt x="1151" y="1997"/>
                  </a:lnTo>
                  <a:lnTo>
                    <a:pt x="1134" y="2027"/>
                  </a:lnTo>
                  <a:lnTo>
                    <a:pt x="1116" y="2046"/>
                  </a:lnTo>
                  <a:lnTo>
                    <a:pt x="1101" y="2060"/>
                  </a:lnTo>
                  <a:lnTo>
                    <a:pt x="1082" y="2076"/>
                  </a:lnTo>
                  <a:lnTo>
                    <a:pt x="1061" y="2091"/>
                  </a:lnTo>
                  <a:lnTo>
                    <a:pt x="1041" y="2099"/>
                  </a:lnTo>
                  <a:lnTo>
                    <a:pt x="1023" y="2103"/>
                  </a:lnTo>
                  <a:lnTo>
                    <a:pt x="993" y="2106"/>
                  </a:lnTo>
                  <a:lnTo>
                    <a:pt x="959" y="2108"/>
                  </a:lnTo>
                  <a:lnTo>
                    <a:pt x="917" y="2106"/>
                  </a:lnTo>
                  <a:lnTo>
                    <a:pt x="897" y="2106"/>
                  </a:lnTo>
                  <a:lnTo>
                    <a:pt x="872" y="2102"/>
                  </a:lnTo>
                  <a:lnTo>
                    <a:pt x="845" y="2094"/>
                  </a:lnTo>
                  <a:lnTo>
                    <a:pt x="821" y="2081"/>
                  </a:lnTo>
                  <a:lnTo>
                    <a:pt x="806" y="2069"/>
                  </a:lnTo>
                  <a:lnTo>
                    <a:pt x="789" y="2052"/>
                  </a:lnTo>
                  <a:lnTo>
                    <a:pt x="776" y="2037"/>
                  </a:lnTo>
                  <a:lnTo>
                    <a:pt x="763" y="2018"/>
                  </a:lnTo>
                  <a:lnTo>
                    <a:pt x="752" y="1999"/>
                  </a:lnTo>
                  <a:lnTo>
                    <a:pt x="743" y="1975"/>
                  </a:lnTo>
                  <a:lnTo>
                    <a:pt x="739" y="1949"/>
                  </a:lnTo>
                  <a:lnTo>
                    <a:pt x="737" y="1930"/>
                  </a:lnTo>
                  <a:lnTo>
                    <a:pt x="737" y="1903"/>
                  </a:lnTo>
                  <a:lnTo>
                    <a:pt x="739" y="1880"/>
                  </a:lnTo>
                  <a:lnTo>
                    <a:pt x="746" y="1856"/>
                  </a:lnTo>
                  <a:lnTo>
                    <a:pt x="752" y="1828"/>
                  </a:lnTo>
                  <a:lnTo>
                    <a:pt x="760" y="1801"/>
                  </a:lnTo>
                  <a:lnTo>
                    <a:pt x="764" y="1777"/>
                  </a:lnTo>
                  <a:lnTo>
                    <a:pt x="766" y="1754"/>
                  </a:lnTo>
                  <a:lnTo>
                    <a:pt x="764" y="1736"/>
                  </a:lnTo>
                  <a:lnTo>
                    <a:pt x="760" y="1718"/>
                  </a:lnTo>
                  <a:lnTo>
                    <a:pt x="748" y="1696"/>
                  </a:lnTo>
                  <a:lnTo>
                    <a:pt x="736" y="1681"/>
                  </a:lnTo>
                  <a:lnTo>
                    <a:pt x="721" y="1664"/>
                  </a:lnTo>
                  <a:lnTo>
                    <a:pt x="704" y="1652"/>
                  </a:lnTo>
                  <a:lnTo>
                    <a:pt x="688" y="1640"/>
                  </a:lnTo>
                  <a:lnTo>
                    <a:pt x="664" y="1632"/>
                  </a:lnTo>
                  <a:lnTo>
                    <a:pt x="643" y="1626"/>
                  </a:lnTo>
                  <a:lnTo>
                    <a:pt x="616" y="1620"/>
                  </a:lnTo>
                  <a:lnTo>
                    <a:pt x="592" y="1617"/>
                  </a:lnTo>
                  <a:lnTo>
                    <a:pt x="569" y="1611"/>
                  </a:lnTo>
                  <a:lnTo>
                    <a:pt x="542" y="1605"/>
                  </a:lnTo>
                  <a:lnTo>
                    <a:pt x="520" y="1596"/>
                  </a:lnTo>
                  <a:lnTo>
                    <a:pt x="493" y="1588"/>
                  </a:lnTo>
                  <a:lnTo>
                    <a:pt x="472" y="1579"/>
                  </a:lnTo>
                  <a:lnTo>
                    <a:pt x="455" y="1566"/>
                  </a:lnTo>
                  <a:lnTo>
                    <a:pt x="442" y="1548"/>
                  </a:lnTo>
                  <a:lnTo>
                    <a:pt x="433" y="1525"/>
                  </a:lnTo>
                  <a:lnTo>
                    <a:pt x="425" y="1495"/>
                  </a:lnTo>
                  <a:lnTo>
                    <a:pt x="424" y="1471"/>
                  </a:lnTo>
                  <a:lnTo>
                    <a:pt x="425" y="1444"/>
                  </a:lnTo>
                  <a:lnTo>
                    <a:pt x="428" y="1423"/>
                  </a:lnTo>
                  <a:lnTo>
                    <a:pt x="425" y="1398"/>
                  </a:lnTo>
                  <a:lnTo>
                    <a:pt x="418" y="1378"/>
                  </a:lnTo>
                  <a:lnTo>
                    <a:pt x="404" y="1357"/>
                  </a:lnTo>
                  <a:lnTo>
                    <a:pt x="391" y="1344"/>
                  </a:lnTo>
                  <a:lnTo>
                    <a:pt x="375" y="1330"/>
                  </a:lnTo>
                  <a:lnTo>
                    <a:pt x="352" y="1321"/>
                  </a:lnTo>
                  <a:lnTo>
                    <a:pt x="327" y="1312"/>
                  </a:lnTo>
                  <a:lnTo>
                    <a:pt x="300" y="1309"/>
                  </a:lnTo>
                  <a:lnTo>
                    <a:pt x="277" y="1306"/>
                  </a:lnTo>
                  <a:lnTo>
                    <a:pt x="252" y="1306"/>
                  </a:lnTo>
                  <a:lnTo>
                    <a:pt x="229" y="1309"/>
                  </a:lnTo>
                  <a:lnTo>
                    <a:pt x="207" y="1311"/>
                  </a:lnTo>
                  <a:lnTo>
                    <a:pt x="184" y="1314"/>
                  </a:lnTo>
                  <a:lnTo>
                    <a:pt x="162" y="1317"/>
                  </a:lnTo>
                  <a:lnTo>
                    <a:pt x="124" y="1317"/>
                  </a:lnTo>
                  <a:lnTo>
                    <a:pt x="100" y="1315"/>
                  </a:lnTo>
                  <a:lnTo>
                    <a:pt x="75" y="1309"/>
                  </a:lnTo>
                  <a:lnTo>
                    <a:pt x="57" y="1300"/>
                  </a:lnTo>
                  <a:lnTo>
                    <a:pt x="37" y="1285"/>
                  </a:lnTo>
                  <a:lnTo>
                    <a:pt x="24" y="1269"/>
                  </a:lnTo>
                  <a:lnTo>
                    <a:pt x="15" y="1251"/>
                  </a:lnTo>
                  <a:lnTo>
                    <a:pt x="4" y="1217"/>
                  </a:lnTo>
                  <a:lnTo>
                    <a:pt x="3" y="1181"/>
                  </a:lnTo>
                  <a:lnTo>
                    <a:pt x="2" y="1145"/>
                  </a:lnTo>
                  <a:lnTo>
                    <a:pt x="0" y="1100"/>
                  </a:lnTo>
                  <a:lnTo>
                    <a:pt x="3" y="1061"/>
                  </a:lnTo>
                  <a:lnTo>
                    <a:pt x="4" y="1019"/>
                  </a:lnTo>
                  <a:lnTo>
                    <a:pt x="6" y="981"/>
                  </a:lnTo>
                  <a:lnTo>
                    <a:pt x="9" y="942"/>
                  </a:lnTo>
                  <a:lnTo>
                    <a:pt x="13" y="912"/>
                  </a:lnTo>
                  <a:lnTo>
                    <a:pt x="18" y="879"/>
                  </a:lnTo>
                  <a:lnTo>
                    <a:pt x="24" y="854"/>
                  </a:lnTo>
                  <a:lnTo>
                    <a:pt x="33" y="837"/>
                  </a:lnTo>
                  <a:lnTo>
                    <a:pt x="46" y="821"/>
                  </a:lnTo>
                  <a:lnTo>
                    <a:pt x="60" y="811"/>
                  </a:lnTo>
                  <a:lnTo>
                    <a:pt x="78" y="799"/>
                  </a:lnTo>
                  <a:lnTo>
                    <a:pt x="94" y="796"/>
                  </a:lnTo>
                  <a:lnTo>
                    <a:pt x="115" y="791"/>
                  </a:lnTo>
                  <a:lnTo>
                    <a:pt x="142" y="790"/>
                  </a:lnTo>
                  <a:lnTo>
                    <a:pt x="166" y="791"/>
                  </a:lnTo>
                  <a:lnTo>
                    <a:pt x="199" y="796"/>
                  </a:lnTo>
                  <a:lnTo>
                    <a:pt x="228" y="797"/>
                  </a:lnTo>
                  <a:lnTo>
                    <a:pt x="252" y="799"/>
                  </a:lnTo>
                  <a:lnTo>
                    <a:pt x="285" y="800"/>
                  </a:lnTo>
                  <a:lnTo>
                    <a:pt x="319" y="796"/>
                  </a:lnTo>
                  <a:lnTo>
                    <a:pt x="348" y="790"/>
                  </a:lnTo>
                  <a:lnTo>
                    <a:pt x="375" y="779"/>
                  </a:lnTo>
                  <a:lnTo>
                    <a:pt x="392" y="769"/>
                  </a:lnTo>
                  <a:lnTo>
                    <a:pt x="410" y="752"/>
                  </a:lnTo>
                  <a:lnTo>
                    <a:pt x="424" y="731"/>
                  </a:lnTo>
                  <a:lnTo>
                    <a:pt x="433" y="710"/>
                  </a:lnTo>
                  <a:lnTo>
                    <a:pt x="436" y="688"/>
                  </a:lnTo>
                  <a:lnTo>
                    <a:pt x="434" y="671"/>
                  </a:lnTo>
                  <a:lnTo>
                    <a:pt x="433" y="640"/>
                  </a:lnTo>
                  <a:lnTo>
                    <a:pt x="434" y="608"/>
                  </a:lnTo>
                  <a:lnTo>
                    <a:pt x="440" y="584"/>
                  </a:lnTo>
                  <a:lnTo>
                    <a:pt x="448" y="562"/>
                  </a:lnTo>
                  <a:lnTo>
                    <a:pt x="458" y="545"/>
                  </a:lnTo>
                  <a:lnTo>
                    <a:pt x="479" y="529"/>
                  </a:lnTo>
                  <a:lnTo>
                    <a:pt x="502" y="517"/>
                  </a:lnTo>
                  <a:lnTo>
                    <a:pt x="530" y="508"/>
                  </a:lnTo>
                  <a:lnTo>
                    <a:pt x="559" y="500"/>
                  </a:lnTo>
                  <a:lnTo>
                    <a:pt x="583" y="494"/>
                  </a:lnTo>
                  <a:lnTo>
                    <a:pt x="613" y="490"/>
                  </a:lnTo>
                  <a:lnTo>
                    <a:pt x="641" y="484"/>
                  </a:lnTo>
                  <a:lnTo>
                    <a:pt x="674" y="475"/>
                  </a:lnTo>
                  <a:lnTo>
                    <a:pt x="706" y="461"/>
                  </a:lnTo>
                  <a:lnTo>
                    <a:pt x="733" y="440"/>
                  </a:lnTo>
                  <a:close/>
                </a:path>
              </a:pathLst>
            </a:custGeom>
            <a:solidFill>
              <a:srgbClr val="ff33cc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3679560" y="3168720"/>
              <a:ext cx="1895400" cy="124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CIS/2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STEP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5" name=""/>
          <p:cNvGrpSpPr/>
          <p:nvPr/>
        </p:nvGrpSpPr>
        <p:grpSpPr>
          <a:xfrm>
            <a:off x="4618080" y="3662280"/>
            <a:ext cx="2754360" cy="2237040"/>
            <a:chOff x="4618080" y="3662280"/>
            <a:chExt cx="2754360" cy="2237040"/>
          </a:xfrm>
        </p:grpSpPr>
        <p:sp>
          <p:nvSpPr>
            <p:cNvPr id="436" name=""/>
            <p:cNvSpPr/>
            <p:nvPr/>
          </p:nvSpPr>
          <p:spPr>
            <a:xfrm>
              <a:off x="4618080" y="3662280"/>
              <a:ext cx="2754360" cy="2237040"/>
            </a:xfrm>
            <a:custGeom>
              <a:avLst/>
              <a:gdLst/>
              <a:ahLst/>
              <a:rect l="l" t="t" r="r" b="b"/>
              <a:pathLst>
                <a:path w="1735" h="1409">
                  <a:moveTo>
                    <a:pt x="0" y="1113"/>
                  </a:moveTo>
                  <a:lnTo>
                    <a:pt x="0" y="1409"/>
                  </a:lnTo>
                  <a:lnTo>
                    <a:pt x="1735" y="1409"/>
                  </a:lnTo>
                  <a:lnTo>
                    <a:pt x="1733" y="0"/>
                  </a:lnTo>
                  <a:lnTo>
                    <a:pt x="1579" y="0"/>
                  </a:lnTo>
                  <a:lnTo>
                    <a:pt x="1571" y="27"/>
                  </a:lnTo>
                  <a:lnTo>
                    <a:pt x="1571" y="47"/>
                  </a:lnTo>
                  <a:lnTo>
                    <a:pt x="1576" y="74"/>
                  </a:lnTo>
                  <a:lnTo>
                    <a:pt x="1585" y="102"/>
                  </a:lnTo>
                  <a:lnTo>
                    <a:pt x="1594" y="137"/>
                  </a:lnTo>
                  <a:lnTo>
                    <a:pt x="1598" y="164"/>
                  </a:lnTo>
                  <a:lnTo>
                    <a:pt x="1598" y="188"/>
                  </a:lnTo>
                  <a:lnTo>
                    <a:pt x="1595" y="215"/>
                  </a:lnTo>
                  <a:lnTo>
                    <a:pt x="1588" y="240"/>
                  </a:lnTo>
                  <a:lnTo>
                    <a:pt x="1571" y="264"/>
                  </a:lnTo>
                  <a:lnTo>
                    <a:pt x="1552" y="285"/>
                  </a:lnTo>
                  <a:lnTo>
                    <a:pt x="1531" y="304"/>
                  </a:lnTo>
                  <a:lnTo>
                    <a:pt x="1507" y="318"/>
                  </a:lnTo>
                  <a:lnTo>
                    <a:pt x="1478" y="328"/>
                  </a:lnTo>
                  <a:lnTo>
                    <a:pt x="1453" y="334"/>
                  </a:lnTo>
                  <a:lnTo>
                    <a:pt x="1417" y="336"/>
                  </a:lnTo>
                  <a:lnTo>
                    <a:pt x="1375" y="333"/>
                  </a:lnTo>
                  <a:lnTo>
                    <a:pt x="1348" y="328"/>
                  </a:lnTo>
                  <a:lnTo>
                    <a:pt x="1324" y="322"/>
                  </a:lnTo>
                  <a:lnTo>
                    <a:pt x="1302" y="309"/>
                  </a:lnTo>
                  <a:lnTo>
                    <a:pt x="1273" y="286"/>
                  </a:lnTo>
                  <a:lnTo>
                    <a:pt x="1255" y="265"/>
                  </a:lnTo>
                  <a:lnTo>
                    <a:pt x="1239" y="243"/>
                  </a:lnTo>
                  <a:lnTo>
                    <a:pt x="1230" y="219"/>
                  </a:lnTo>
                  <a:lnTo>
                    <a:pt x="1224" y="197"/>
                  </a:lnTo>
                  <a:lnTo>
                    <a:pt x="1224" y="171"/>
                  </a:lnTo>
                  <a:lnTo>
                    <a:pt x="1227" y="146"/>
                  </a:lnTo>
                  <a:lnTo>
                    <a:pt x="1233" y="122"/>
                  </a:lnTo>
                  <a:lnTo>
                    <a:pt x="1239" y="99"/>
                  </a:lnTo>
                  <a:lnTo>
                    <a:pt x="1246" y="75"/>
                  </a:lnTo>
                  <a:lnTo>
                    <a:pt x="1251" y="51"/>
                  </a:lnTo>
                  <a:lnTo>
                    <a:pt x="1251" y="30"/>
                  </a:lnTo>
                  <a:lnTo>
                    <a:pt x="1245" y="6"/>
                  </a:lnTo>
                  <a:lnTo>
                    <a:pt x="954" y="6"/>
                  </a:lnTo>
                  <a:lnTo>
                    <a:pt x="957" y="56"/>
                  </a:lnTo>
                  <a:lnTo>
                    <a:pt x="954" y="90"/>
                  </a:lnTo>
                  <a:lnTo>
                    <a:pt x="953" y="119"/>
                  </a:lnTo>
                  <a:lnTo>
                    <a:pt x="953" y="144"/>
                  </a:lnTo>
                  <a:lnTo>
                    <a:pt x="950" y="171"/>
                  </a:lnTo>
                  <a:lnTo>
                    <a:pt x="944" y="198"/>
                  </a:lnTo>
                  <a:lnTo>
                    <a:pt x="936" y="216"/>
                  </a:lnTo>
                  <a:lnTo>
                    <a:pt x="926" y="233"/>
                  </a:lnTo>
                  <a:lnTo>
                    <a:pt x="911" y="246"/>
                  </a:lnTo>
                  <a:lnTo>
                    <a:pt x="894" y="256"/>
                  </a:lnTo>
                  <a:lnTo>
                    <a:pt x="875" y="262"/>
                  </a:lnTo>
                  <a:lnTo>
                    <a:pt x="854" y="265"/>
                  </a:lnTo>
                  <a:lnTo>
                    <a:pt x="834" y="267"/>
                  </a:lnTo>
                  <a:lnTo>
                    <a:pt x="809" y="267"/>
                  </a:lnTo>
                  <a:lnTo>
                    <a:pt x="785" y="264"/>
                  </a:lnTo>
                  <a:lnTo>
                    <a:pt x="765" y="262"/>
                  </a:lnTo>
                  <a:lnTo>
                    <a:pt x="740" y="261"/>
                  </a:lnTo>
                  <a:lnTo>
                    <a:pt x="713" y="258"/>
                  </a:lnTo>
                  <a:lnTo>
                    <a:pt x="683" y="258"/>
                  </a:lnTo>
                  <a:lnTo>
                    <a:pt x="657" y="261"/>
                  </a:lnTo>
                  <a:lnTo>
                    <a:pt x="632" y="264"/>
                  </a:lnTo>
                  <a:lnTo>
                    <a:pt x="605" y="271"/>
                  </a:lnTo>
                  <a:lnTo>
                    <a:pt x="586" y="282"/>
                  </a:lnTo>
                  <a:lnTo>
                    <a:pt x="565" y="295"/>
                  </a:lnTo>
                  <a:lnTo>
                    <a:pt x="551" y="313"/>
                  </a:lnTo>
                  <a:lnTo>
                    <a:pt x="538" y="333"/>
                  </a:lnTo>
                  <a:lnTo>
                    <a:pt x="532" y="352"/>
                  </a:lnTo>
                  <a:lnTo>
                    <a:pt x="529" y="375"/>
                  </a:lnTo>
                  <a:lnTo>
                    <a:pt x="532" y="397"/>
                  </a:lnTo>
                  <a:lnTo>
                    <a:pt x="533" y="421"/>
                  </a:lnTo>
                  <a:lnTo>
                    <a:pt x="532" y="447"/>
                  </a:lnTo>
                  <a:lnTo>
                    <a:pt x="527" y="466"/>
                  </a:lnTo>
                  <a:lnTo>
                    <a:pt x="521" y="487"/>
                  </a:lnTo>
                  <a:lnTo>
                    <a:pt x="512" y="507"/>
                  </a:lnTo>
                  <a:lnTo>
                    <a:pt x="500" y="520"/>
                  </a:lnTo>
                  <a:lnTo>
                    <a:pt x="481" y="534"/>
                  </a:lnTo>
                  <a:lnTo>
                    <a:pt x="457" y="543"/>
                  </a:lnTo>
                  <a:lnTo>
                    <a:pt x="433" y="550"/>
                  </a:lnTo>
                  <a:lnTo>
                    <a:pt x="410" y="556"/>
                  </a:lnTo>
                  <a:lnTo>
                    <a:pt x="386" y="562"/>
                  </a:lnTo>
                  <a:lnTo>
                    <a:pt x="355" y="568"/>
                  </a:lnTo>
                  <a:lnTo>
                    <a:pt x="331" y="573"/>
                  </a:lnTo>
                  <a:lnTo>
                    <a:pt x="305" y="580"/>
                  </a:lnTo>
                  <a:lnTo>
                    <a:pt x="284" y="588"/>
                  </a:lnTo>
                  <a:lnTo>
                    <a:pt x="263" y="597"/>
                  </a:lnTo>
                  <a:lnTo>
                    <a:pt x="247" y="609"/>
                  </a:lnTo>
                  <a:lnTo>
                    <a:pt x="232" y="621"/>
                  </a:lnTo>
                  <a:lnTo>
                    <a:pt x="215" y="640"/>
                  </a:lnTo>
                  <a:lnTo>
                    <a:pt x="205" y="658"/>
                  </a:lnTo>
                  <a:lnTo>
                    <a:pt x="196" y="679"/>
                  </a:lnTo>
                  <a:lnTo>
                    <a:pt x="192" y="704"/>
                  </a:lnTo>
                  <a:lnTo>
                    <a:pt x="195" y="728"/>
                  </a:lnTo>
                  <a:lnTo>
                    <a:pt x="198" y="752"/>
                  </a:lnTo>
                  <a:lnTo>
                    <a:pt x="205" y="781"/>
                  </a:lnTo>
                  <a:lnTo>
                    <a:pt x="212" y="812"/>
                  </a:lnTo>
                  <a:lnTo>
                    <a:pt x="218" y="841"/>
                  </a:lnTo>
                  <a:lnTo>
                    <a:pt x="221" y="863"/>
                  </a:lnTo>
                  <a:lnTo>
                    <a:pt x="221" y="884"/>
                  </a:lnTo>
                  <a:lnTo>
                    <a:pt x="218" y="913"/>
                  </a:lnTo>
                  <a:lnTo>
                    <a:pt x="211" y="937"/>
                  </a:lnTo>
                  <a:lnTo>
                    <a:pt x="205" y="958"/>
                  </a:lnTo>
                  <a:lnTo>
                    <a:pt x="196" y="977"/>
                  </a:lnTo>
                  <a:lnTo>
                    <a:pt x="184" y="1003"/>
                  </a:lnTo>
                  <a:lnTo>
                    <a:pt x="168" y="1031"/>
                  </a:lnTo>
                  <a:lnTo>
                    <a:pt x="150" y="1052"/>
                  </a:lnTo>
                  <a:lnTo>
                    <a:pt x="132" y="1068"/>
                  </a:lnTo>
                  <a:lnTo>
                    <a:pt x="115" y="1083"/>
                  </a:lnTo>
                  <a:lnTo>
                    <a:pt x="97" y="1095"/>
                  </a:lnTo>
                  <a:lnTo>
                    <a:pt x="79" y="1103"/>
                  </a:lnTo>
                  <a:lnTo>
                    <a:pt x="54" y="1109"/>
                  </a:lnTo>
                  <a:lnTo>
                    <a:pt x="25" y="1113"/>
                  </a:lnTo>
                  <a:lnTo>
                    <a:pt x="0" y="1113"/>
                  </a:lnTo>
                  <a:close/>
                </a:path>
              </a:pathLst>
            </a:custGeom>
            <a:solidFill>
              <a:srgbClr val="0033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5318640" y="4195800"/>
              <a:ext cx="1946880" cy="16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4x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Generi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Resource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8" name=""/>
          <p:cNvGrpSpPr/>
          <p:nvPr/>
        </p:nvGrpSpPr>
        <p:grpSpPr>
          <a:xfrm>
            <a:off x="4629240" y="1533600"/>
            <a:ext cx="2743200" cy="2668680"/>
            <a:chOff x="4629240" y="1533600"/>
            <a:chExt cx="2743200" cy="2668680"/>
          </a:xfrm>
        </p:grpSpPr>
        <p:sp>
          <p:nvSpPr>
            <p:cNvPr id="439" name=""/>
            <p:cNvSpPr/>
            <p:nvPr/>
          </p:nvSpPr>
          <p:spPr>
            <a:xfrm>
              <a:off x="4629240" y="153360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0" y="351"/>
                  </a:moveTo>
                  <a:lnTo>
                    <a:pt x="0" y="0"/>
                  </a:lnTo>
                  <a:lnTo>
                    <a:pt x="1726" y="0"/>
                  </a:lnTo>
                  <a:lnTo>
                    <a:pt x="1728" y="1343"/>
                  </a:lnTo>
                  <a:lnTo>
                    <a:pt x="1578" y="1343"/>
                  </a:lnTo>
                  <a:lnTo>
                    <a:pt x="1572" y="1355"/>
                  </a:lnTo>
                  <a:lnTo>
                    <a:pt x="1567" y="1371"/>
                  </a:lnTo>
                  <a:lnTo>
                    <a:pt x="1567" y="1385"/>
                  </a:lnTo>
                  <a:lnTo>
                    <a:pt x="1569" y="1401"/>
                  </a:lnTo>
                  <a:lnTo>
                    <a:pt x="1575" y="1422"/>
                  </a:lnTo>
                  <a:lnTo>
                    <a:pt x="1581" y="1449"/>
                  </a:lnTo>
                  <a:lnTo>
                    <a:pt x="1587" y="1467"/>
                  </a:lnTo>
                  <a:lnTo>
                    <a:pt x="1591" y="1490"/>
                  </a:lnTo>
                  <a:lnTo>
                    <a:pt x="1594" y="1511"/>
                  </a:lnTo>
                  <a:lnTo>
                    <a:pt x="1594" y="1532"/>
                  </a:lnTo>
                  <a:lnTo>
                    <a:pt x="1591" y="1551"/>
                  </a:lnTo>
                  <a:lnTo>
                    <a:pt x="1587" y="1572"/>
                  </a:lnTo>
                  <a:lnTo>
                    <a:pt x="1579" y="1591"/>
                  </a:lnTo>
                  <a:lnTo>
                    <a:pt x="1567" y="1606"/>
                  </a:lnTo>
                  <a:lnTo>
                    <a:pt x="1551" y="1624"/>
                  </a:lnTo>
                  <a:lnTo>
                    <a:pt x="1534" y="1638"/>
                  </a:lnTo>
                  <a:lnTo>
                    <a:pt x="1519" y="1651"/>
                  </a:lnTo>
                  <a:lnTo>
                    <a:pt x="1501" y="1662"/>
                  </a:lnTo>
                  <a:lnTo>
                    <a:pt x="1480" y="1669"/>
                  </a:lnTo>
                  <a:lnTo>
                    <a:pt x="1455" y="1677"/>
                  </a:lnTo>
                  <a:lnTo>
                    <a:pt x="1431" y="1680"/>
                  </a:lnTo>
                  <a:lnTo>
                    <a:pt x="1410" y="1681"/>
                  </a:lnTo>
                  <a:lnTo>
                    <a:pt x="1387" y="1681"/>
                  </a:lnTo>
                  <a:lnTo>
                    <a:pt x="1367" y="1680"/>
                  </a:lnTo>
                  <a:lnTo>
                    <a:pt x="1350" y="1677"/>
                  </a:lnTo>
                  <a:lnTo>
                    <a:pt x="1331" y="1671"/>
                  </a:lnTo>
                  <a:lnTo>
                    <a:pt x="1311" y="1665"/>
                  </a:lnTo>
                  <a:lnTo>
                    <a:pt x="1296" y="1656"/>
                  </a:lnTo>
                  <a:lnTo>
                    <a:pt x="1280" y="1644"/>
                  </a:lnTo>
                  <a:lnTo>
                    <a:pt x="1265" y="1629"/>
                  </a:lnTo>
                  <a:lnTo>
                    <a:pt x="1250" y="1612"/>
                  </a:lnTo>
                  <a:lnTo>
                    <a:pt x="1236" y="1596"/>
                  </a:lnTo>
                  <a:lnTo>
                    <a:pt x="1226" y="1578"/>
                  </a:lnTo>
                  <a:lnTo>
                    <a:pt x="1218" y="1556"/>
                  </a:lnTo>
                  <a:lnTo>
                    <a:pt x="1212" y="1530"/>
                  </a:lnTo>
                  <a:lnTo>
                    <a:pt x="1212" y="1506"/>
                  </a:lnTo>
                  <a:lnTo>
                    <a:pt x="1218" y="1482"/>
                  </a:lnTo>
                  <a:lnTo>
                    <a:pt x="1224" y="1458"/>
                  </a:lnTo>
                  <a:lnTo>
                    <a:pt x="1230" y="1434"/>
                  </a:lnTo>
                  <a:lnTo>
                    <a:pt x="1238" y="1407"/>
                  </a:lnTo>
                  <a:lnTo>
                    <a:pt x="1241" y="1386"/>
                  </a:lnTo>
                  <a:lnTo>
                    <a:pt x="1241" y="1374"/>
                  </a:lnTo>
                  <a:lnTo>
                    <a:pt x="1239" y="1364"/>
                  </a:lnTo>
                  <a:lnTo>
                    <a:pt x="1235" y="1352"/>
                  </a:lnTo>
                  <a:lnTo>
                    <a:pt x="947" y="1352"/>
                  </a:lnTo>
                  <a:lnTo>
                    <a:pt x="952" y="1301"/>
                  </a:lnTo>
                  <a:lnTo>
                    <a:pt x="950" y="1272"/>
                  </a:lnTo>
                  <a:lnTo>
                    <a:pt x="947" y="1245"/>
                  </a:lnTo>
                  <a:lnTo>
                    <a:pt x="944" y="1220"/>
                  </a:lnTo>
                  <a:lnTo>
                    <a:pt x="940" y="1203"/>
                  </a:lnTo>
                  <a:lnTo>
                    <a:pt x="932" y="1188"/>
                  </a:lnTo>
                  <a:lnTo>
                    <a:pt x="923" y="1175"/>
                  </a:lnTo>
                  <a:lnTo>
                    <a:pt x="908" y="1163"/>
                  </a:lnTo>
                  <a:lnTo>
                    <a:pt x="892" y="1153"/>
                  </a:lnTo>
                  <a:lnTo>
                    <a:pt x="875" y="1147"/>
                  </a:lnTo>
                  <a:lnTo>
                    <a:pt x="860" y="1144"/>
                  </a:lnTo>
                  <a:lnTo>
                    <a:pt x="835" y="1142"/>
                  </a:lnTo>
                  <a:lnTo>
                    <a:pt x="805" y="1142"/>
                  </a:lnTo>
                  <a:lnTo>
                    <a:pt x="776" y="1145"/>
                  </a:lnTo>
                  <a:lnTo>
                    <a:pt x="745" y="1147"/>
                  </a:lnTo>
                  <a:lnTo>
                    <a:pt x="721" y="1150"/>
                  </a:lnTo>
                  <a:lnTo>
                    <a:pt x="689" y="1151"/>
                  </a:lnTo>
                  <a:lnTo>
                    <a:pt x="664" y="1150"/>
                  </a:lnTo>
                  <a:lnTo>
                    <a:pt x="641" y="1147"/>
                  </a:lnTo>
                  <a:lnTo>
                    <a:pt x="607" y="1139"/>
                  </a:lnTo>
                  <a:lnTo>
                    <a:pt x="585" y="1129"/>
                  </a:lnTo>
                  <a:lnTo>
                    <a:pt x="564" y="1114"/>
                  </a:lnTo>
                  <a:lnTo>
                    <a:pt x="550" y="1097"/>
                  </a:lnTo>
                  <a:lnTo>
                    <a:pt x="538" y="1079"/>
                  </a:lnTo>
                  <a:lnTo>
                    <a:pt x="529" y="1057"/>
                  </a:lnTo>
                  <a:lnTo>
                    <a:pt x="528" y="1033"/>
                  </a:lnTo>
                  <a:lnTo>
                    <a:pt x="528" y="1003"/>
                  </a:lnTo>
                  <a:lnTo>
                    <a:pt x="529" y="980"/>
                  </a:lnTo>
                  <a:lnTo>
                    <a:pt x="528" y="958"/>
                  </a:lnTo>
                  <a:lnTo>
                    <a:pt x="522" y="932"/>
                  </a:lnTo>
                  <a:lnTo>
                    <a:pt x="517" y="917"/>
                  </a:lnTo>
                  <a:lnTo>
                    <a:pt x="510" y="902"/>
                  </a:lnTo>
                  <a:lnTo>
                    <a:pt x="501" y="892"/>
                  </a:lnTo>
                  <a:lnTo>
                    <a:pt x="492" y="883"/>
                  </a:lnTo>
                  <a:lnTo>
                    <a:pt x="472" y="874"/>
                  </a:lnTo>
                  <a:lnTo>
                    <a:pt x="450" y="863"/>
                  </a:lnTo>
                  <a:lnTo>
                    <a:pt x="424" y="856"/>
                  </a:lnTo>
                  <a:lnTo>
                    <a:pt x="394" y="848"/>
                  </a:lnTo>
                  <a:lnTo>
                    <a:pt x="364" y="842"/>
                  </a:lnTo>
                  <a:lnTo>
                    <a:pt x="333" y="838"/>
                  </a:lnTo>
                  <a:lnTo>
                    <a:pt x="310" y="830"/>
                  </a:lnTo>
                  <a:lnTo>
                    <a:pt x="286" y="823"/>
                  </a:lnTo>
                  <a:lnTo>
                    <a:pt x="262" y="814"/>
                  </a:lnTo>
                  <a:lnTo>
                    <a:pt x="246" y="800"/>
                  </a:lnTo>
                  <a:lnTo>
                    <a:pt x="226" y="784"/>
                  </a:lnTo>
                  <a:lnTo>
                    <a:pt x="213" y="769"/>
                  </a:lnTo>
                  <a:lnTo>
                    <a:pt x="201" y="751"/>
                  </a:lnTo>
                  <a:lnTo>
                    <a:pt x="192" y="730"/>
                  </a:lnTo>
                  <a:lnTo>
                    <a:pt x="189" y="708"/>
                  </a:lnTo>
                  <a:lnTo>
                    <a:pt x="189" y="687"/>
                  </a:lnTo>
                  <a:lnTo>
                    <a:pt x="194" y="667"/>
                  </a:lnTo>
                  <a:lnTo>
                    <a:pt x="201" y="639"/>
                  </a:lnTo>
                  <a:lnTo>
                    <a:pt x="208" y="610"/>
                  </a:lnTo>
                  <a:lnTo>
                    <a:pt x="211" y="585"/>
                  </a:lnTo>
                  <a:lnTo>
                    <a:pt x="217" y="559"/>
                  </a:lnTo>
                  <a:lnTo>
                    <a:pt x="220" y="534"/>
                  </a:lnTo>
                  <a:lnTo>
                    <a:pt x="217" y="507"/>
                  </a:lnTo>
                  <a:lnTo>
                    <a:pt x="211" y="483"/>
                  </a:lnTo>
                  <a:lnTo>
                    <a:pt x="202" y="459"/>
                  </a:lnTo>
                  <a:lnTo>
                    <a:pt x="191" y="436"/>
                  </a:lnTo>
                  <a:lnTo>
                    <a:pt x="177" y="418"/>
                  </a:lnTo>
                  <a:lnTo>
                    <a:pt x="170" y="408"/>
                  </a:lnTo>
                  <a:lnTo>
                    <a:pt x="156" y="394"/>
                  </a:lnTo>
                  <a:lnTo>
                    <a:pt x="143" y="383"/>
                  </a:lnTo>
                  <a:lnTo>
                    <a:pt x="129" y="374"/>
                  </a:lnTo>
                  <a:lnTo>
                    <a:pt x="111" y="365"/>
                  </a:lnTo>
                  <a:lnTo>
                    <a:pt x="93" y="359"/>
                  </a:lnTo>
                  <a:lnTo>
                    <a:pt x="71" y="353"/>
                  </a:lnTo>
                  <a:lnTo>
                    <a:pt x="45" y="351"/>
                  </a:lnTo>
                  <a:lnTo>
                    <a:pt x="23" y="351"/>
                  </a:lnTo>
                  <a:lnTo>
                    <a:pt x="0" y="351"/>
                  </a:lnTo>
                  <a:close/>
                </a:path>
              </a:pathLst>
            </a:custGeom>
            <a:solidFill>
              <a:srgbClr val="cc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946040" y="1619280"/>
              <a:ext cx="2386080" cy="16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21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Physical Fil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Forma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1874880" y="1533600"/>
            <a:ext cx="2754360" cy="2236680"/>
            <a:chOff x="1874880" y="1533600"/>
            <a:chExt cx="2754360" cy="2236680"/>
          </a:xfrm>
        </p:grpSpPr>
        <p:sp>
          <p:nvSpPr>
            <p:cNvPr id="442" name=""/>
            <p:cNvSpPr/>
            <p:nvPr/>
          </p:nvSpPr>
          <p:spPr>
            <a:xfrm>
              <a:off x="1874880" y="1533600"/>
              <a:ext cx="2754360" cy="2236680"/>
            </a:xfrm>
            <a:custGeom>
              <a:avLst/>
              <a:gdLst/>
              <a:ahLst/>
              <a:rect l="l" t="t" r="r" b="b"/>
              <a:pathLst>
                <a:path w="1735" h="1409">
                  <a:moveTo>
                    <a:pt x="1735" y="351"/>
                  </a:moveTo>
                  <a:lnTo>
                    <a:pt x="1735" y="0"/>
                  </a:lnTo>
                  <a:lnTo>
                    <a:pt x="0" y="0"/>
                  </a:lnTo>
                  <a:lnTo>
                    <a:pt x="2" y="1409"/>
                  </a:lnTo>
                  <a:lnTo>
                    <a:pt x="156" y="1409"/>
                  </a:lnTo>
                  <a:lnTo>
                    <a:pt x="164" y="1382"/>
                  </a:lnTo>
                  <a:lnTo>
                    <a:pt x="164" y="1362"/>
                  </a:lnTo>
                  <a:lnTo>
                    <a:pt x="159" y="1335"/>
                  </a:lnTo>
                  <a:lnTo>
                    <a:pt x="150" y="1307"/>
                  </a:lnTo>
                  <a:lnTo>
                    <a:pt x="141" y="1272"/>
                  </a:lnTo>
                  <a:lnTo>
                    <a:pt x="137" y="1245"/>
                  </a:lnTo>
                  <a:lnTo>
                    <a:pt x="135" y="1221"/>
                  </a:lnTo>
                  <a:lnTo>
                    <a:pt x="140" y="1194"/>
                  </a:lnTo>
                  <a:lnTo>
                    <a:pt x="147" y="1169"/>
                  </a:lnTo>
                  <a:lnTo>
                    <a:pt x="164" y="1144"/>
                  </a:lnTo>
                  <a:lnTo>
                    <a:pt x="183" y="1124"/>
                  </a:lnTo>
                  <a:lnTo>
                    <a:pt x="204" y="1105"/>
                  </a:lnTo>
                  <a:lnTo>
                    <a:pt x="228" y="1091"/>
                  </a:lnTo>
                  <a:lnTo>
                    <a:pt x="257" y="1079"/>
                  </a:lnTo>
                  <a:lnTo>
                    <a:pt x="282" y="1075"/>
                  </a:lnTo>
                  <a:lnTo>
                    <a:pt x="318" y="1073"/>
                  </a:lnTo>
                  <a:lnTo>
                    <a:pt x="360" y="1076"/>
                  </a:lnTo>
                  <a:lnTo>
                    <a:pt x="387" y="1079"/>
                  </a:lnTo>
                  <a:lnTo>
                    <a:pt x="411" y="1087"/>
                  </a:lnTo>
                  <a:lnTo>
                    <a:pt x="433" y="1100"/>
                  </a:lnTo>
                  <a:lnTo>
                    <a:pt x="462" y="1123"/>
                  </a:lnTo>
                  <a:lnTo>
                    <a:pt x="480" y="1144"/>
                  </a:lnTo>
                  <a:lnTo>
                    <a:pt x="496" y="1166"/>
                  </a:lnTo>
                  <a:lnTo>
                    <a:pt x="505" y="1190"/>
                  </a:lnTo>
                  <a:lnTo>
                    <a:pt x="511" y="1212"/>
                  </a:lnTo>
                  <a:lnTo>
                    <a:pt x="511" y="1238"/>
                  </a:lnTo>
                  <a:lnTo>
                    <a:pt x="508" y="1263"/>
                  </a:lnTo>
                  <a:lnTo>
                    <a:pt x="502" y="1287"/>
                  </a:lnTo>
                  <a:lnTo>
                    <a:pt x="496" y="1310"/>
                  </a:lnTo>
                  <a:lnTo>
                    <a:pt x="489" y="1334"/>
                  </a:lnTo>
                  <a:lnTo>
                    <a:pt x="484" y="1358"/>
                  </a:lnTo>
                  <a:lnTo>
                    <a:pt x="484" y="1379"/>
                  </a:lnTo>
                  <a:lnTo>
                    <a:pt x="490" y="1403"/>
                  </a:lnTo>
                  <a:lnTo>
                    <a:pt x="781" y="1403"/>
                  </a:lnTo>
                  <a:lnTo>
                    <a:pt x="778" y="1353"/>
                  </a:lnTo>
                  <a:lnTo>
                    <a:pt x="781" y="1317"/>
                  </a:lnTo>
                  <a:lnTo>
                    <a:pt x="781" y="1290"/>
                  </a:lnTo>
                  <a:lnTo>
                    <a:pt x="782" y="1265"/>
                  </a:lnTo>
                  <a:lnTo>
                    <a:pt x="785" y="1238"/>
                  </a:lnTo>
                  <a:lnTo>
                    <a:pt x="791" y="1211"/>
                  </a:lnTo>
                  <a:lnTo>
                    <a:pt x="799" y="1193"/>
                  </a:lnTo>
                  <a:lnTo>
                    <a:pt x="809" y="1177"/>
                  </a:lnTo>
                  <a:lnTo>
                    <a:pt x="824" y="1163"/>
                  </a:lnTo>
                  <a:lnTo>
                    <a:pt x="841" y="1153"/>
                  </a:lnTo>
                  <a:lnTo>
                    <a:pt x="860" y="1147"/>
                  </a:lnTo>
                  <a:lnTo>
                    <a:pt x="881" y="1144"/>
                  </a:lnTo>
                  <a:lnTo>
                    <a:pt x="901" y="1142"/>
                  </a:lnTo>
                  <a:lnTo>
                    <a:pt x="926" y="1142"/>
                  </a:lnTo>
                  <a:lnTo>
                    <a:pt x="950" y="1144"/>
                  </a:lnTo>
                  <a:lnTo>
                    <a:pt x="970" y="1147"/>
                  </a:lnTo>
                  <a:lnTo>
                    <a:pt x="995" y="1148"/>
                  </a:lnTo>
                  <a:lnTo>
                    <a:pt x="1022" y="1151"/>
                  </a:lnTo>
                  <a:lnTo>
                    <a:pt x="1052" y="1151"/>
                  </a:lnTo>
                  <a:lnTo>
                    <a:pt x="1078" y="1148"/>
                  </a:lnTo>
                  <a:lnTo>
                    <a:pt x="1103" y="1144"/>
                  </a:lnTo>
                  <a:lnTo>
                    <a:pt x="1130" y="1138"/>
                  </a:lnTo>
                  <a:lnTo>
                    <a:pt x="1150" y="1127"/>
                  </a:lnTo>
                  <a:lnTo>
                    <a:pt x="1170" y="1114"/>
                  </a:lnTo>
                  <a:lnTo>
                    <a:pt x="1184" y="1096"/>
                  </a:lnTo>
                  <a:lnTo>
                    <a:pt x="1197" y="1076"/>
                  </a:lnTo>
                  <a:lnTo>
                    <a:pt x="1203" y="1057"/>
                  </a:lnTo>
                  <a:lnTo>
                    <a:pt x="1206" y="1034"/>
                  </a:lnTo>
                  <a:lnTo>
                    <a:pt x="1203" y="1012"/>
                  </a:lnTo>
                  <a:lnTo>
                    <a:pt x="1202" y="988"/>
                  </a:lnTo>
                  <a:lnTo>
                    <a:pt x="1203" y="962"/>
                  </a:lnTo>
                  <a:lnTo>
                    <a:pt x="1208" y="943"/>
                  </a:lnTo>
                  <a:lnTo>
                    <a:pt x="1214" y="922"/>
                  </a:lnTo>
                  <a:lnTo>
                    <a:pt x="1223" y="902"/>
                  </a:lnTo>
                  <a:lnTo>
                    <a:pt x="1235" y="889"/>
                  </a:lnTo>
                  <a:lnTo>
                    <a:pt x="1254" y="875"/>
                  </a:lnTo>
                  <a:lnTo>
                    <a:pt x="1278" y="866"/>
                  </a:lnTo>
                  <a:lnTo>
                    <a:pt x="1302" y="859"/>
                  </a:lnTo>
                  <a:lnTo>
                    <a:pt x="1325" y="853"/>
                  </a:lnTo>
                  <a:lnTo>
                    <a:pt x="1349" y="847"/>
                  </a:lnTo>
                  <a:lnTo>
                    <a:pt x="1380" y="841"/>
                  </a:lnTo>
                  <a:lnTo>
                    <a:pt x="1404" y="836"/>
                  </a:lnTo>
                  <a:lnTo>
                    <a:pt x="1430" y="829"/>
                  </a:lnTo>
                  <a:lnTo>
                    <a:pt x="1451" y="821"/>
                  </a:lnTo>
                  <a:lnTo>
                    <a:pt x="1472" y="812"/>
                  </a:lnTo>
                  <a:lnTo>
                    <a:pt x="1488" y="800"/>
                  </a:lnTo>
                  <a:lnTo>
                    <a:pt x="1503" y="788"/>
                  </a:lnTo>
                  <a:lnTo>
                    <a:pt x="1520" y="769"/>
                  </a:lnTo>
                  <a:lnTo>
                    <a:pt x="1530" y="751"/>
                  </a:lnTo>
                  <a:lnTo>
                    <a:pt x="1539" y="730"/>
                  </a:lnTo>
                  <a:lnTo>
                    <a:pt x="1544" y="703"/>
                  </a:lnTo>
                  <a:lnTo>
                    <a:pt x="1541" y="681"/>
                  </a:lnTo>
                  <a:lnTo>
                    <a:pt x="1538" y="657"/>
                  </a:lnTo>
                  <a:lnTo>
                    <a:pt x="1530" y="628"/>
                  </a:lnTo>
                  <a:lnTo>
                    <a:pt x="1523" y="597"/>
                  </a:lnTo>
                  <a:lnTo>
                    <a:pt x="1515" y="568"/>
                  </a:lnTo>
                  <a:lnTo>
                    <a:pt x="1514" y="546"/>
                  </a:lnTo>
                  <a:lnTo>
                    <a:pt x="1514" y="525"/>
                  </a:lnTo>
                  <a:lnTo>
                    <a:pt x="1517" y="496"/>
                  </a:lnTo>
                  <a:lnTo>
                    <a:pt x="1524" y="472"/>
                  </a:lnTo>
                  <a:lnTo>
                    <a:pt x="1532" y="454"/>
                  </a:lnTo>
                  <a:lnTo>
                    <a:pt x="1542" y="436"/>
                  </a:lnTo>
                  <a:lnTo>
                    <a:pt x="1557" y="417"/>
                  </a:lnTo>
                  <a:lnTo>
                    <a:pt x="1573" y="397"/>
                  </a:lnTo>
                  <a:lnTo>
                    <a:pt x="1594" y="381"/>
                  </a:lnTo>
                  <a:lnTo>
                    <a:pt x="1617" y="368"/>
                  </a:lnTo>
                  <a:lnTo>
                    <a:pt x="1638" y="360"/>
                  </a:lnTo>
                  <a:lnTo>
                    <a:pt x="1659" y="354"/>
                  </a:lnTo>
                  <a:lnTo>
                    <a:pt x="1681" y="351"/>
                  </a:lnTo>
                  <a:lnTo>
                    <a:pt x="1708" y="351"/>
                  </a:lnTo>
                  <a:lnTo>
                    <a:pt x="1735" y="351"/>
                  </a:lnTo>
                  <a:close/>
                </a:path>
              </a:pathLst>
            </a:custGeom>
            <a:solidFill>
              <a:srgbClr val="008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1917000" y="1663560"/>
              <a:ext cx="2010960" cy="113004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11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EXPRES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4" name=""/>
          <p:cNvGrpSpPr/>
          <p:nvPr/>
        </p:nvGrpSpPr>
        <p:grpSpPr>
          <a:xfrm>
            <a:off x="1874880" y="3230640"/>
            <a:ext cx="2743200" cy="2668680"/>
            <a:chOff x="1874880" y="3230640"/>
            <a:chExt cx="2743200" cy="2668680"/>
          </a:xfrm>
        </p:grpSpPr>
        <p:sp>
          <p:nvSpPr>
            <p:cNvPr id="445" name=""/>
            <p:cNvSpPr/>
            <p:nvPr/>
          </p:nvSpPr>
          <p:spPr>
            <a:xfrm>
              <a:off x="1874880" y="323064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1728" y="1384"/>
                  </a:moveTo>
                  <a:lnTo>
                    <a:pt x="1728" y="1681"/>
                  </a:lnTo>
                  <a:lnTo>
                    <a:pt x="2" y="1681"/>
                  </a:lnTo>
                  <a:lnTo>
                    <a:pt x="0" y="338"/>
                  </a:lnTo>
                  <a:lnTo>
                    <a:pt x="150" y="338"/>
                  </a:lnTo>
                  <a:lnTo>
                    <a:pt x="156" y="326"/>
                  </a:lnTo>
                  <a:lnTo>
                    <a:pt x="161" y="310"/>
                  </a:lnTo>
                  <a:lnTo>
                    <a:pt x="161" y="296"/>
                  </a:lnTo>
                  <a:lnTo>
                    <a:pt x="159" y="280"/>
                  </a:lnTo>
                  <a:lnTo>
                    <a:pt x="153" y="259"/>
                  </a:lnTo>
                  <a:lnTo>
                    <a:pt x="147" y="232"/>
                  </a:lnTo>
                  <a:lnTo>
                    <a:pt x="141" y="214"/>
                  </a:lnTo>
                  <a:lnTo>
                    <a:pt x="135" y="191"/>
                  </a:lnTo>
                  <a:lnTo>
                    <a:pt x="134" y="170"/>
                  </a:lnTo>
                  <a:lnTo>
                    <a:pt x="134" y="149"/>
                  </a:lnTo>
                  <a:lnTo>
                    <a:pt x="135" y="130"/>
                  </a:lnTo>
                  <a:lnTo>
                    <a:pt x="141" y="109"/>
                  </a:lnTo>
                  <a:lnTo>
                    <a:pt x="149" y="90"/>
                  </a:lnTo>
                  <a:lnTo>
                    <a:pt x="161" y="75"/>
                  </a:lnTo>
                  <a:lnTo>
                    <a:pt x="177" y="57"/>
                  </a:lnTo>
                  <a:lnTo>
                    <a:pt x="192" y="43"/>
                  </a:lnTo>
                  <a:lnTo>
                    <a:pt x="209" y="30"/>
                  </a:lnTo>
                  <a:lnTo>
                    <a:pt x="227" y="19"/>
                  </a:lnTo>
                  <a:lnTo>
                    <a:pt x="248" y="10"/>
                  </a:lnTo>
                  <a:lnTo>
                    <a:pt x="272" y="4"/>
                  </a:lnTo>
                  <a:lnTo>
                    <a:pt x="297" y="1"/>
                  </a:lnTo>
                  <a:lnTo>
                    <a:pt x="318" y="0"/>
                  </a:lnTo>
                  <a:lnTo>
                    <a:pt x="341" y="0"/>
                  </a:lnTo>
                  <a:lnTo>
                    <a:pt x="362" y="1"/>
                  </a:lnTo>
                  <a:lnTo>
                    <a:pt x="378" y="4"/>
                  </a:lnTo>
                  <a:lnTo>
                    <a:pt x="397" y="10"/>
                  </a:lnTo>
                  <a:lnTo>
                    <a:pt x="417" y="16"/>
                  </a:lnTo>
                  <a:lnTo>
                    <a:pt x="432" y="25"/>
                  </a:lnTo>
                  <a:lnTo>
                    <a:pt x="448" y="37"/>
                  </a:lnTo>
                  <a:lnTo>
                    <a:pt x="463" y="52"/>
                  </a:lnTo>
                  <a:lnTo>
                    <a:pt x="478" y="69"/>
                  </a:lnTo>
                  <a:lnTo>
                    <a:pt x="492" y="85"/>
                  </a:lnTo>
                  <a:lnTo>
                    <a:pt x="502" y="103"/>
                  </a:lnTo>
                  <a:lnTo>
                    <a:pt x="510" y="125"/>
                  </a:lnTo>
                  <a:lnTo>
                    <a:pt x="516" y="151"/>
                  </a:lnTo>
                  <a:lnTo>
                    <a:pt x="516" y="175"/>
                  </a:lnTo>
                  <a:lnTo>
                    <a:pt x="510" y="199"/>
                  </a:lnTo>
                  <a:lnTo>
                    <a:pt x="504" y="223"/>
                  </a:lnTo>
                  <a:lnTo>
                    <a:pt x="498" y="247"/>
                  </a:lnTo>
                  <a:lnTo>
                    <a:pt x="490" y="274"/>
                  </a:lnTo>
                  <a:lnTo>
                    <a:pt x="486" y="295"/>
                  </a:lnTo>
                  <a:lnTo>
                    <a:pt x="486" y="307"/>
                  </a:lnTo>
                  <a:lnTo>
                    <a:pt x="489" y="317"/>
                  </a:lnTo>
                  <a:lnTo>
                    <a:pt x="493" y="329"/>
                  </a:lnTo>
                  <a:lnTo>
                    <a:pt x="779" y="329"/>
                  </a:lnTo>
                  <a:lnTo>
                    <a:pt x="773" y="385"/>
                  </a:lnTo>
                  <a:lnTo>
                    <a:pt x="772" y="418"/>
                  </a:lnTo>
                  <a:lnTo>
                    <a:pt x="773" y="445"/>
                  </a:lnTo>
                  <a:lnTo>
                    <a:pt x="775" y="470"/>
                  </a:lnTo>
                  <a:lnTo>
                    <a:pt x="778" y="497"/>
                  </a:lnTo>
                  <a:lnTo>
                    <a:pt x="782" y="524"/>
                  </a:lnTo>
                  <a:lnTo>
                    <a:pt x="791" y="542"/>
                  </a:lnTo>
                  <a:lnTo>
                    <a:pt x="802" y="557"/>
                  </a:lnTo>
                  <a:lnTo>
                    <a:pt x="815" y="570"/>
                  </a:lnTo>
                  <a:lnTo>
                    <a:pt x="833" y="581"/>
                  </a:lnTo>
                  <a:lnTo>
                    <a:pt x="853" y="588"/>
                  </a:lnTo>
                  <a:lnTo>
                    <a:pt x="872" y="591"/>
                  </a:lnTo>
                  <a:lnTo>
                    <a:pt x="893" y="593"/>
                  </a:lnTo>
                  <a:lnTo>
                    <a:pt x="917" y="593"/>
                  </a:lnTo>
                  <a:lnTo>
                    <a:pt x="943" y="590"/>
                  </a:lnTo>
                  <a:lnTo>
                    <a:pt x="961" y="588"/>
                  </a:lnTo>
                  <a:lnTo>
                    <a:pt x="988" y="585"/>
                  </a:lnTo>
                  <a:lnTo>
                    <a:pt x="1015" y="582"/>
                  </a:lnTo>
                  <a:lnTo>
                    <a:pt x="1045" y="582"/>
                  </a:lnTo>
                  <a:lnTo>
                    <a:pt x="1070" y="585"/>
                  </a:lnTo>
                  <a:lnTo>
                    <a:pt x="1096" y="590"/>
                  </a:lnTo>
                  <a:lnTo>
                    <a:pt x="1121" y="599"/>
                  </a:lnTo>
                  <a:lnTo>
                    <a:pt x="1142" y="608"/>
                  </a:lnTo>
                  <a:lnTo>
                    <a:pt x="1163" y="623"/>
                  </a:lnTo>
                  <a:lnTo>
                    <a:pt x="1176" y="639"/>
                  </a:lnTo>
                  <a:lnTo>
                    <a:pt x="1188" y="659"/>
                  </a:lnTo>
                  <a:lnTo>
                    <a:pt x="1196" y="680"/>
                  </a:lnTo>
                  <a:lnTo>
                    <a:pt x="1199" y="701"/>
                  </a:lnTo>
                  <a:lnTo>
                    <a:pt x="1196" y="725"/>
                  </a:lnTo>
                  <a:lnTo>
                    <a:pt x="1194" y="749"/>
                  </a:lnTo>
                  <a:lnTo>
                    <a:pt x="1196" y="773"/>
                  </a:lnTo>
                  <a:lnTo>
                    <a:pt x="1199" y="794"/>
                  </a:lnTo>
                  <a:lnTo>
                    <a:pt x="1206" y="813"/>
                  </a:lnTo>
                  <a:lnTo>
                    <a:pt x="1215" y="833"/>
                  </a:lnTo>
                  <a:lnTo>
                    <a:pt x="1227" y="846"/>
                  </a:lnTo>
                  <a:lnTo>
                    <a:pt x="1245" y="860"/>
                  </a:lnTo>
                  <a:lnTo>
                    <a:pt x="1269" y="869"/>
                  </a:lnTo>
                  <a:lnTo>
                    <a:pt x="1295" y="876"/>
                  </a:lnTo>
                  <a:lnTo>
                    <a:pt x="1316" y="882"/>
                  </a:lnTo>
                  <a:lnTo>
                    <a:pt x="1341" y="888"/>
                  </a:lnTo>
                  <a:lnTo>
                    <a:pt x="1371" y="894"/>
                  </a:lnTo>
                  <a:lnTo>
                    <a:pt x="1397" y="899"/>
                  </a:lnTo>
                  <a:lnTo>
                    <a:pt x="1422" y="906"/>
                  </a:lnTo>
                  <a:lnTo>
                    <a:pt x="1443" y="913"/>
                  </a:lnTo>
                  <a:lnTo>
                    <a:pt x="1464" y="922"/>
                  </a:lnTo>
                  <a:lnTo>
                    <a:pt x="1481" y="934"/>
                  </a:lnTo>
                  <a:lnTo>
                    <a:pt x="1494" y="946"/>
                  </a:lnTo>
                  <a:lnTo>
                    <a:pt x="1512" y="966"/>
                  </a:lnTo>
                  <a:lnTo>
                    <a:pt x="1523" y="984"/>
                  </a:lnTo>
                  <a:lnTo>
                    <a:pt x="1532" y="1003"/>
                  </a:lnTo>
                  <a:lnTo>
                    <a:pt x="1536" y="1030"/>
                  </a:lnTo>
                  <a:lnTo>
                    <a:pt x="1533" y="1056"/>
                  </a:lnTo>
                  <a:lnTo>
                    <a:pt x="1529" y="1078"/>
                  </a:lnTo>
                  <a:lnTo>
                    <a:pt x="1523" y="1107"/>
                  </a:lnTo>
                  <a:lnTo>
                    <a:pt x="1515" y="1138"/>
                  </a:lnTo>
                  <a:lnTo>
                    <a:pt x="1508" y="1167"/>
                  </a:lnTo>
                  <a:lnTo>
                    <a:pt x="1505" y="1191"/>
                  </a:lnTo>
                  <a:lnTo>
                    <a:pt x="1505" y="1210"/>
                  </a:lnTo>
                  <a:lnTo>
                    <a:pt x="1509" y="1239"/>
                  </a:lnTo>
                  <a:lnTo>
                    <a:pt x="1515" y="1263"/>
                  </a:lnTo>
                  <a:lnTo>
                    <a:pt x="1524" y="1281"/>
                  </a:lnTo>
                  <a:lnTo>
                    <a:pt x="1535" y="1299"/>
                  </a:lnTo>
                  <a:lnTo>
                    <a:pt x="1549" y="1318"/>
                  </a:lnTo>
                  <a:lnTo>
                    <a:pt x="1566" y="1337"/>
                  </a:lnTo>
                  <a:lnTo>
                    <a:pt x="1585" y="1354"/>
                  </a:lnTo>
                  <a:lnTo>
                    <a:pt x="1608" y="1367"/>
                  </a:lnTo>
                  <a:lnTo>
                    <a:pt x="1629" y="1375"/>
                  </a:lnTo>
                  <a:lnTo>
                    <a:pt x="1651" y="1381"/>
                  </a:lnTo>
                  <a:lnTo>
                    <a:pt x="1674" y="1384"/>
                  </a:lnTo>
                  <a:lnTo>
                    <a:pt x="1701" y="1385"/>
                  </a:lnTo>
                  <a:lnTo>
                    <a:pt x="1728" y="1384"/>
                  </a:lnTo>
                  <a:close/>
                </a:path>
              </a:pathLst>
            </a:custGeom>
            <a:solidFill>
              <a:srgbClr val="9933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1961280" y="4581360"/>
              <a:ext cx="1767240" cy="119124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22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SDAI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8" name=""/>
          <p:cNvGrpSpPr/>
          <p:nvPr/>
        </p:nvGrpSpPr>
        <p:grpSpPr>
          <a:xfrm>
            <a:off x="1874880" y="1533600"/>
            <a:ext cx="2754360" cy="2236680"/>
            <a:chOff x="1874880" y="1533600"/>
            <a:chExt cx="2754360" cy="2236680"/>
          </a:xfrm>
        </p:grpSpPr>
        <p:sp>
          <p:nvSpPr>
            <p:cNvPr id="449" name=""/>
            <p:cNvSpPr/>
            <p:nvPr/>
          </p:nvSpPr>
          <p:spPr>
            <a:xfrm>
              <a:off x="1874880" y="1533600"/>
              <a:ext cx="2754360" cy="2236680"/>
            </a:xfrm>
            <a:custGeom>
              <a:avLst/>
              <a:gdLst/>
              <a:ahLst/>
              <a:rect l="l" t="t" r="r" b="b"/>
              <a:pathLst>
                <a:path w="1735" h="1409">
                  <a:moveTo>
                    <a:pt x="1735" y="351"/>
                  </a:moveTo>
                  <a:lnTo>
                    <a:pt x="1735" y="0"/>
                  </a:lnTo>
                  <a:lnTo>
                    <a:pt x="0" y="0"/>
                  </a:lnTo>
                  <a:lnTo>
                    <a:pt x="2" y="1409"/>
                  </a:lnTo>
                  <a:lnTo>
                    <a:pt x="156" y="1409"/>
                  </a:lnTo>
                  <a:lnTo>
                    <a:pt x="164" y="1382"/>
                  </a:lnTo>
                  <a:lnTo>
                    <a:pt x="164" y="1362"/>
                  </a:lnTo>
                  <a:lnTo>
                    <a:pt x="159" y="1335"/>
                  </a:lnTo>
                  <a:lnTo>
                    <a:pt x="150" y="1307"/>
                  </a:lnTo>
                  <a:lnTo>
                    <a:pt x="141" y="1272"/>
                  </a:lnTo>
                  <a:lnTo>
                    <a:pt x="137" y="1245"/>
                  </a:lnTo>
                  <a:lnTo>
                    <a:pt x="135" y="1221"/>
                  </a:lnTo>
                  <a:lnTo>
                    <a:pt x="140" y="1194"/>
                  </a:lnTo>
                  <a:lnTo>
                    <a:pt x="147" y="1169"/>
                  </a:lnTo>
                  <a:lnTo>
                    <a:pt x="164" y="1144"/>
                  </a:lnTo>
                  <a:lnTo>
                    <a:pt x="183" y="1124"/>
                  </a:lnTo>
                  <a:lnTo>
                    <a:pt x="204" y="1105"/>
                  </a:lnTo>
                  <a:lnTo>
                    <a:pt x="228" y="1091"/>
                  </a:lnTo>
                  <a:lnTo>
                    <a:pt x="257" y="1079"/>
                  </a:lnTo>
                  <a:lnTo>
                    <a:pt x="282" y="1075"/>
                  </a:lnTo>
                  <a:lnTo>
                    <a:pt x="318" y="1073"/>
                  </a:lnTo>
                  <a:lnTo>
                    <a:pt x="360" y="1076"/>
                  </a:lnTo>
                  <a:lnTo>
                    <a:pt x="387" y="1079"/>
                  </a:lnTo>
                  <a:lnTo>
                    <a:pt x="411" y="1087"/>
                  </a:lnTo>
                  <a:lnTo>
                    <a:pt x="433" y="1100"/>
                  </a:lnTo>
                  <a:lnTo>
                    <a:pt x="462" y="1123"/>
                  </a:lnTo>
                  <a:lnTo>
                    <a:pt x="480" y="1144"/>
                  </a:lnTo>
                  <a:lnTo>
                    <a:pt x="496" y="1166"/>
                  </a:lnTo>
                  <a:lnTo>
                    <a:pt x="505" y="1190"/>
                  </a:lnTo>
                  <a:lnTo>
                    <a:pt x="511" y="1212"/>
                  </a:lnTo>
                  <a:lnTo>
                    <a:pt x="511" y="1238"/>
                  </a:lnTo>
                  <a:lnTo>
                    <a:pt x="508" y="1263"/>
                  </a:lnTo>
                  <a:lnTo>
                    <a:pt x="502" y="1287"/>
                  </a:lnTo>
                  <a:lnTo>
                    <a:pt x="496" y="1310"/>
                  </a:lnTo>
                  <a:lnTo>
                    <a:pt x="489" y="1334"/>
                  </a:lnTo>
                  <a:lnTo>
                    <a:pt x="484" y="1358"/>
                  </a:lnTo>
                  <a:lnTo>
                    <a:pt x="484" y="1379"/>
                  </a:lnTo>
                  <a:lnTo>
                    <a:pt x="490" y="1403"/>
                  </a:lnTo>
                  <a:lnTo>
                    <a:pt x="781" y="1403"/>
                  </a:lnTo>
                  <a:lnTo>
                    <a:pt x="778" y="1353"/>
                  </a:lnTo>
                  <a:lnTo>
                    <a:pt x="781" y="1317"/>
                  </a:lnTo>
                  <a:lnTo>
                    <a:pt x="781" y="1290"/>
                  </a:lnTo>
                  <a:lnTo>
                    <a:pt x="782" y="1265"/>
                  </a:lnTo>
                  <a:lnTo>
                    <a:pt x="785" y="1238"/>
                  </a:lnTo>
                  <a:lnTo>
                    <a:pt x="791" y="1211"/>
                  </a:lnTo>
                  <a:lnTo>
                    <a:pt x="799" y="1193"/>
                  </a:lnTo>
                  <a:lnTo>
                    <a:pt x="809" y="1177"/>
                  </a:lnTo>
                  <a:lnTo>
                    <a:pt x="824" y="1163"/>
                  </a:lnTo>
                  <a:lnTo>
                    <a:pt x="841" y="1153"/>
                  </a:lnTo>
                  <a:lnTo>
                    <a:pt x="860" y="1147"/>
                  </a:lnTo>
                  <a:lnTo>
                    <a:pt x="881" y="1144"/>
                  </a:lnTo>
                  <a:lnTo>
                    <a:pt x="901" y="1142"/>
                  </a:lnTo>
                  <a:lnTo>
                    <a:pt x="926" y="1142"/>
                  </a:lnTo>
                  <a:lnTo>
                    <a:pt x="950" y="1144"/>
                  </a:lnTo>
                  <a:lnTo>
                    <a:pt x="970" y="1147"/>
                  </a:lnTo>
                  <a:lnTo>
                    <a:pt x="995" y="1148"/>
                  </a:lnTo>
                  <a:lnTo>
                    <a:pt x="1022" y="1151"/>
                  </a:lnTo>
                  <a:lnTo>
                    <a:pt x="1052" y="1151"/>
                  </a:lnTo>
                  <a:lnTo>
                    <a:pt x="1078" y="1148"/>
                  </a:lnTo>
                  <a:lnTo>
                    <a:pt x="1103" y="1144"/>
                  </a:lnTo>
                  <a:lnTo>
                    <a:pt x="1130" y="1138"/>
                  </a:lnTo>
                  <a:lnTo>
                    <a:pt x="1150" y="1127"/>
                  </a:lnTo>
                  <a:lnTo>
                    <a:pt x="1170" y="1114"/>
                  </a:lnTo>
                  <a:lnTo>
                    <a:pt x="1184" y="1096"/>
                  </a:lnTo>
                  <a:lnTo>
                    <a:pt x="1197" y="1076"/>
                  </a:lnTo>
                  <a:lnTo>
                    <a:pt x="1203" y="1057"/>
                  </a:lnTo>
                  <a:lnTo>
                    <a:pt x="1206" y="1034"/>
                  </a:lnTo>
                  <a:lnTo>
                    <a:pt x="1203" y="1012"/>
                  </a:lnTo>
                  <a:lnTo>
                    <a:pt x="1202" y="988"/>
                  </a:lnTo>
                  <a:lnTo>
                    <a:pt x="1203" y="962"/>
                  </a:lnTo>
                  <a:lnTo>
                    <a:pt x="1208" y="943"/>
                  </a:lnTo>
                  <a:lnTo>
                    <a:pt x="1214" y="922"/>
                  </a:lnTo>
                  <a:lnTo>
                    <a:pt x="1223" y="902"/>
                  </a:lnTo>
                  <a:lnTo>
                    <a:pt x="1235" y="889"/>
                  </a:lnTo>
                  <a:lnTo>
                    <a:pt x="1254" y="875"/>
                  </a:lnTo>
                  <a:lnTo>
                    <a:pt x="1278" y="866"/>
                  </a:lnTo>
                  <a:lnTo>
                    <a:pt x="1302" y="859"/>
                  </a:lnTo>
                  <a:lnTo>
                    <a:pt x="1325" y="853"/>
                  </a:lnTo>
                  <a:lnTo>
                    <a:pt x="1349" y="847"/>
                  </a:lnTo>
                  <a:lnTo>
                    <a:pt x="1380" y="841"/>
                  </a:lnTo>
                  <a:lnTo>
                    <a:pt x="1404" y="836"/>
                  </a:lnTo>
                  <a:lnTo>
                    <a:pt x="1430" y="829"/>
                  </a:lnTo>
                  <a:lnTo>
                    <a:pt x="1451" y="821"/>
                  </a:lnTo>
                  <a:lnTo>
                    <a:pt x="1472" y="812"/>
                  </a:lnTo>
                  <a:lnTo>
                    <a:pt x="1488" y="800"/>
                  </a:lnTo>
                  <a:lnTo>
                    <a:pt x="1503" y="788"/>
                  </a:lnTo>
                  <a:lnTo>
                    <a:pt x="1520" y="769"/>
                  </a:lnTo>
                  <a:lnTo>
                    <a:pt x="1530" y="751"/>
                  </a:lnTo>
                  <a:lnTo>
                    <a:pt x="1539" y="730"/>
                  </a:lnTo>
                  <a:lnTo>
                    <a:pt x="1544" y="703"/>
                  </a:lnTo>
                  <a:lnTo>
                    <a:pt x="1541" y="681"/>
                  </a:lnTo>
                  <a:lnTo>
                    <a:pt x="1538" y="657"/>
                  </a:lnTo>
                  <a:lnTo>
                    <a:pt x="1530" y="628"/>
                  </a:lnTo>
                  <a:lnTo>
                    <a:pt x="1523" y="597"/>
                  </a:lnTo>
                  <a:lnTo>
                    <a:pt x="1515" y="568"/>
                  </a:lnTo>
                  <a:lnTo>
                    <a:pt x="1514" y="546"/>
                  </a:lnTo>
                  <a:lnTo>
                    <a:pt x="1514" y="525"/>
                  </a:lnTo>
                  <a:lnTo>
                    <a:pt x="1517" y="496"/>
                  </a:lnTo>
                  <a:lnTo>
                    <a:pt x="1524" y="472"/>
                  </a:lnTo>
                  <a:lnTo>
                    <a:pt x="1532" y="454"/>
                  </a:lnTo>
                  <a:lnTo>
                    <a:pt x="1542" y="436"/>
                  </a:lnTo>
                  <a:lnTo>
                    <a:pt x="1557" y="417"/>
                  </a:lnTo>
                  <a:lnTo>
                    <a:pt x="1573" y="397"/>
                  </a:lnTo>
                  <a:lnTo>
                    <a:pt x="1594" y="381"/>
                  </a:lnTo>
                  <a:lnTo>
                    <a:pt x="1617" y="368"/>
                  </a:lnTo>
                  <a:lnTo>
                    <a:pt x="1638" y="360"/>
                  </a:lnTo>
                  <a:lnTo>
                    <a:pt x="1659" y="354"/>
                  </a:lnTo>
                  <a:lnTo>
                    <a:pt x="1681" y="351"/>
                  </a:lnTo>
                  <a:lnTo>
                    <a:pt x="1708" y="351"/>
                  </a:lnTo>
                  <a:lnTo>
                    <a:pt x="1735" y="351"/>
                  </a:lnTo>
                  <a:close/>
                </a:path>
              </a:pathLst>
            </a:custGeom>
            <a:solidFill>
              <a:srgbClr val="008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917000" y="1663560"/>
              <a:ext cx="2010960" cy="113004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11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EXPRES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4533840" y="3936960"/>
            <a:ext cx="4324320" cy="19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571680" indent="-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800" spc="-1" strike="noStrike">
                <a:solidFill>
                  <a:srgbClr val="ffff00"/>
                </a:solidFill>
                <a:latin typeface="Arial"/>
              </a:rPr>
              <a:t>Questions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XPRESS: Its origin in STEP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TEP needed a modelling language that was: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ndependent of a storage or programming paradigm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xchangeable in ASCII between different computers using different operating systems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ufficiently rigorous to define all the constraints  required to model product data, and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ompilable into a schema for at least one of the following: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1)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an exchange file </a:t>
            </a: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(Level 1 Implementation form)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,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2)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a shared memory </a:t>
            </a: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(Level 2 Implementation form),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3)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a shared logical database </a:t>
            </a: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(Level 3 Implementation form)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,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4)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a share knowledge base </a:t>
            </a: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(Level 4 Implementation form)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ISO 10303-11: 1994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 standard language for data specification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forms a neutral computer processable conceptual schem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an be parsed into a variety of formats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(e.g. SQL, C++, FORTRAN).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It allows a data model of a product to be defined in terms of: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 schema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ontaining entities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with attributes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nd constraints.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he Role of EXPRES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XPRESS has been created specifically to define the information throughout a product’s life-cycle. 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XPRESS itself does not provide for the definition of database formats, file formats, or transfer syntax.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Other parts of ISO 10303 provide for mappings from EXPRESS schemata to implementation forms;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(e.g. ISO 10303-21 which defines the exchange file format).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XPRESS data models are used to generate the data structures held within the STEP physical file using the mappings defined in the standard.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However, the STEP physical file format is totally independent of EXPRESS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Use of EXPRESS in LPM/5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76280" indent="-47628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LPM/5 is the key component of CIS/2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476280" indent="-47628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Graphically presented in EXPRESS-G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476280" indent="-47628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Formally specified in EXPRES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1047600" indent="-3808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hort form (containing definitions of specialized constructs)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47600" indent="-3808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Long form (implementation schema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LPM/5: EXPRESS Short Form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LPM/5 EXPRESS Schema 'short form'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provides illustrated descriptions of LPM/5 entiti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with their attributes &amp; formal propositions (rules &amp; constraints),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together with references to STEP resources. 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It does not repeat the definitions of those STEP entities that have been used from the Generic Resources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ontai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chema Declara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chema Interface Declaratio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Type Declarations </a:t>
            </a: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- for Types specific to LPM/5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tity Declarations </a:t>
            </a: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- for Entities specific to LPM/5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b2b2b2"/>
                </a:solidFill>
                <a:latin typeface="Arial"/>
              </a:rPr>
              <a:t>Rule Declaratio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Function Declarations - </a:t>
            </a: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for Function specific to LPM/5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LPM/5 EXPRESS Long Form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LPM/5 EXPRESS Schema 'long form’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one single schema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with all the inter-schema references resolved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ontains no definitions or explanations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merely an EXPRESS long form listing of the CIS/2 implementation schema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ontai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chema Declaration - STRUCTURAL_FRAME_SCHEMA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Type Declarations </a:t>
            </a: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- for all (Generic &amp; Specific) Type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tity Declarations </a:t>
            </a: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- for all (Generic &amp; Specific) Entitie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Rule Declarations </a:t>
            </a: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- for all (imported) Rule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Function Declarations </a:t>
            </a: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- for all Functio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16T13:32:24Z</dcterms:created>
  <dc:creator>Andrew Crowley</dc:creator>
  <dc:description/>
  <dc:language>en-US</dc:language>
  <cp:lastModifiedBy>Andrew Crowley</cp:lastModifiedBy>
  <cp:lastPrinted>1999-02-12T09:16:18Z</cp:lastPrinted>
  <dcterms:modified xsi:type="dcterms:W3CDTF">2000-08-31T10:45:56Z</dcterms:modified>
  <cp:revision>90</cp:revision>
  <dc:subject/>
  <dc:title>EXPRESS</dc:title>
</cp:coreProperties>
</file>