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964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525F-0FE0-4C96-BABD-4F271F1EAE6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6" idx="0"/>
            <a:endCxn id="218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21" idx="0"/>
            <a:endCxn id="222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4"/>
            <a:endCxn id="215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21" idx="2"/>
            <a:endCxn id="223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1" idx="3"/>
            <a:endCxn id="231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16" idx="3"/>
            <a:endCxn id="236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8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9" idx="2"/>
            <a:endCxn id="240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9" idx="3"/>
            <a:endCxn id="25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53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61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5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9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7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7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8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24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3" idx="3"/>
            <a:endCxn id="335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7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44" name="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2"/>
            <a:endCxn id="345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46" idx="2"/>
            <a:endCxn id="349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52" name="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55" name="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>
            <a:stCxn id="346" idx="2"/>
            <a:endCxn id="356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8" name="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59" name="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1" name=""/>
          <p:cNvCxnSpPr>
            <a:stCxn id="346" idx="2"/>
            <a:endCxn id="360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66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2"/>
            <a:endCxn id="367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75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7" name=""/>
          <p:cNvCxnSpPr>
            <a:stCxn id="378" idx="2"/>
            <a:endCxn id="376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9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80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2" name=""/>
          <p:cNvCxnSpPr>
            <a:stCxn id="378" idx="2"/>
            <a:endCxn id="381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84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6" name=""/>
          <p:cNvCxnSpPr>
            <a:stCxn id="387" idx="2"/>
            <a:endCxn id="385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75" idx="3"/>
            <a:endCxn id="372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0" idx="3"/>
            <a:endCxn id="389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95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8" name=""/>
          <p:cNvCxnSpPr>
            <a:stCxn id="393" idx="2"/>
            <a:endCxn id="396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5840" y="880560"/>
            <a:ext cx="857232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1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7" name=""/>
          <p:cNvCxnSpPr>
            <a:endCxn id="41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4" idx="3"/>
            <a:endCxn id="41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2" idx="1"/>
            <a:endCxn id="42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7" idx="2"/>
            <a:endCxn id="42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5" idx="2"/>
            <a:endCxn id="43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18" idx="1"/>
            <a:endCxn id="43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22" idx="2"/>
            <a:endCxn id="43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4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4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5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5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46" idx="1"/>
            <a:endCxn id="45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46" idx="2"/>
            <a:endCxn id="45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18" idx="2"/>
            <a:endCxn id="44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1" idx="2"/>
            <a:endCxn id="46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6" idx="3"/>
            <a:endCxn id="46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7" idx="2"/>
            <a:endCxn id="478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2" idx="1"/>
            <a:endCxn id="483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4" name="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77" idx="2"/>
            <a:endCxn id="487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85" idx="0"/>
            <a:endCxn id="49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500" idx="2"/>
            <a:endCxn id="497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4" idx="2"/>
            <a:endCxn id="501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489" idx="2"/>
            <a:endCxn id="505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512" name="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516" name="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08" idx="1"/>
            <a:endCxn id="512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08" idx="2"/>
            <a:endCxn id="516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1" name="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23" idx="2"/>
            <a:endCxn id="509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494" idx="1"/>
            <a:endCxn id="524" idx="6"/>
          </p:cNvCxnSpPr>
          <p:nvPr/>
        </p:nvCxnSpPr>
        <p:spPr>
          <a:xfrm rot="10800000">
            <a:off x="4029120" y="43740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485" idx="1"/>
            <a:endCxn id="47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8" name="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9" idx="6"/>
            <a:endCxn id="494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endCxn id="532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3" name="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35" idx="2"/>
            <a:endCxn id="536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37" name="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538" name="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1" name=""/>
          <p:cNvCxnSpPr>
            <a:stCxn id="482" idx="2"/>
            <a:endCxn id="539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535" name="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523" name="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7" idx="2"/>
            <a:endCxn id="549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08" idx="3"/>
            <a:endCxn id="549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49" name="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56" name="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8" name=""/>
          <p:cNvCxnSpPr>
            <a:stCxn id="557" idx="6"/>
            <a:endCxn id="535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9" name="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60" name="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2" name=""/>
          <p:cNvCxnSpPr>
            <a:stCxn id="561" idx="6"/>
            <a:endCxn id="535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7" idx="2"/>
            <a:endCxn id="56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71" idx="1"/>
            <a:endCxn id="57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67" idx="2"/>
            <a:endCxn id="57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74" idx="0"/>
            <a:endCxn id="58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8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89" idx="2"/>
            <a:endCxn id="58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9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9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93" name=""/>
          <p:cNvCxnSpPr>
            <a:stCxn id="594" idx="2"/>
            <a:endCxn id="59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"/>
          <p:cNvCxnSpPr>
            <a:stCxn id="578" idx="2"/>
            <a:endCxn id="59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599" idx="0"/>
            <a:endCxn id="57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0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594" idx="1"/>
            <a:endCxn id="59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574" idx="1"/>
            <a:endCxn id="56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603" idx="4"/>
            <a:endCxn id="57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574" idx="3"/>
            <a:endCxn id="60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stCxn id="611" idx="2"/>
            <a:endCxn id="61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1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7" name=""/>
          <p:cNvCxnSpPr>
            <a:stCxn id="571" idx="2"/>
            <a:endCxn id="61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6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7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1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4" name=""/>
          <p:cNvCxnSpPr>
            <a:stCxn id="625" idx="2"/>
            <a:endCxn id="62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2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2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9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2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599" idx="2"/>
            <a:endCxn id="63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4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44" idx="2"/>
            <a:endCxn id="64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5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2" name=""/>
          <p:cNvCxnSpPr>
            <a:stCxn id="653" idx="2"/>
            <a:endCxn id="65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5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7" name=""/>
          <p:cNvCxnSpPr>
            <a:stCxn id="653" idx="2"/>
            <a:endCxn id="65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5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1" name=""/>
          <p:cNvCxnSpPr>
            <a:stCxn id="662" idx="3"/>
            <a:endCxn id="66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63" name=""/>
          <p:cNvCxnSpPr>
            <a:stCxn id="655" idx="3"/>
            <a:endCxn id="64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6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8" name=""/>
          <p:cNvCxnSpPr>
            <a:stCxn id="664" idx="2"/>
            <a:endCxn id="66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7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64" idx="2"/>
            <a:endCxn id="67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50" idx="3"/>
            <a:endCxn id="67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4" name=""/>
          <p:cNvCxnSpPr>
            <a:stCxn id="685" idx="0"/>
            <a:endCxn id="68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9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3" idx="2"/>
            <a:endCxn id="69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9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1" name=""/>
          <p:cNvCxnSpPr>
            <a:stCxn id="702" idx="2"/>
            <a:endCxn id="70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0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70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"/>
          <p:cNvCxnSpPr>
            <a:stCxn id="702" idx="2"/>
            <a:endCxn id="70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0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4" idx="3"/>
            <a:endCxn id="69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1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5" name=""/>
          <p:cNvCxnSpPr>
            <a:stCxn id="699" idx="3"/>
            <a:endCxn id="71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1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1609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1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4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6" name=""/>
          <p:cNvCxnSpPr>
            <a:stCxn id="99" idx="2"/>
            <a:endCxn id="10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9" idx="2"/>
            <a:endCxn id="10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1" idx="0"/>
            <a:endCxn id="11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0" idx="0"/>
            <a:endCxn id="11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9" idx="0"/>
            <a:endCxn id="12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6" idx="0"/>
            <a:endCxn id="12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3" idx="0"/>
            <a:endCxn id="12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7" idx="0"/>
            <a:endCxn id="13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7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730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5" idx="2"/>
            <a:endCxn id="734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9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1" name=""/>
          <p:cNvCxnSpPr>
            <a:stCxn id="735" idx="2"/>
            <a:endCxn id="740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43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5" name=""/>
          <p:cNvCxnSpPr>
            <a:stCxn id="735" idx="2"/>
            <a:endCxn id="744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33" idx="3"/>
            <a:endCxn id="750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54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7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9" name=""/>
          <p:cNvCxnSpPr>
            <a:stCxn id="760" idx="2"/>
            <a:endCxn id="758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61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62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64" name=""/>
          <p:cNvCxnSpPr>
            <a:stCxn id="760" idx="2"/>
            <a:endCxn id="763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9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35" idx="2"/>
            <a:endCxn id="755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43" idx="3"/>
            <a:endCxn id="775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60" idx="2"/>
            <a:endCxn id="770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89800" y="179712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67640" y="110484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"/>
          <p:cNvCxnSpPr>
            <a:stCxn id="783" idx="2"/>
            <a:endCxn id="782" idx="2"/>
          </p:cNvCxnSpPr>
          <p:nvPr/>
        </p:nvCxnSpPr>
        <p:spPr>
          <a:xfrm flipH="1" rot="16200000">
            <a:off x="1314360" y="151092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262400" y="2892600"/>
            <a:ext cx="3945600" cy="398880"/>
            <a:chOff x="4262400" y="2892600"/>
            <a:chExt cx="3945600" cy="398880"/>
          </a:xfrm>
        </p:grpSpPr>
        <p:sp>
          <p:nvSpPr>
            <p:cNvPr id="787" name=""/>
            <p:cNvSpPr/>
            <p:nvPr/>
          </p:nvSpPr>
          <p:spPr>
            <a:xfrm>
              <a:off x="4499280" y="289260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62400" y="30240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9" name=""/>
          <p:cNvCxnSpPr>
            <a:stCxn id="781" idx="2"/>
            <a:endCxn id="788" idx="2"/>
          </p:cNvCxnSpPr>
          <p:nvPr/>
        </p:nvCxnSpPr>
        <p:spPr>
          <a:xfrm flipH="1" rot="16200000">
            <a:off x="3399480" y="228420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0" name=""/>
          <p:cNvGrpSpPr/>
          <p:nvPr/>
        </p:nvGrpSpPr>
        <p:grpSpPr>
          <a:xfrm>
            <a:off x="4262400" y="3440160"/>
            <a:ext cx="4469040" cy="398880"/>
            <a:chOff x="4262400" y="3440160"/>
            <a:chExt cx="4469040" cy="398880"/>
          </a:xfrm>
        </p:grpSpPr>
        <p:sp>
          <p:nvSpPr>
            <p:cNvPr id="791" name=""/>
            <p:cNvSpPr/>
            <p:nvPr/>
          </p:nvSpPr>
          <p:spPr>
            <a:xfrm>
              <a:off x="4498560" y="344016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62400" y="3571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1" idx="2"/>
            <a:endCxn id="792" idx="2"/>
          </p:cNvCxnSpPr>
          <p:nvPr/>
        </p:nvCxnSpPr>
        <p:spPr>
          <a:xfrm flipH="1" rot="16200000">
            <a:off x="3125520" y="255780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3867120" y="302904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18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83560" y="289872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793880" y="4048200"/>
            <a:ext cx="2600640" cy="398880"/>
            <a:chOff x="1793880" y="4048200"/>
            <a:chExt cx="2600640" cy="398880"/>
          </a:xfrm>
        </p:grpSpPr>
        <p:sp>
          <p:nvSpPr>
            <p:cNvPr id="799" name=""/>
            <p:cNvSpPr/>
            <p:nvPr/>
          </p:nvSpPr>
          <p:spPr>
            <a:xfrm>
              <a:off x="2032920" y="404820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93880" y="41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2714760" y="4754520"/>
            <a:ext cx="4241160" cy="398880"/>
            <a:chOff x="2714760" y="4754520"/>
            <a:chExt cx="4241160" cy="398880"/>
          </a:xfrm>
        </p:grpSpPr>
        <p:sp>
          <p:nvSpPr>
            <p:cNvPr id="802" name=""/>
            <p:cNvSpPr/>
            <p:nvPr/>
          </p:nvSpPr>
          <p:spPr>
            <a:xfrm>
              <a:off x="2951640" y="475452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14760" y="4886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4" name=""/>
          <p:cNvCxnSpPr>
            <a:stCxn id="805" idx="2"/>
            <a:endCxn id="803" idx="2"/>
          </p:cNvCxnSpPr>
          <p:nvPr/>
        </p:nvCxnSpPr>
        <p:spPr>
          <a:xfrm flipH="1" rot="16200000">
            <a:off x="2270520" y="456516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6" name=""/>
          <p:cNvGrpSpPr/>
          <p:nvPr/>
        </p:nvGrpSpPr>
        <p:grpSpPr>
          <a:xfrm>
            <a:off x="2714760" y="5289480"/>
            <a:ext cx="3306960" cy="398880"/>
            <a:chOff x="2714760" y="5289480"/>
            <a:chExt cx="3306960" cy="398880"/>
          </a:xfrm>
        </p:grpSpPr>
        <p:sp>
          <p:nvSpPr>
            <p:cNvPr id="807" name=""/>
            <p:cNvSpPr/>
            <p:nvPr/>
          </p:nvSpPr>
          <p:spPr>
            <a:xfrm>
              <a:off x="2951640" y="528948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4212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805" idx="2"/>
            <a:endCxn id="808" idx="2"/>
          </p:cNvCxnSpPr>
          <p:nvPr/>
        </p:nvCxnSpPr>
        <p:spPr>
          <a:xfrm flipH="1" rot="16200000">
            <a:off x="2003040" y="483264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17440" y="4559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476100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2714760" y="5808600"/>
            <a:ext cx="3732840" cy="398880"/>
            <a:chOff x="2714760" y="5808600"/>
            <a:chExt cx="3732840" cy="398880"/>
          </a:xfrm>
        </p:grpSpPr>
        <p:sp>
          <p:nvSpPr>
            <p:cNvPr id="814" name=""/>
            <p:cNvSpPr/>
            <p:nvPr/>
          </p:nvSpPr>
          <p:spPr>
            <a:xfrm>
              <a:off x="2950560" y="580860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714760" y="59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6" name=""/>
          <p:cNvCxnSpPr>
            <a:stCxn id="783" idx="2"/>
            <a:endCxn id="800" idx="2"/>
          </p:cNvCxnSpPr>
          <p:nvPr/>
        </p:nvCxnSpPr>
        <p:spPr>
          <a:xfrm flipH="1" rot="16200000">
            <a:off x="158040" y="2666880"/>
            <a:ext cx="272952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5" name=""/>
          <p:cNvSpPr/>
          <p:nvPr/>
        </p:nvSpPr>
        <p:spPr>
          <a:xfrm>
            <a:off x="2178000" y="425592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7" name=""/>
          <p:cNvCxnSpPr>
            <a:stCxn id="805" idx="2"/>
            <a:endCxn id="815" idx="2"/>
          </p:cNvCxnSpPr>
          <p:nvPr/>
        </p:nvCxnSpPr>
        <p:spPr>
          <a:xfrm flipH="1" rot="16200000">
            <a:off x="1743480" y="509220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8" name=""/>
          <p:cNvGrpSpPr/>
          <p:nvPr/>
        </p:nvGrpSpPr>
        <p:grpSpPr>
          <a:xfrm>
            <a:off x="3017880" y="2222640"/>
            <a:ext cx="152280" cy="1788840"/>
            <a:chOff x="3017880" y="2222640"/>
            <a:chExt cx="152280" cy="1788840"/>
          </a:xfrm>
        </p:grpSpPr>
        <p:sp>
          <p:nvSpPr>
            <p:cNvPr id="819" name=""/>
            <p:cNvSpPr/>
            <p:nvPr/>
          </p:nvSpPr>
          <p:spPr>
            <a:xfrm>
              <a:off x="301788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308772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2705040" y="2222640"/>
            <a:ext cx="152280" cy="1788840"/>
            <a:chOff x="2705040" y="2222640"/>
            <a:chExt cx="152280" cy="1788840"/>
          </a:xfrm>
        </p:grpSpPr>
        <p:sp>
          <p:nvSpPr>
            <p:cNvPr id="822" name=""/>
            <p:cNvSpPr/>
            <p:nvPr/>
          </p:nvSpPr>
          <p:spPr>
            <a:xfrm>
              <a:off x="270504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77488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2392200" y="2222640"/>
            <a:ext cx="152280" cy="1788840"/>
            <a:chOff x="2392200" y="2222640"/>
            <a:chExt cx="152280" cy="1788840"/>
          </a:xfrm>
        </p:grpSpPr>
        <p:sp>
          <p:nvSpPr>
            <p:cNvPr id="825" name=""/>
            <p:cNvSpPr/>
            <p:nvPr/>
          </p:nvSpPr>
          <p:spPr>
            <a:xfrm>
              <a:off x="239220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46204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079720" y="2222640"/>
            <a:ext cx="152280" cy="1788840"/>
            <a:chOff x="2079720" y="2222640"/>
            <a:chExt cx="152280" cy="1788840"/>
          </a:xfrm>
        </p:grpSpPr>
        <p:sp>
          <p:nvSpPr>
            <p:cNvPr id="828" name=""/>
            <p:cNvSpPr/>
            <p:nvPr/>
          </p:nvSpPr>
          <p:spPr>
            <a:xfrm>
              <a:off x="207972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14956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831" idx="2"/>
            <a:endCxn id="834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5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>
            <a:stCxn id="839" idx="2"/>
            <a:endCxn id="840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32" idx="2"/>
            <a:endCxn id="845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9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9" name=""/>
          <p:cNvCxnSpPr>
            <a:stCxn id="832" idx="2"/>
            <a:endCxn id="847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0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1" name=""/>
          <p:cNvCxnSpPr>
            <a:stCxn id="831" idx="3"/>
            <a:endCxn id="852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7" name=""/>
          <p:cNvCxnSpPr>
            <a:stCxn id="839" idx="3"/>
            <a:endCxn id="858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61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63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39" idx="2"/>
            <a:endCxn id="864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6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9" name=""/>
          <p:cNvCxnSpPr>
            <a:stCxn id="867" idx="2"/>
            <a:endCxn id="870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74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76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8" name=""/>
          <p:cNvCxnSpPr>
            <a:stCxn id="867" idx="2"/>
            <a:endCxn id="877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stCxn id="881" idx="2"/>
            <a:endCxn id="883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7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8" name=""/>
          <p:cNvCxnSpPr>
            <a:stCxn id="881" idx="2"/>
            <a:endCxn id="885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"/>
          <p:cNvCxnSpPr>
            <a:stCxn id="881" idx="3"/>
            <a:endCxn id="892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"/>
          <p:cNvCxnSpPr>
            <a:stCxn id="890" idx="3"/>
            <a:endCxn id="896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0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894" idx="0"/>
            <a:endCxn id="900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3" name=""/>
          <p:cNvCxnSpPr>
            <a:stCxn id="901" idx="0"/>
            <a:endCxn id="894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908" idx="6"/>
            <a:endCxn id="898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10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1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918" idx="2"/>
            <a:endCxn id="917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0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22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8" idx="2"/>
            <a:endCxn id="923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5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6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18" idx="2"/>
            <a:endCxn id="927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9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33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8" idx="2"/>
            <a:endCxn id="934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6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7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9" name=""/>
          <p:cNvCxnSpPr>
            <a:stCxn id="918" idx="2"/>
            <a:endCxn id="938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43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5" name=""/>
          <p:cNvCxnSpPr>
            <a:stCxn id="918" idx="2"/>
            <a:endCxn id="944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7" idx="2"/>
            <a:endCxn id="950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1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2" name=""/>
          <p:cNvCxnSpPr>
            <a:stCxn id="948" idx="2"/>
            <a:endCxn id="953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7" name=""/>
          <p:cNvCxnSpPr>
            <a:stCxn id="948" idx="2"/>
            <a:endCxn id="955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47" idx="3"/>
            <a:endCxn id="960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5" name=""/>
          <p:cNvCxnSpPr>
            <a:stCxn id="956" idx="3"/>
            <a:endCxn id="966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0" name=""/>
          <p:cNvCxnSpPr>
            <a:stCxn id="948" idx="3"/>
            <a:endCxn id="971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1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48" idx="2"/>
            <a:endCxn id="974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8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81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5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8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92" idx="2"/>
            <a:endCxn id="979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3" name=""/>
          <p:cNvCxnSpPr>
            <a:stCxn id="992" idx="2"/>
            <a:endCxn id="982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4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5" name=""/>
          <p:cNvCxnSpPr>
            <a:stCxn id="992" idx="2"/>
            <a:endCxn id="986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6" name=""/>
          <p:cNvCxnSpPr>
            <a:stCxn id="992" idx="2"/>
            <a:endCxn id="989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78" idx="3"/>
            <a:endCxn id="999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2" name=""/>
          <p:cNvCxnSpPr>
            <a:stCxn id="988" idx="3"/>
            <a:endCxn id="1003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9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13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6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20" idx="2"/>
            <a:endCxn id="1007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1" name=""/>
          <p:cNvCxnSpPr>
            <a:stCxn id="1020" idx="2"/>
            <a:endCxn id="1010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2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3" name=""/>
          <p:cNvCxnSpPr>
            <a:stCxn id="1020" idx="2"/>
            <a:endCxn id="1014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1020" idx="2"/>
            <a:endCxn id="1017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0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06" idx="3"/>
            <a:endCxn id="1027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6" idx="3"/>
            <a:endCxn id="1031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18" idx="3"/>
            <a:endCxn id="1035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7" name=""/>
          <p:cNvCxnSpPr>
            <a:stCxn id="1038" idx="4"/>
            <a:endCxn id="1013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9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480" y="1098360"/>
            <a:ext cx="838836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65680" y="2044800"/>
            <a:ext cx="403848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9440" y="2928960"/>
            <a:ext cx="3767040" cy="131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62000" y="2755800"/>
            <a:ext cx="3318120" cy="2741040"/>
            <a:chOff x="1962000" y="2755800"/>
            <a:chExt cx="3318120" cy="2741040"/>
          </a:xfrm>
        </p:grpSpPr>
        <p:sp>
          <p:nvSpPr>
            <p:cNvPr id="146" name=""/>
            <p:cNvSpPr/>
            <p:nvPr/>
          </p:nvSpPr>
          <p:spPr>
            <a:xfrm flipH="1">
              <a:off x="4430520" y="275580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444920" y="317304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59320" y="350496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962000" y="431424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44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5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9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7" idx="0"/>
            <a:endCxn id="16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6" idx="0"/>
            <a:endCxn id="16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3" idx="2"/>
            <a:endCxn id="176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4" idx="0"/>
            <a:endCxn id="178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5" idx="3"/>
            <a:endCxn id="182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2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6" name=""/>
          <p:cNvCxnSpPr>
            <a:stCxn id="173" idx="3"/>
            <a:endCxn id="187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91" idx="2"/>
            <a:endCxn id="189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91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8" idx="2"/>
            <a:endCxn id="194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88" idx="2"/>
            <a:endCxn id="197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8" idx="2"/>
            <a:endCxn id="200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205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0"/>
            <a:endCxn id="208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dcterms:modified xsi:type="dcterms:W3CDTF">1999-06-22T23:49:41Z</dcterms:modified>
  <cp:revision>95</cp:revision>
  <dc:subject/>
  <dc:title>No Slide Title</dc:title>
</cp:coreProperties>
</file>