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3737091-30F4-4D29-BFA3-491D54F2F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5439603-ABF6-4B3D-9392-3D153AD47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1507F85-EEF6-49EB-8200-2F16F3E22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163141D-16E6-4CF1-9AEB-25A179C63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693C8C8-338E-424E-9CCA-BB7443310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C5B6B21-CA7E-4ECB-A698-13B770BD6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5B52C8C-91E7-4824-8C66-2A40CEA99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9E2BF7C-124F-4421-A249-6C77D61D3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7208527-17FA-41DD-906B-6B4C86C65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CFA6BDA-0EB2-4AF8-82C2-F8A2C4D66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Picture 5" descr="C:\dcwfiles\Logo.GIF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6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E505-8B18-4166-B9CB-F433EFAF444B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ntroduction &amp; Agend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5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6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e-requi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ttendees are expected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e familiar with the CIS/2 document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ring their own Laptop PC with CDROM driv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eferably with their potential CIS/2-conformant application installed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ring detailed documentation for their native data structur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e experienced software developer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ith a detailed understanding of the native data structures of their application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discuss what progress they have ma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 what difficulties they have encountered during their translator developmen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nt of the worksho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equip each of you with the knowledge necessary to implement CIS/2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enable you to effectively pursue and complete translator development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is workshop will have interactive environment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cluding discussions, question &amp; answer sessions, tutorials and workshop session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is translates to a great deal of hands-on experienc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articip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-383400">
              <a:spcBef>
                <a:spcPts val="799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Arial"/>
              </a:rPr>
              <a:t>The success of this workshop depends upon the participation of each attendee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ach day is packed with information and exercises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y to endure thi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e as involved as poss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sk as many questions as you lik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3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Don't leave this workshop with questions unanswered!!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1 - Mon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3" name="Object 3" descr=""/>
          <p:cNvPicPr/>
          <p:nvPr/>
        </p:nvPicPr>
        <p:blipFill>
          <a:blip r:embed="rId1"/>
          <a:stretch/>
        </p:blipFill>
        <p:spPr>
          <a:xfrm>
            <a:off x="115920" y="762120"/>
            <a:ext cx="8875800" cy="54608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2 - Tues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5" name="Object 3" descr=""/>
          <p:cNvPicPr/>
          <p:nvPr/>
        </p:nvPicPr>
        <p:blipFill>
          <a:blip r:embed="rId1"/>
          <a:stretch/>
        </p:blipFill>
        <p:spPr>
          <a:xfrm>
            <a:off x="192240" y="762120"/>
            <a:ext cx="8875440" cy="54766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3 - Wednes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7" name="Object 3" descr=""/>
          <p:cNvPicPr/>
          <p:nvPr/>
        </p:nvPicPr>
        <p:blipFill>
          <a:blip r:embed="rId1"/>
          <a:stretch/>
        </p:blipFill>
        <p:spPr>
          <a:xfrm>
            <a:off x="115920" y="741240"/>
            <a:ext cx="8875800" cy="5507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4 - Thurs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9" name="Object 3" descr=""/>
          <p:cNvPicPr/>
          <p:nvPr/>
        </p:nvPicPr>
        <p:blipFill>
          <a:blip r:embed="rId1"/>
          <a:stretch/>
        </p:blipFill>
        <p:spPr>
          <a:xfrm>
            <a:off x="268200" y="1019160"/>
            <a:ext cx="8607600" cy="51530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5 - Fri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1" name="Object 2067" descr=""/>
          <p:cNvPicPr/>
          <p:nvPr/>
        </p:nvPicPr>
        <p:blipFill>
          <a:blip r:embed="rId1"/>
          <a:stretch/>
        </p:blipFill>
        <p:spPr>
          <a:xfrm>
            <a:off x="268200" y="846000"/>
            <a:ext cx="8607600" cy="5241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4:49:47Z</dcterms:created>
  <dc:creator>Andrew Crowley</dc:creator>
  <dc:description/>
  <dc:language>en-US</dc:language>
  <cp:lastModifiedBy>Robert Lipman</cp:lastModifiedBy>
  <cp:lastPrinted>1999-02-12T12:33:41Z</cp:lastPrinted>
  <dcterms:modified xsi:type="dcterms:W3CDTF">2012-02-17T21:43:23Z</dcterms:modified>
  <cp:revision>7</cp:revision>
  <dc:subject/>
  <dc:title>CIS/2 Implementation Workshop III,  3-7 April 2000, Ascot</dc:title>
</cp:coreProperties>
</file>