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A77B-554A-4D99-9EF7-8E0BEB487F41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00007348" descr="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2" name="00007349" descr="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00007347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85680"/>
            <a:ext cx="883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76440" y="5386320"/>
            <a:ext cx="14904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6440" y="568656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512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644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1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500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512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4628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644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1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556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500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644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644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254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254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51440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1476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524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26"/>
                </a:moveTo>
                <a:lnTo>
                  <a:pt x="10" y="25"/>
                </a:lnTo>
                <a:lnTo>
                  <a:pt x="18" y="18"/>
                </a:lnTo>
                <a:lnTo>
                  <a:pt x="25" y="10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1476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9432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0"/>
                </a:moveTo>
                <a:lnTo>
                  <a:pt x="2" y="10"/>
                </a:lnTo>
                <a:lnTo>
                  <a:pt x="7" y="18"/>
                </a:lnTo>
                <a:lnTo>
                  <a:pt x="16" y="25"/>
                </a:lnTo>
                <a:lnTo>
                  <a:pt x="26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0548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524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26"/>
                </a:moveTo>
                <a:lnTo>
                  <a:pt x="25" y="16"/>
                </a:lnTo>
                <a:lnTo>
                  <a:pt x="18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58640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1476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9432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0"/>
                </a:moveTo>
                <a:lnTo>
                  <a:pt x="16" y="1"/>
                </a:lnTo>
                <a:lnTo>
                  <a:pt x="7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59432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0548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1476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1476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66416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66416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35452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5488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1536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3444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2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4560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1536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424720" y="541188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5488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3444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84344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44560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5488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5488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85042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5042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76440" y="218772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6440" y="248760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512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644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1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00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512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4628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644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1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556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500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6440" y="218772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644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254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8254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51440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1476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524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27"/>
                </a:moveTo>
                <a:lnTo>
                  <a:pt x="10" y="24"/>
                </a:lnTo>
                <a:lnTo>
                  <a:pt x="18" y="19"/>
                </a:lnTo>
                <a:lnTo>
                  <a:pt x="25" y="11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1476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432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0"/>
                </a:moveTo>
                <a:lnTo>
                  <a:pt x="2" y="11"/>
                </a:lnTo>
                <a:lnTo>
                  <a:pt x="7" y="19"/>
                </a:lnTo>
                <a:lnTo>
                  <a:pt x="16" y="24"/>
                </a:lnTo>
                <a:lnTo>
                  <a:pt x="26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0548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524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27"/>
                </a:moveTo>
                <a:lnTo>
                  <a:pt x="25" y="17"/>
                </a:lnTo>
                <a:lnTo>
                  <a:pt x="18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8640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1476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9432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0"/>
                </a:moveTo>
                <a:lnTo>
                  <a:pt x="16" y="3"/>
                </a:lnTo>
                <a:lnTo>
                  <a:pt x="7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59432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0548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1476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476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66416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66416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835452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5488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1536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5488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3444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2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4560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41536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424720" y="221292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5488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3444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84344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44560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5488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5488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85042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5042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64160" y="5537160"/>
            <a:ext cx="369072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5480" y="5537160"/>
            <a:ext cx="368928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64160" y="2338560"/>
            <a:ext cx="36907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5480" y="2338560"/>
            <a:ext cx="368928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509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030400" y="2463840"/>
            <a:ext cx="144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30984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58964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87052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14996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4297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0700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6652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640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5652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20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20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62488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62488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29000" y="5791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29000" y="181116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2200" y="44514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9200000">
            <a:off x="2349360" y="360684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888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7656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540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72200" y="3778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4244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8344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340000">
            <a:off x="6225840" y="35049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1640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5652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50960" y="1981080"/>
            <a:ext cx="767880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62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6" y="148"/>
                </a:lnTo>
                <a:lnTo>
                  <a:pt x="2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3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7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0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09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29800" y="198108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8632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2" y="0"/>
                </a:moveTo>
                <a:lnTo>
                  <a:pt x="189" y="10"/>
                </a:lnTo>
                <a:lnTo>
                  <a:pt x="123" y="40"/>
                </a:lnTo>
                <a:lnTo>
                  <a:pt x="66" y="88"/>
                </a:lnTo>
                <a:lnTo>
                  <a:pt x="25" y="148"/>
                </a:lnTo>
                <a:lnTo>
                  <a:pt x="2" y="218"/>
                </a:lnTo>
                <a:lnTo>
                  <a:pt x="0" y="293"/>
                </a:lnTo>
                <a:lnTo>
                  <a:pt x="17" y="363"/>
                </a:lnTo>
                <a:lnTo>
                  <a:pt x="54" y="427"/>
                </a:lnTo>
                <a:lnTo>
                  <a:pt x="108" y="478"/>
                </a:lnTo>
                <a:lnTo>
                  <a:pt x="172" y="512"/>
                </a:lnTo>
                <a:lnTo>
                  <a:pt x="245" y="527"/>
                </a:lnTo>
                <a:lnTo>
                  <a:pt x="318" y="522"/>
                </a:lnTo>
                <a:lnTo>
                  <a:pt x="387" y="497"/>
                </a:lnTo>
                <a:lnTo>
                  <a:pt x="447" y="455"/>
                </a:lnTo>
                <a:lnTo>
                  <a:pt x="492" y="397"/>
                </a:lnTo>
                <a:lnTo>
                  <a:pt x="520" y="328"/>
                </a:lnTo>
                <a:lnTo>
                  <a:pt x="528" y="255"/>
                </a:lnTo>
                <a:lnTo>
                  <a:pt x="514" y="182"/>
                </a:lnTo>
                <a:lnTo>
                  <a:pt x="482" y="117"/>
                </a:lnTo>
                <a:lnTo>
                  <a:pt x="432" y="61"/>
                </a:lnTo>
                <a:lnTo>
                  <a:pt x="370" y="22"/>
                </a:lnTo>
                <a:lnTo>
                  <a:pt x="299" y="2"/>
                </a:lnTo>
                <a:lnTo>
                  <a:pt x="262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250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7" y="148"/>
                </a:lnTo>
                <a:lnTo>
                  <a:pt x="3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4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8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1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670280" y="198072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0960" y="198108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8964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4589640" y="198072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297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9200000">
            <a:off x="104940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9200000">
            <a:off x="112464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032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2796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2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4044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6808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3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2340000">
            <a:off x="368748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340000">
            <a:off x="346140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344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252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1636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544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532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47440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9200000">
            <a:off x="488772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9200000">
            <a:off x="496476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2340000">
            <a:off x="752760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2340000">
            <a:off x="730152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7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6:17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1Z</dcterms:modified>
  <cp:revision>3</cp:revision>
  <dc:subject/>
  <dc:title>CIS/2 Implementation Workshop III,  3-7 April 2000, Ascot</dc:title>
</cp:coreProperties>
</file>