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0978E-84E0-46FA-A547-989217ED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CE20E-B1DC-4904-8079-7F614F0D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B16AD-30A6-4807-B478-BCB2106A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966CC-5FAE-4C3F-9471-8B3BFFA3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8B164-09A4-4A98-9E50-9B90CB4F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71528-C2C1-4843-8AE7-3762D3BE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B7848-2423-4FA3-892F-65411253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F0623-9898-41D5-A93B-71E10CDB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CD1C0-DA30-4E72-A33D-B35B7DA0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D3C6B-FAA7-4B81-9B2F-8D9862C0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A2889-50E8-435F-9A50-74B7C7BE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11708-AEFE-44D9-8920-A198FD28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E7AB-8E27-45D4-96DC-C10DF82E956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38080" y="2133720"/>
          <a:ext cx="693432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9343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37040" y="303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1840" y="4266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560" y="434304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4440" y="251424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un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7360" y="12942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epared by Fried Augenbro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9320" y="1981080"/>
          <a:ext cx="2809800" cy="14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981080"/>
                    <a:ext cx="280980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34120" y="4800600"/>
          <a:ext cx="1962000" cy="163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4800600"/>
                    <a:ext cx="19620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3520" y="1293840"/>
            <a:ext cx="6705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1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is from a non-managed ‘upstream’ structural layout actor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the file describes an analysis model of a simple 2D frame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385440"/>
            <a:ext cx="7619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2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the result of three managed data transactions by Organization 1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import of File 1 with a STEP file im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load data with a CIS/2 Data Management Compliant (DMC) application SoftX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2 with managed data using the SoftX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9720" y="357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352680" y="3352680"/>
          <a:ext cx="2028960" cy="138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352680"/>
                    <a:ext cx="2028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1286640"/>
            <a:ext cx="792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3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contains the result of three managed data transactions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new data: cross-sections of the two columns and the beam. This is done with the DMC application Soft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modifications of the imported analysis model to allow the inclusion of the element cross section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3 with managed data using the SoftY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93640" y="4179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Eastman</cp:lastModifiedBy>
  <dcterms:modified xsi:type="dcterms:W3CDTF">2001-10-31T03:41:38Z</dcterms:modified>
  <cp:revision>5</cp:revision>
  <dc:subject/>
  <dc:title>No Slide Title</dc:title>
</cp:coreProperties>
</file>