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107ED3A-7170-432B-AF50-B3A82F97E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5B35B64-E57E-48F1-9BF9-9887AD36E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9B277C8-F95C-4E90-9CE2-4DD7298FC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C512436-E09B-4D8C-BDF5-5E1F38F28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032B82F-4187-4AB5-B4A4-EF54AADAD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26BA7AD-50FB-49C8-8896-0711325DB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A48CD6C-F554-40AE-9B45-CA6E8BBF5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041EACA-ED99-4F1F-A090-51588FE0F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8F91820-6407-4E2B-9036-825AAE54A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domain rule is asserted when the expression evaluates to TRUE; and is violated when the expression evaluates to FA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CC2EA0D-17BD-40C2-A07E-9F54AC1FE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nce the subtype is a more specific kind of its supertype, every instance of a subtype is an instance of its supertype(s).  An entity is a subtype if, and only if, it contains a subtype clause.  A subtype entity inherits the attributes of the more general entities occurring above it in the subtype/supertype hierarc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036BCD6-218E-4093-956A-34CFFD882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6312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AB2B-81E1-460F-8119-351887A0322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00980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ing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ed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54000" y="54878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1800" y="306360"/>
            <a:ext cx="83059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nnected_members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T [2:?] OF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1294920"/>
            <a:ext cx="8248680" cy="448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69360" indent="-369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ENUMERATION OF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re, impulse, impact, undefine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62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60320" y="1275840"/>
            <a:ext cx="5397480" cy="23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74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78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82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86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9" name=""/>
            <p:cNvCxnSpPr>
              <a:stCxn id="178" idx="3"/>
              <a:endCxn id="182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78" idx="2"/>
              <a:endCxn id="186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1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2" name=""/>
          <p:cNvCxnSpPr>
            <a:stCxn id="193" idx="2"/>
            <a:endCxn id="179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96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9" name=""/>
          <p:cNvCxnSpPr>
            <a:stCxn id="194" idx="2"/>
            <a:endCxn id="197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00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201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93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5" name=""/>
          <p:cNvCxnSpPr>
            <a:stCxn id="196" idx="2"/>
            <a:endCxn id="204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96" idx="2"/>
            <a:endCxn id="202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11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6" name=""/>
          <p:cNvCxnSpPr>
            <a:stCxn id="193" idx="3"/>
            <a:endCxn id="212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171" idx="2"/>
            <a:endCxn id="175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70320" y="17794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78080" y="2619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30840" y="4390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23" idx="2"/>
            <a:endCxn id="221" idx="2"/>
          </p:cNvCxnSpPr>
          <p:nvPr/>
        </p:nvCxnSpPr>
        <p:spPr>
          <a:xfrm flipH="1" rot="16200000">
            <a:off x="2640240" y="139212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4" name=""/>
          <p:cNvSpPr/>
          <p:nvPr/>
        </p:nvSpPr>
        <p:spPr>
          <a:xfrm>
            <a:off x="5688000" y="2755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3" idx="3"/>
            <a:endCxn id="226" idx="2"/>
          </p:cNvCxnSpPr>
          <p:nvPr/>
        </p:nvCxnSpPr>
        <p:spPr>
          <a:xfrm>
            <a:off x="3025800" y="215532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5410080" y="2079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080" y="1943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34640" y="13176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75800" y="1317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35680" y="422928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71480" y="24289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5440" y="405288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16320" y="13176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09800" y="19080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50400" y="41623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600880" y="1947600"/>
            <a:ext cx="1363320" cy="376200"/>
            <a:chOff x="5600880" y="1947600"/>
            <a:chExt cx="1363320" cy="376200"/>
          </a:xfrm>
        </p:grpSpPr>
        <p:sp>
          <p:nvSpPr>
            <p:cNvPr id="236" name=""/>
            <p:cNvSpPr/>
            <p:nvPr/>
          </p:nvSpPr>
          <p:spPr>
            <a:xfrm>
              <a:off x="5600880" y="194796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823080" y="194760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338560" y="214956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8" idx="2"/>
            <a:endCxn id="224" idx="2"/>
          </p:cNvCxnSpPr>
          <p:nvPr/>
        </p:nvCxnSpPr>
        <p:spPr>
          <a:xfrm flipH="1" rot="16200000">
            <a:off x="3836880" y="99612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0" name=""/>
          <p:cNvGrpSpPr/>
          <p:nvPr/>
        </p:nvGrpSpPr>
        <p:grpSpPr>
          <a:xfrm>
            <a:off x="5629320" y="3246480"/>
            <a:ext cx="1234800" cy="744480"/>
            <a:chOff x="5629320" y="3246480"/>
            <a:chExt cx="1234800" cy="744480"/>
          </a:xfrm>
        </p:grpSpPr>
        <p:sp>
          <p:nvSpPr>
            <p:cNvPr id="241" name=""/>
            <p:cNvSpPr/>
            <p:nvPr/>
          </p:nvSpPr>
          <p:spPr>
            <a:xfrm>
              <a:off x="5629320" y="341496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34040" y="3246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723000" y="342252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3404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5" name=""/>
          <p:cNvCxnSpPr>
            <a:stCxn id="229" idx="0"/>
            <a:endCxn id="244" idx="4"/>
          </p:cNvCxnSpPr>
          <p:nvPr/>
        </p:nvCxnSpPr>
        <p:spPr>
          <a:xfrm flipV="1">
            <a:off x="6210000" y="400500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20" idx="2"/>
            <a:endCxn id="242" idx="0"/>
          </p:cNvCxnSpPr>
          <p:nvPr/>
        </p:nvCxnSpPr>
        <p:spPr>
          <a:xfrm flipH="1" rot="16200000">
            <a:off x="6107040" y="3129480"/>
            <a:ext cx="203760" cy="252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7250400" y="265896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09800" y="33670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119160" y="470700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4160" y="348624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38360" y="188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54" idx="3"/>
            <a:endCxn id="252" idx="2"/>
          </p:cNvCxnSpPr>
          <p:nvPr/>
        </p:nvCxnSpPr>
        <p:spPr>
          <a:xfrm>
            <a:off x="1825200" y="1952280"/>
            <a:ext cx="15994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1987560" y="15908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17280" y="17398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85480" y="1739880"/>
            <a:ext cx="1511280" cy="411120"/>
            <a:chOff x="285480" y="1739880"/>
            <a:chExt cx="1511280" cy="411120"/>
          </a:xfrm>
        </p:grpSpPr>
        <p:sp>
          <p:nvSpPr>
            <p:cNvPr id="254" name=""/>
            <p:cNvSpPr/>
            <p:nvPr/>
          </p:nvSpPr>
          <p:spPr>
            <a:xfrm>
              <a:off x="285480" y="1739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724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0012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23920" y="35370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91920" y="3456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6" idx="2"/>
            <a:endCxn id="263" idx="2"/>
          </p:cNvCxnSpPr>
          <p:nvPr/>
        </p:nvCxnSpPr>
        <p:spPr>
          <a:xfrm flipH="1" rot="16200000">
            <a:off x="5782320" y="14428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485280" y="11872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65160" y="11872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54080" y="11872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51920" y="29210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26400" y="23716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70" idx="2"/>
            <a:endCxn id="271" idx="2"/>
          </p:cNvCxnSpPr>
          <p:nvPr/>
        </p:nvCxnSpPr>
        <p:spPr>
          <a:xfrm flipH="1" rot="16200000">
            <a:off x="5022000" y="1219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54600" y="199224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73" idx="2"/>
            <a:endCxn id="274" idx="2"/>
          </p:cNvCxnSpPr>
          <p:nvPr/>
        </p:nvCxnSpPr>
        <p:spPr>
          <a:xfrm flipH="1" rot="16200000">
            <a:off x="6483960" y="161136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3" name=""/>
          <p:cNvSpPr/>
          <p:nvPr/>
        </p:nvSpPr>
        <p:spPr>
          <a:xfrm>
            <a:off x="5808600" y="199224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23160" y="31179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8669160" y="31176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62960" y="3232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61160" y="3768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824960" y="3622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8642520" y="3622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661160" y="2582640"/>
            <a:ext cx="1123920" cy="376200"/>
            <a:chOff x="7661160" y="2582640"/>
            <a:chExt cx="1123920" cy="376200"/>
          </a:xfrm>
        </p:grpSpPr>
        <p:sp>
          <p:nvSpPr>
            <p:cNvPr id="274" name=""/>
            <p:cNvSpPr/>
            <p:nvPr/>
          </p:nvSpPr>
          <p:spPr>
            <a:xfrm>
              <a:off x="7661160" y="2698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40440" y="25830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658000" y="25826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85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7" name=""/>
          <p:cNvCxnSpPr>
            <a:stCxn id="283" idx="2"/>
            <a:endCxn id="286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91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5" name=""/>
              <p:cNvCxnSpPr>
                <a:stCxn id="285" idx="3"/>
                <a:endCxn id="294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9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0" name=""/>
              <p:cNvCxnSpPr>
                <a:stCxn id="285" idx="2"/>
                <a:endCxn id="305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1" name=""/>
              <p:cNvCxnSpPr>
                <a:stCxn id="285" idx="2"/>
                <a:endCxn id="302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2" name=""/>
              <p:cNvCxnSpPr>
                <a:stCxn id="285" idx="2"/>
                <a:endCxn id="308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13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16" name=""/>
              <p:cNvCxnSpPr>
                <a:stCxn id="285" idx="2"/>
                <a:endCxn id="315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17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22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26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30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3" name=""/>
            <p:cNvCxnSpPr>
              <a:stCxn id="322" idx="3"/>
              <a:endCxn id="326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4" name=""/>
            <p:cNvCxnSpPr>
              <a:stCxn id="322" idx="2"/>
              <a:endCxn id="330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5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37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0" name=""/>
          <p:cNvCxnSpPr>
            <a:stCxn id="339" idx="2"/>
            <a:endCxn id="323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5" idx="1"/>
            <a:endCxn id="34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56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360" idx="2"/>
            <a:endCxn id="359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60" idx="2"/>
            <a:endCxn id="363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357" idx="4"/>
            <a:endCxn id="365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6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65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16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ins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154560" y="2592360"/>
            <a:ext cx="690840" cy="592560"/>
            <a:chOff x="6154560" y="2592360"/>
            <a:chExt cx="690840" cy="592560"/>
          </a:xfrm>
        </p:grpSpPr>
        <p:sp>
          <p:nvSpPr>
            <p:cNvPr id="373" name=""/>
            <p:cNvSpPr/>
            <p:nvPr/>
          </p:nvSpPr>
          <p:spPr>
            <a:xfrm>
              <a:off x="6154560" y="281448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05480" y="2592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264360" y="27964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6" name=""/>
          <p:cNvCxnSpPr>
            <a:stCxn id="371" idx="2"/>
            <a:endCxn id="374" idx="0"/>
          </p:cNvCxnSpPr>
          <p:nvPr/>
        </p:nvCxnSpPr>
        <p:spPr>
          <a:xfrm>
            <a:off x="6496200" y="2125800"/>
            <a:ext cx="3600" cy="45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7" name=""/>
          <p:cNvGrpSpPr/>
          <p:nvPr/>
        </p:nvGrpSpPr>
        <p:grpSpPr>
          <a:xfrm>
            <a:off x="7120080" y="3354480"/>
            <a:ext cx="1792440" cy="398880"/>
            <a:chOff x="7120080" y="3354480"/>
            <a:chExt cx="1792440" cy="398880"/>
          </a:xfrm>
        </p:grpSpPr>
        <p:sp>
          <p:nvSpPr>
            <p:cNvPr id="378" name=""/>
            <p:cNvSpPr/>
            <p:nvPr/>
          </p:nvSpPr>
          <p:spPr>
            <a:xfrm>
              <a:off x="7343280" y="335448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20080" y="3456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147080" y="3944880"/>
            <a:ext cx="1734840" cy="398880"/>
            <a:chOff x="7147080" y="3944880"/>
            <a:chExt cx="1734840" cy="398880"/>
          </a:xfrm>
        </p:grpSpPr>
        <p:sp>
          <p:nvSpPr>
            <p:cNvPr id="381" name=""/>
            <p:cNvSpPr/>
            <p:nvPr/>
          </p:nvSpPr>
          <p:spPr>
            <a:xfrm>
              <a:off x="7370640" y="3944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47080" y="404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3" name=""/>
          <p:cNvCxnSpPr>
            <a:stCxn id="373" idx="2"/>
            <a:endCxn id="382" idx="2"/>
          </p:cNvCxnSpPr>
          <p:nvPr/>
        </p:nvCxnSpPr>
        <p:spPr>
          <a:xfrm flipH="1" rot="16200000">
            <a:off x="6357600" y="336600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73" idx="2"/>
            <a:endCxn id="379" idx="2"/>
          </p:cNvCxnSpPr>
          <p:nvPr/>
        </p:nvCxnSpPr>
        <p:spPr>
          <a:xfrm flipH="1" rot="16200000">
            <a:off x="6640560" y="30841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6518880" y="21542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71" idx="1"/>
            <a:endCxn id="38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25320" y="275904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5840" y="233856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74080" y="341136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"/>
          <p:cNvCxnSpPr>
            <a:stCxn id="399" idx="2"/>
            <a:endCxn id="400" idx="2"/>
          </p:cNvCxnSpPr>
          <p:nvPr/>
        </p:nvCxnSpPr>
        <p:spPr>
          <a:xfrm flipH="1" rot="16200000">
            <a:off x="2950200" y="142524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2475000" y="248904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403" idx="2"/>
            <a:endCxn id="404" idx="2"/>
          </p:cNvCxnSpPr>
          <p:nvPr/>
        </p:nvCxnSpPr>
        <p:spPr>
          <a:xfrm flipH="1" rot="16200000">
            <a:off x="1759680" y="117504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5" name=""/>
          <p:cNvGrpSpPr/>
          <p:nvPr/>
        </p:nvGrpSpPr>
        <p:grpSpPr>
          <a:xfrm>
            <a:off x="352800" y="1695600"/>
            <a:ext cx="3777480" cy="410400"/>
            <a:chOff x="352800" y="1695600"/>
            <a:chExt cx="3777480" cy="410400"/>
          </a:xfrm>
        </p:grpSpPr>
        <p:sp>
          <p:nvSpPr>
            <p:cNvPr id="399" name=""/>
            <p:cNvSpPr/>
            <p:nvPr/>
          </p:nvSpPr>
          <p:spPr>
            <a:xfrm>
              <a:off x="352800" y="169560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280" y="1947600"/>
              <a:ext cx="2728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46280" y="1947600"/>
              <a:ext cx="27324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560840" y="267012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07200" y="26697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00640" y="2784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98840" y="3724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62640" y="357840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380200" y="357804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58320" y="404352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60120" y="212256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-62280" y="493560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2960" y="22986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54160" y="26654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1520" y="2583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26080" y="24303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57560" y="2268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480120" y="12366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088160" y="2125800"/>
            <a:ext cx="4776480" cy="784080"/>
            <a:chOff x="4088160" y="2125800"/>
            <a:chExt cx="4776480" cy="784080"/>
          </a:xfrm>
        </p:grpSpPr>
        <p:sp>
          <p:nvSpPr>
            <p:cNvPr id="423" name=""/>
            <p:cNvSpPr/>
            <p:nvPr/>
          </p:nvSpPr>
          <p:spPr>
            <a:xfrm>
              <a:off x="4088160" y="242892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858000" y="24861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697960" y="242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946920" y="24861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6870240" y="283356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712360" y="2757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43600" y="21258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91000" y="2262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893520" y="18478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15" idx="3"/>
            <a:endCxn id="430" idx="0"/>
          </p:cNvCxnSpPr>
          <p:nvPr/>
        </p:nvCxnSpPr>
        <p:spPr>
          <a:xfrm>
            <a:off x="3274920" y="15969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4" name=""/>
          <p:cNvCxnSpPr>
            <a:stCxn id="415" idx="2"/>
            <a:endCxn id="420" idx="0"/>
          </p:cNvCxnSpPr>
          <p:nvPr/>
        </p:nvCxnSpPr>
        <p:spPr>
          <a:xfrm rot="5400000">
            <a:off x="2123280" y="203328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3399840" y="162720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-140400" y="28764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42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45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48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1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54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8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It doe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 repeat the definitions of those STEP entities that have been used from the Generic Resource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18T19:36:37Z</dcterms:modified>
  <cp:revision>84</cp:revision>
  <dc:subject/>
  <dc:title>No Slide Title</dc:title>
</cp:coreProperties>
</file>