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BA09F-52A6-47E4-997C-9ECEB17B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A930D-4E69-43F9-9BD4-C639F72C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08DAC-E24A-445B-B5C1-1DA2B5CB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6C1DB-8977-4B6C-B09D-558CDE94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83668-EB95-4822-ADD9-8D9184FD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F09B8-F2ED-4F26-A54A-156ED321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70D16-DA33-45C9-BC29-40636CA5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D2EAF-5E86-42D2-9385-F3AD76B8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056F9-6289-4E81-92AE-B10D64D4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62A4B-02FC-412F-8E49-31E1DA14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90617-E84E-401E-B67A-EC57DE7C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BD0ED-3B1B-49FF-B04F-02C66A34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3+14 November 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ISC CIS/2 worksho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road towards a Pilot projec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wing CIS/2 based data exchange in action in a real lif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election of Pilo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5105520"/>
            <a:ext cx="2666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4300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40840" y="5257800"/>
            <a:ext cx="132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b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nersh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25920" y="527220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 partn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6800" y="4433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6800" y="29862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3809880"/>
            <a:ext cx="25909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36232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25320" y="4038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8428400">
            <a:off x="2095560" y="354276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5105520"/>
            <a:ext cx="2666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56272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62000" y="525780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quent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08120" y="5257800"/>
            <a:ext cx="178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ly iter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90040" y="43434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train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56160" y="298620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3809880"/>
            <a:ext cx="25905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678168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45040" y="4038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8428400">
            <a:off x="6515280" y="354276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00960" y="2224080"/>
            <a:ext cx="16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velty 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03000" y="22240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mplex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II. Problems with workflo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38480" y="3187800"/>
            <a:ext cx="286704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1972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27440" y="2781360"/>
            <a:ext cx="844560" cy="194292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91120" y="32767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66680" y="4952880"/>
            <a:ext cx="1447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76920" y="5029200"/>
            <a:ext cx="13716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4960" y="1981080"/>
            <a:ext cx="53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control the exchange with the environ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3480" y="4495680"/>
            <a:ext cx="14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2200" y="48909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p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623920" y="451008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32560" y="5105520"/>
            <a:ext cx="31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liver to downstream a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II.Problems with data manage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38480" y="3187800"/>
            <a:ext cx="286704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1972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27440" y="2781360"/>
            <a:ext cx="844560" cy="19429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91120" y="32767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4952880"/>
            <a:ext cx="14479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76920" y="5029200"/>
            <a:ext cx="13716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6400" y="1981080"/>
            <a:ext cx="475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control disconnects and missing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024080" y="46674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0080" y="2209680"/>
            <a:ext cx="2935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su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raise exce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lobal state of exch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t out of deadlock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pulation responsibilit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ount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wnership of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gal iss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V. Ambition leve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4097160" cy="41054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5181480" y="4572000"/>
            <a:ext cx="990720" cy="380880"/>
          </a:xfrm>
          <a:prstGeom prst="leftArrow">
            <a:avLst>
              <a:gd name="adj1" fmla="val 50000"/>
              <a:gd name="adj2" fmla="val 65028"/>
            </a:avLst>
          </a:prstGeom>
          <a:solidFill>
            <a:srgbClr val="ff33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20520" y="4495680"/>
            <a:ext cx="24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rrent ambition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638680" y="2133720"/>
            <a:ext cx="0" cy="2209680"/>
          </a:xfrm>
          <a:prstGeom prst="line">
            <a:avLst/>
          </a:prstGeom>
          <a:ln cap="sq"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29320" y="2666880"/>
            <a:ext cx="349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ou need some poor man’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ta management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-ordination (or raise ambi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ve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. Selection of Projec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367280" y="1981080"/>
            <a:ext cx="4271040" cy="1296720"/>
            <a:chOff x="1367280" y="1981080"/>
            <a:chExt cx="4271040" cy="1296720"/>
          </a:xfrm>
        </p:grpSpPr>
        <p:grpSp>
          <p:nvGrpSpPr>
            <p:cNvPr id="349" name=""/>
            <p:cNvGrpSpPr/>
            <p:nvPr/>
          </p:nvGrpSpPr>
          <p:grpSpPr>
            <a:xfrm>
              <a:off x="3962520" y="1981080"/>
              <a:ext cx="1675800" cy="1296720"/>
              <a:chOff x="3962520" y="1981080"/>
              <a:chExt cx="1675800" cy="1296720"/>
            </a:xfrm>
          </p:grpSpPr>
          <p:sp>
            <p:nvSpPr>
              <p:cNvPr id="350" name=""/>
              <p:cNvSpPr/>
              <p:nvPr/>
            </p:nvSpPr>
            <p:spPr>
              <a:xfrm>
                <a:off x="4341960" y="2206800"/>
                <a:ext cx="927360" cy="77796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427280" y="2711880"/>
                <a:ext cx="1544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660560" y="2453400"/>
                <a:ext cx="1544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654800" y="1981080"/>
                <a:ext cx="15480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046840" y="2715840"/>
                <a:ext cx="1562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4545720" y="2615760"/>
                <a:ext cx="135720" cy="9972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4505400" y="2155680"/>
                <a:ext cx="198360" cy="5533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824000" y="2072160"/>
                <a:ext cx="272880" cy="6433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817160" y="2558880"/>
                <a:ext cx="250560" cy="18144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962520" y="2791080"/>
                <a:ext cx="46836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194440" y="2817720"/>
                <a:ext cx="44388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896720" y="2697480"/>
                <a:ext cx="18468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1367280" y="2209680"/>
              <a:ext cx="2169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dentification (PW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1445400" y="3200040"/>
            <a:ext cx="3050280" cy="1006920"/>
            <a:chOff x="1445400" y="3200040"/>
            <a:chExt cx="3050280" cy="1006920"/>
          </a:xfrm>
        </p:grpSpPr>
        <p:grpSp>
          <p:nvGrpSpPr>
            <p:cNvPr id="364" name=""/>
            <p:cNvGrpSpPr/>
            <p:nvPr/>
          </p:nvGrpSpPr>
          <p:grpSpPr>
            <a:xfrm>
              <a:off x="3809880" y="3200040"/>
              <a:ext cx="685800" cy="1006920"/>
              <a:chOff x="3809880" y="3200040"/>
              <a:chExt cx="685800" cy="1006920"/>
            </a:xfrm>
          </p:grpSpPr>
          <p:sp>
            <p:nvSpPr>
              <p:cNvPr id="365" name=""/>
              <p:cNvSpPr/>
              <p:nvPr/>
            </p:nvSpPr>
            <p:spPr>
              <a:xfrm>
                <a:off x="3809880" y="388620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3809880" y="3200040"/>
                <a:ext cx="0" cy="6858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809880" y="349740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4122360" y="3200040"/>
                <a:ext cx="0" cy="6858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81160" y="3565800"/>
                <a:ext cx="184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09880" y="3505320"/>
                <a:ext cx="304560" cy="38088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8428400">
                <a:off x="3947040" y="3367800"/>
                <a:ext cx="288720" cy="258840"/>
              </a:xfrm>
              <a:prstGeom prst="rightArrow">
                <a:avLst>
                  <a:gd name="adj1" fmla="val 50000"/>
                  <a:gd name="adj2" fmla="val 27886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1445400" y="3276720"/>
              <a:ext cx="1660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ovelty fact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446840" y="4191120"/>
            <a:ext cx="3277440" cy="1005840"/>
            <a:chOff x="1446840" y="4191120"/>
            <a:chExt cx="3277440" cy="1005840"/>
          </a:xfrm>
        </p:grpSpPr>
        <p:grpSp>
          <p:nvGrpSpPr>
            <p:cNvPr id="374" name=""/>
            <p:cNvGrpSpPr/>
            <p:nvPr/>
          </p:nvGrpSpPr>
          <p:grpSpPr>
            <a:xfrm>
              <a:off x="4038480" y="4191120"/>
              <a:ext cx="685800" cy="1005840"/>
              <a:chOff x="4038480" y="4191120"/>
              <a:chExt cx="685800" cy="1005840"/>
            </a:xfrm>
          </p:grpSpPr>
          <p:sp>
            <p:nvSpPr>
              <p:cNvPr id="375" name=""/>
              <p:cNvSpPr/>
              <p:nvPr/>
            </p:nvSpPr>
            <p:spPr>
              <a:xfrm>
                <a:off x="4038480" y="487656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4038480" y="419112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038480" y="448776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4350960" y="419112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09760" y="455616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038480" y="449568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8428400">
                <a:off x="4175640" y="435780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1446840" y="4267080"/>
              <a:ext cx="1383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mplex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1440720" y="5105520"/>
            <a:ext cx="351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 and downstream conn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32080" y="5791320"/>
            <a:ext cx="70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age aspects: resolve disconnects, poor man’s data manag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. Development path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7920" y="2209680"/>
            <a:ext cx="6569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dentify Project Wind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dentify Init and Exit nee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ke init test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 base line functional interfaces to be used within P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e a ‘clinic’ using a past pro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st exceptions/ disconnects/ iterations /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cide GO/NO-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oose a real world project: choose success meas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oint Data Exchange Project Mana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n project through DEP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4680" y="3581280"/>
            <a:ext cx="18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ISC worksh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2080" y="3124080"/>
            <a:ext cx="171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emote tes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57200" y="1828800"/>
            <a:ext cx="1676160" cy="1296720"/>
            <a:chOff x="457200" y="1828800"/>
            <a:chExt cx="1676160" cy="1296720"/>
          </a:xfrm>
        </p:grpSpPr>
        <p:sp>
          <p:nvSpPr>
            <p:cNvPr id="390" name=""/>
            <p:cNvSpPr/>
            <p:nvPr/>
          </p:nvSpPr>
          <p:spPr>
            <a:xfrm>
              <a:off x="836640" y="2054520"/>
              <a:ext cx="927360" cy="77796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21960" y="2559600"/>
              <a:ext cx="1544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55240" y="2301120"/>
              <a:ext cx="1544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49840" y="1828800"/>
              <a:ext cx="15480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541880" y="2563560"/>
              <a:ext cx="1562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1040400" y="2463480"/>
              <a:ext cx="135720" cy="9972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1000080" y="2003400"/>
              <a:ext cx="198360" cy="553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18680" y="1919880"/>
              <a:ext cx="272880" cy="643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12200" y="2406600"/>
              <a:ext cx="250560" cy="18144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7200" y="2638800"/>
              <a:ext cx="4683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89480" y="2665440"/>
              <a:ext cx="4438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391760" y="2545200"/>
              <a:ext cx="184680" cy="58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837360" y="55627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oni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85800" y="4114800"/>
            <a:ext cx="1219320" cy="1234440"/>
            <a:chOff x="685800" y="4114800"/>
            <a:chExt cx="1219320" cy="1234440"/>
          </a:xfrm>
        </p:grpSpPr>
        <p:grpSp>
          <p:nvGrpSpPr>
            <p:cNvPr id="404" name=""/>
            <p:cNvGrpSpPr/>
            <p:nvPr/>
          </p:nvGrpSpPr>
          <p:grpSpPr>
            <a:xfrm>
              <a:off x="685800" y="4114800"/>
              <a:ext cx="685800" cy="1005840"/>
              <a:chOff x="685800" y="4114800"/>
              <a:chExt cx="685800" cy="1005840"/>
            </a:xfrm>
          </p:grpSpPr>
          <p:sp>
            <p:nvSpPr>
              <p:cNvPr id="405" name=""/>
              <p:cNvSpPr/>
              <p:nvPr/>
            </p:nvSpPr>
            <p:spPr>
              <a:xfrm>
                <a:off x="685800" y="480024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685800" y="41148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85800" y="441144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998280" y="41148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57080" y="447984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85800" y="441936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18428400">
                <a:off x="822960" y="428148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1219320" y="4343400"/>
              <a:ext cx="685800" cy="1005840"/>
              <a:chOff x="1219320" y="4343400"/>
              <a:chExt cx="685800" cy="1005840"/>
            </a:xfrm>
          </p:grpSpPr>
          <p:sp>
            <p:nvSpPr>
              <p:cNvPr id="413" name=""/>
              <p:cNvSpPr/>
              <p:nvPr/>
            </p:nvSpPr>
            <p:spPr>
              <a:xfrm>
                <a:off x="1219320" y="502884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1219320" y="43434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219320" y="464004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1531800" y="43434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290600" y="470844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219320" y="464796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8428400">
                <a:off x="1356480" y="451008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emo states schedu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9360" y="2286000"/>
            <a:ext cx="7837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1: develop working interfa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2: data roundtrips (artificial scenari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3: stage a ‘clinic’ demo (scenario driven) with participating audi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4: select project with ‘friendly’ partners (allow extra budget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5: develop business case and Pilot scen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6: execute the next project that comes alo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0240" y="2111400"/>
            <a:ext cx="518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. Real world project: asp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I. Problems and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V. Ambition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. Selection of a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. Development p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tr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88480" y="2327400"/>
            <a:ext cx="7762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bjective of this present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 we select and execute a real life PILOT projec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reful selection, low ambition, anticipation of problem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sting, testing, ……’run a clinic’, …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have migration strategy to real life project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rules of the game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560" y="2438280"/>
            <a:ext cx="8238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project must be realistic (and any pre-conditioning ‘invisible’) to convi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project must be so simple that it can be performed with what we h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3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measures of success must be non-trivi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(explicit business case?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06840" y="2711520"/>
            <a:ext cx="3487680" cy="1949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38480" y="3187800"/>
            <a:ext cx="266220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ILOT: A ‘window’ on the complete proces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6153120"/>
            <a:ext cx="6981840" cy="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881360" y="1790280"/>
            <a:ext cx="0" cy="434340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0960" y="630864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92440" y="133668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37000" y="473076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32446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72120" y="47880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16680" y="396864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30880" y="292104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19160" y="5067360"/>
            <a:ext cx="1460520" cy="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27440" y="2781360"/>
            <a:ext cx="1600200" cy="6094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0440" y="4971960"/>
            <a:ext cx="1125720" cy="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818240" y="3733920"/>
            <a:ext cx="615600" cy="1047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767560" y="3295800"/>
            <a:ext cx="457200" cy="1713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05560" y="4438440"/>
            <a:ext cx="511200" cy="3999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47040" y="3390840"/>
            <a:ext cx="404640" cy="60984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402680" y="4171680"/>
            <a:ext cx="844560" cy="190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95760" y="333684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07120" y="282240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959360" y="4210200"/>
            <a:ext cx="1951200" cy="723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38160" y="1066680"/>
            <a:ext cx="29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ject Window 1: Tea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ject Window 2: Team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010280" y="5105520"/>
            <a:ext cx="2169000" cy="838080"/>
            <a:chOff x="7010280" y="5105520"/>
            <a:chExt cx="2169000" cy="838080"/>
          </a:xfrm>
        </p:grpSpPr>
        <p:sp>
          <p:nvSpPr>
            <p:cNvPr id="127" name=""/>
            <p:cNvSpPr/>
            <p:nvPr/>
          </p:nvSpPr>
          <p:spPr>
            <a:xfrm>
              <a:off x="7010280" y="5105520"/>
              <a:ext cx="1981080" cy="83808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5200" y="5715000"/>
              <a:ext cx="457200" cy="0"/>
            </a:xfrm>
            <a:prstGeom prst="line">
              <a:avLst/>
            </a:prstGeom>
            <a:ln w="50760">
              <a:solidFill>
                <a:srgbClr val="cbcbcb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52320" y="5562720"/>
              <a:ext cx="108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2A ex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3888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52680" y="5203800"/>
              <a:ext cx="132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ctor /Applic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09680" y="3581280"/>
            <a:ext cx="624852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7374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teration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6153120"/>
            <a:ext cx="6981840" cy="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881360" y="1790280"/>
            <a:ext cx="0" cy="434340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00960" y="630864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880" y="167652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38862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396252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7480" y="48006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71800" y="4267080"/>
            <a:ext cx="91440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343400"/>
            <a:ext cx="838080" cy="6094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434340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486400" y="426708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91520" y="37339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411480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502920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72080" y="1143000"/>
            <a:ext cx="679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importance of incremental ste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5640" y="36576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4320" y="4689360"/>
            <a:ext cx="14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uctur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4114800" y="3962520"/>
            <a:ext cx="1600200" cy="1752480"/>
            <a:chOff x="4114800" y="3962520"/>
            <a:chExt cx="1600200" cy="1752480"/>
          </a:xfrm>
        </p:grpSpPr>
        <p:sp>
          <p:nvSpPr>
            <p:cNvPr id="154" name=""/>
            <p:cNvSpPr/>
            <p:nvPr/>
          </p:nvSpPr>
          <p:spPr>
            <a:xfrm>
              <a:off x="4114800" y="3962520"/>
              <a:ext cx="1600200" cy="175248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29200" y="4343400"/>
              <a:ext cx="15228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029200" y="4724280"/>
              <a:ext cx="7632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648320" y="4952880"/>
              <a:ext cx="15228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43400" y="419112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0600" y="41911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46483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05520" y="44956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19720" y="49528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00600" y="480060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05520" y="51814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0" y="4343400"/>
              <a:ext cx="2286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2880" y="5029200"/>
              <a:ext cx="15264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572000" y="4800600"/>
              <a:ext cx="3808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571640" y="4419720"/>
              <a:ext cx="22860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ho are the actors in the project?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2971800"/>
            <a:ext cx="1523880" cy="144792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029200" y="2590560"/>
            <a:ext cx="1143000" cy="68580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5520" y="4038480"/>
            <a:ext cx="1066680" cy="83844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819160" y="4191120"/>
            <a:ext cx="1066680" cy="91440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2819160" y="2437920"/>
            <a:ext cx="990360" cy="76212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2438280"/>
            <a:ext cx="2895840" cy="381240"/>
          </a:xfrm>
          <a:prstGeom prst="leftRightArrow">
            <a:avLst>
              <a:gd name="adj1" fmla="val 50000"/>
              <a:gd name="adj2" fmla="val 151213"/>
            </a:avLst>
          </a:prstGeom>
          <a:solidFill>
            <a:srgbClr val="ffff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??????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85760" y="1676520"/>
            <a:ext cx="415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What other type of interaction occurs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how to manage in PILO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62320" y="50292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62320" y="1981080"/>
            <a:ext cx="4791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213372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502920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nditioning: degrees of freedom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12920" y="3949560"/>
            <a:ext cx="47952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31240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38680" y="396252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581280" y="3504960"/>
            <a:ext cx="91440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3733920"/>
            <a:ext cx="609480" cy="68580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1752480"/>
            <a:ext cx="1600200" cy="17528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24480" y="2209680"/>
            <a:ext cx="15264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324480" y="2590920"/>
            <a:ext cx="76320" cy="759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943600" y="2819160"/>
            <a:ext cx="152280" cy="759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20574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20574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251460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0800" y="23623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28195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266688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304812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2209680"/>
            <a:ext cx="228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2895480"/>
            <a:ext cx="15228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866920" y="266688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866920" y="228600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3581280"/>
            <a:ext cx="1600200" cy="17528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3962520"/>
            <a:ext cx="15228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904760" y="4343400"/>
            <a:ext cx="7596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523880" y="45720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42670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41148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45720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76520" y="44197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48006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3962520"/>
            <a:ext cx="228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46483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447920" y="44197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447560" y="403848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7080" y="1600200"/>
            <a:ext cx="48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Based on internal application to applic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greements may lead to proprietary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C cannot be easily replaced by 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76920" y="2286000"/>
            <a:ext cx="685800" cy="30492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86400" y="43434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9200" y="3505320"/>
            <a:ext cx="76212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data coordination challeng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12920" y="3949560"/>
            <a:ext cx="47952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95680" y="31240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396252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581280" y="3504960"/>
            <a:ext cx="91440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358128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3581280"/>
            <a:ext cx="1981440" cy="22100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05120" y="3962520"/>
            <a:ext cx="15228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904760" y="4343400"/>
            <a:ext cx="7596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523880" y="45720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193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765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42670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81080" y="41148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46483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44197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81080" y="48006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47920" y="3962520"/>
            <a:ext cx="22860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28800" y="46483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447920" y="4419720"/>
            <a:ext cx="38088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447560" y="403848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487692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9528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480060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533412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51814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066680" y="48006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5029200"/>
            <a:ext cx="152640" cy="144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51055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752480" y="5028840"/>
            <a:ext cx="1800" cy="15228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28800" y="4876920"/>
            <a:ext cx="15228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295280" y="5333760"/>
            <a:ext cx="304920" cy="7596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1523880"/>
            <a:ext cx="1981440" cy="2210040"/>
            <a:chOff x="5410080" y="1523880"/>
            <a:chExt cx="1981440" cy="2210040"/>
          </a:xfrm>
        </p:grpSpPr>
        <p:sp>
          <p:nvSpPr>
            <p:cNvPr id="254" name=""/>
            <p:cNvSpPr/>
            <p:nvPr/>
          </p:nvSpPr>
          <p:spPr>
            <a:xfrm>
              <a:off x="5410080" y="1523880"/>
              <a:ext cx="1981440" cy="22100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705720" y="1905120"/>
              <a:ext cx="15228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705360" y="2286000"/>
              <a:ext cx="7596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6324480" y="2514600"/>
              <a:ext cx="15264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19920" y="175248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77120" y="175248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19920" y="22096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81680" y="205740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95880" y="259092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77120" y="23623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81680" y="274320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48520" y="1905120"/>
              <a:ext cx="22860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29400" y="2590920"/>
              <a:ext cx="15228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248520" y="2362320"/>
              <a:ext cx="38088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248160" y="1981080"/>
              <a:ext cx="22860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638680" y="281952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19920" y="289548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274320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67280" y="327672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00800" y="312408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867280" y="2743200"/>
              <a:ext cx="15264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67280" y="2971800"/>
              <a:ext cx="152640" cy="144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48520" y="3048120"/>
              <a:ext cx="15228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6553080" y="2971440"/>
              <a:ext cx="1800" cy="15228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9400" y="2819520"/>
              <a:ext cx="15228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095880" y="3276360"/>
              <a:ext cx="304920" cy="7596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058760" y="1447920"/>
            <a:ext cx="367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olve inherent problem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f file based trans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data not used by B gets scrappe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ven if C needs it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5638680" y="2819520"/>
            <a:ext cx="914400" cy="838080"/>
          </a:xfrm>
          <a:prstGeom prst="line">
            <a:avLst/>
          </a:prstGeom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38680" y="2819520"/>
            <a:ext cx="914400" cy="761760"/>
          </a:xfrm>
          <a:prstGeom prst="line">
            <a:avLst/>
          </a:prstGeom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91120" y="1828800"/>
            <a:ext cx="1295280" cy="838080"/>
          </a:xfrm>
          <a:prstGeom prst="line">
            <a:avLst/>
          </a:prstGeom>
          <a:ln cap="sq"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5T11:06:48Z</dcterms:created>
  <dc:creator>Godfried Augenbroe</dc:creator>
  <dc:description/>
  <dc:language>en-US</dc:language>
  <cp:lastModifiedBy>Godfried Augenbroe</cp:lastModifiedBy>
  <cp:lastPrinted>2000-11-17T22:04:50Z</cp:lastPrinted>
  <dcterms:modified xsi:type="dcterms:W3CDTF">2000-11-17T22:06:46Z</dcterms:modified>
  <cp:revision>58</cp:revision>
  <dc:subject/>
  <dc:title>Performance Assessments of Intermediate Designs</dc:title>
</cp:coreProperties>
</file>