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0EF21-A613-4D44-BE99-0125B94E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3379A-ED2E-4436-B119-137A1FE4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64D61-0BEA-4E91-9AD8-3BF31E40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9EB36-ABD3-4CE0-859F-F5A803FC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F1B16-0D98-4ACB-A58A-F1F6273C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1638B-AACB-4889-9BA0-33B56899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8306C-2B1E-4B8E-AD00-F2301FAA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E3675-946C-4885-BE92-182DF67A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1DF8A-70CF-4870-9C47-029692E4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EF8C7-FECB-4A9C-B17B-68C5A69E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BEFFE-7352-4769-B0E4-E931F7EC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56BC7-0647-4E94-8B44-E4A65450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76B2-04E6-49F5-B57B-29B4D11DB4E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90720" y="19810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MIS Interface with Fabtro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3048120"/>
            <a:ext cx="6019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Frank Wa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971800" y="1143000"/>
          <a:ext cx="501480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143000"/>
                    <a:ext cx="50148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1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6483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tem_property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arries a description and a proerty val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276720" y="1371600"/>
          <a:ext cx="5333760" cy="473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371600"/>
                    <a:ext cx="533376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2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3434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Structural_frame_item_relationship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carries a description and a lab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553080" y="4876920"/>
            <a:ext cx="12956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1828800"/>
          <a:ext cx="7694640" cy="38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828800"/>
                    <a:ext cx="76946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572000" y="1523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I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Mar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Na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1905120"/>
            <a:ext cx="533520" cy="10666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2133720"/>
            <a:ext cx="380880" cy="1523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3733560"/>
            <a:ext cx="2438280" cy="1522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4572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Part Identifi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49400" y="1373040"/>
          <a:ext cx="8769240" cy="44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400" y="1373040"/>
                    <a:ext cx="876924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57200" y="380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ection Profil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380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flavor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895480" y="1066680"/>
            <a:ext cx="1981440" cy="5335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12193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item_proper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43800" y="2057400"/>
            <a:ext cx="762120" cy="25146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03:16:57Z</dcterms:created>
  <dc:creator>Eastman</dc:creator>
  <dc:description/>
  <dc:language>en-US</dc:language>
  <cp:lastModifiedBy>fwang</cp:lastModifiedBy>
  <dcterms:modified xsi:type="dcterms:W3CDTF">2002-05-06T15:46:04Z</dcterms:modified>
  <cp:revision>2</cp:revision>
  <dc:subject/>
  <dc:title>No Slide Title</dc:title>
</cp:coreProperties>
</file>