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6400800"/>
            <a:ext cx="252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© 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91798-8889-4F3D-89CA-365698085692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2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AISC CIS/2  Workshop #2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480" y="38862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2.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roduction to the NIST Expresso To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5560" y="49860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vine, CA: June 1999 (rev 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ile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838080" y="1828800"/>
          <a:ext cx="754380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828800"/>
                    <a:ext cx="754380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3381480" y="25430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27432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3733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35244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ools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Data Creato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ew and create entity instances: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Goo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Data Viewe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RESS-X vie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EXPRESS Edito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ally update schema,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dd PRINT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A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Entity Graph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ew and graph entities: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Goo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ools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676520" y="1981080"/>
          <a:ext cx="6324480" cy="394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981080"/>
                    <a:ext cx="6324480" cy="39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2631960" y="30132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31960" y="396540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Run All Rul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validate all the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Validation Control Panel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ective data valid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Validation Statistic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Show Instanc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 the data as part 21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066680" y="1828800"/>
          <a:ext cx="7315200" cy="438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7315200" cy="43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2146320" y="24764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46320" y="27050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46320" y="292104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46320" y="4660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43400" y="3276720"/>
            <a:ext cx="228600" cy="304560"/>
          </a:xfrm>
          <a:custGeom>
            <a:avLst/>
            <a:gdLst>
              <a:gd name="textAreaLeft" fmla="*/ 0 w 228600"/>
              <a:gd name="textAreaRight" fmla="*/ 82440 w 228600"/>
              <a:gd name="textAreaTop" fmla="*/ 7920 h 304560"/>
              <a:gd name="textAreaBottom" fmla="*/ 29664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43400" y="3657600"/>
            <a:ext cx="228600" cy="838080"/>
          </a:xfrm>
          <a:custGeom>
            <a:avLst/>
            <a:gdLst>
              <a:gd name="textAreaLeft" fmla="*/ 0 w 228600"/>
              <a:gd name="textAreaRight" fmla="*/ 8244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-X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35400" y="2438280"/>
            <a:ext cx="114696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07400" y="2438280"/>
            <a:ext cx="114696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687760" y="2438280"/>
            <a:ext cx="3414600" cy="825480"/>
            <a:chOff x="2687760" y="2438280"/>
            <a:chExt cx="3414600" cy="825480"/>
          </a:xfrm>
        </p:grpSpPr>
        <p:sp>
          <p:nvSpPr>
            <p:cNvPr id="109" name=""/>
            <p:cNvSpPr/>
            <p:nvPr/>
          </p:nvSpPr>
          <p:spPr>
            <a:xfrm>
              <a:off x="3663720" y="2438280"/>
              <a:ext cx="1468440" cy="825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xpress-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app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10" name=""/>
            <p:cNvCxnSpPr>
              <a:stCxn id="106" idx="3"/>
              <a:endCxn id="109" idx="1"/>
            </p:cNvCxnSpPr>
            <p:nvPr/>
          </p:nvCxnSpPr>
          <p:spPr>
            <a:xfrm>
              <a:off x="2687760" y="2854080"/>
              <a:ext cx="97056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3"/>
              <a:endCxn id="107" idx="1"/>
            </p:cNvCxnSpPr>
            <p:nvPr/>
          </p:nvCxnSpPr>
          <p:spPr>
            <a:xfrm>
              <a:off x="5138280" y="2854080"/>
              <a:ext cx="96444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112" name=""/>
          <p:cNvGrpSpPr/>
          <p:nvPr/>
        </p:nvGrpSpPr>
        <p:grpSpPr>
          <a:xfrm>
            <a:off x="1371600" y="3429000"/>
            <a:ext cx="5943600" cy="1676520"/>
            <a:chOff x="1371600" y="3429000"/>
            <a:chExt cx="5943600" cy="1676520"/>
          </a:xfrm>
        </p:grpSpPr>
        <p:sp>
          <p:nvSpPr>
            <p:cNvPr id="113" name=""/>
            <p:cNvSpPr/>
            <p:nvPr/>
          </p:nvSpPr>
          <p:spPr>
            <a:xfrm>
              <a:off x="1371600" y="4648320"/>
              <a:ext cx="1371600" cy="457200"/>
            </a:xfrm>
            <a:prstGeom prst="parallelogram">
              <a:avLst>
                <a:gd name="adj" fmla="val 75000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943600" y="4648320"/>
              <a:ext cx="1371600" cy="457200"/>
            </a:xfrm>
            <a:prstGeom prst="parallelogram">
              <a:avLst>
                <a:gd name="adj" fmla="val 75000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05120" y="3429000"/>
              <a:ext cx="457200" cy="990720"/>
            </a:xfrm>
            <a:prstGeom prst="downArrow">
              <a:avLst>
                <a:gd name="adj1" fmla="val 50000"/>
                <a:gd name="adj2" fmla="val 54173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0800" y="3429000"/>
              <a:ext cx="457200" cy="990720"/>
            </a:xfrm>
            <a:prstGeom prst="downArrow">
              <a:avLst>
                <a:gd name="adj1" fmla="val 50000"/>
                <a:gd name="adj2" fmla="val 54173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571840" y="3429000"/>
            <a:ext cx="3543480" cy="1448280"/>
            <a:chOff x="2571840" y="3429000"/>
            <a:chExt cx="3543480" cy="1448280"/>
          </a:xfrm>
        </p:grpSpPr>
        <p:sp>
          <p:nvSpPr>
            <p:cNvPr id="118" name=""/>
            <p:cNvSpPr/>
            <p:nvPr/>
          </p:nvSpPr>
          <p:spPr>
            <a:xfrm>
              <a:off x="3428640" y="4343400"/>
              <a:ext cx="190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ata mapp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114800" y="3429000"/>
              <a:ext cx="457200" cy="990720"/>
            </a:xfrm>
            <a:prstGeom prst="downArrow">
              <a:avLst>
                <a:gd name="adj1" fmla="val 50000"/>
                <a:gd name="adj2" fmla="val 54173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0" name=""/>
            <p:cNvCxnSpPr>
              <a:stCxn id="113" idx="2"/>
              <a:endCxn id="114" idx="5"/>
            </p:cNvCxnSpPr>
            <p:nvPr/>
          </p:nvCxnSpPr>
          <p:spPr>
            <a:xfrm>
              <a:off x="2571840" y="4876560"/>
              <a:ext cx="354384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Preferences …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alog bo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he only command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066680" y="2057400"/>
          <a:ext cx="7239240" cy="390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057400"/>
                    <a:ext cx="7239240" cy="39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14400" y="1828800"/>
          <a:ext cx="7696080" cy="413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828800"/>
                    <a:ext cx="7696080" cy="41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90720" y="1852560"/>
          <a:ext cx="7619760" cy="41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52560"/>
                    <a:ext cx="7619760" cy="41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outline the potential of Expres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enable the participants to make use of Expresso during the Workshop Ses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838080" y="1905120"/>
          <a:ext cx="7696440" cy="41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7696440" cy="41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elp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Info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sion numb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Patch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t are loa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Report a bug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ma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send a pat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No online manua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o Summa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335268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00400" y="2666880"/>
            <a:ext cx="2209680" cy="114300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8080" y="3124080"/>
            <a:ext cx="838440" cy="457200"/>
          </a:xfrm>
          <a:prstGeom prst="parallelogram">
            <a:avLst>
              <a:gd name="adj" fmla="val 45846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28800" y="3352680"/>
            <a:ext cx="1371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55080" y="2768760"/>
            <a:ext cx="9777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16200000">
            <a:off x="3200040" y="1981080"/>
            <a:ext cx="609840" cy="609480"/>
          </a:xfrm>
          <a:custGeom>
            <a:avLst/>
            <a:gdLst>
              <a:gd name="textAreaLeft" fmla="*/ 174960 w 609840"/>
              <a:gd name="textAreaRight" fmla="*/ 522360 w 60984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rot="5400000">
            <a:off x="4724280" y="1981080"/>
            <a:ext cx="609840" cy="609840"/>
          </a:xfrm>
          <a:custGeom>
            <a:avLst/>
            <a:gdLst>
              <a:gd name="textAreaLeft" fmla="*/ 175320 w 609840"/>
              <a:gd name="textAreaRight" fmla="*/ 522720 w 609840"/>
              <a:gd name="textAreaTop" fmla="*/ 351360 h 609840"/>
              <a:gd name="textAreaBottom" fmla="*/ 5223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47560" y="190512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dit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87480" y="190512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View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10280" y="3124080"/>
            <a:ext cx="838440" cy="457200"/>
          </a:xfrm>
          <a:prstGeom prst="parallelogram">
            <a:avLst>
              <a:gd name="adj" fmla="val 45846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486400" y="3352680"/>
            <a:ext cx="13716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562000" y="2743200"/>
            <a:ext cx="14698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l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838080" y="3809880"/>
            <a:ext cx="7010640" cy="1983960"/>
            <a:chOff x="838080" y="3809880"/>
            <a:chExt cx="7010640" cy="1983960"/>
          </a:xfrm>
        </p:grpSpPr>
        <p:sp>
          <p:nvSpPr>
            <p:cNvPr id="151" name=""/>
            <p:cNvSpPr/>
            <p:nvPr/>
          </p:nvSpPr>
          <p:spPr>
            <a:xfrm>
              <a:off x="3200400" y="3809880"/>
              <a:ext cx="2209680" cy="129564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 Instanc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38080" y="4267080"/>
              <a:ext cx="838440" cy="457200"/>
            </a:xfrm>
            <a:prstGeom prst="parallelogram">
              <a:avLst>
                <a:gd name="adj" fmla="val 45846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28800" y="4394160"/>
              <a:ext cx="1371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55080" y="3809880"/>
              <a:ext cx="105408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Loa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art 2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84880" y="4394160"/>
              <a:ext cx="1371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563440" y="3809880"/>
              <a:ext cx="105408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Wri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art 2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010280" y="4267080"/>
              <a:ext cx="838440" cy="457200"/>
            </a:xfrm>
            <a:prstGeom prst="parallelogram">
              <a:avLst>
                <a:gd name="adj" fmla="val 45846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00400" y="5181480"/>
              <a:ext cx="609480" cy="609840"/>
            </a:xfrm>
            <a:custGeom>
              <a:avLst/>
              <a:gdLst>
                <a:gd name="textAreaLeft" fmla="*/ 174960 w 609480"/>
                <a:gd name="textAreaRight" fmla="*/ 522000 w 609480"/>
                <a:gd name="textAreaTop" fmla="*/ 351360 h 609840"/>
                <a:gd name="textAreaBottom" fmla="*/ 52236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470"/>
                  </a:moveTo>
                  <a:lnTo>
                    <a:pt x="6200" y="9340"/>
                  </a:lnTo>
                  <a:lnTo>
                    <a:pt x="6200" y="12440"/>
                  </a:lnTo>
                  <a:lnTo>
                    <a:pt x="12440" y="12440"/>
                  </a:lnTo>
                  <a:lnTo>
                    <a:pt x="12440" y="6200"/>
                  </a:lnTo>
                  <a:lnTo>
                    <a:pt x="9340" y="6200"/>
                  </a:lnTo>
                  <a:lnTo>
                    <a:pt x="15470" y="0"/>
                  </a:lnTo>
                  <a:lnTo>
                    <a:pt x="21600" y="6200"/>
                  </a:lnTo>
                  <a:lnTo>
                    <a:pt x="18500" y="6200"/>
                  </a:lnTo>
                  <a:lnTo>
                    <a:pt x="18500" y="18500"/>
                  </a:lnTo>
                  <a:lnTo>
                    <a:pt x="6200" y="18500"/>
                  </a:lnTo>
                  <a:lnTo>
                    <a:pt x="620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52480" y="5334120"/>
              <a:ext cx="134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Edit 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4724280" y="5105520"/>
              <a:ext cx="609840" cy="609480"/>
            </a:xfrm>
            <a:custGeom>
              <a:avLst/>
              <a:gdLst>
                <a:gd name="textAreaLeft" fmla="*/ 175320 w 609840"/>
                <a:gd name="textAreaRight" fmla="*/ 522720 w 609840"/>
                <a:gd name="textAreaTop" fmla="*/ 351000 h 609480"/>
                <a:gd name="textAreaBottom" fmla="*/ 52200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470"/>
                  </a:moveTo>
                  <a:lnTo>
                    <a:pt x="6200" y="9340"/>
                  </a:lnTo>
                  <a:lnTo>
                    <a:pt x="6200" y="12440"/>
                  </a:lnTo>
                  <a:lnTo>
                    <a:pt x="12440" y="12440"/>
                  </a:lnTo>
                  <a:lnTo>
                    <a:pt x="12440" y="6200"/>
                  </a:lnTo>
                  <a:lnTo>
                    <a:pt x="9340" y="6200"/>
                  </a:lnTo>
                  <a:lnTo>
                    <a:pt x="15470" y="0"/>
                  </a:lnTo>
                  <a:lnTo>
                    <a:pt x="21600" y="6200"/>
                  </a:lnTo>
                  <a:lnTo>
                    <a:pt x="18500" y="6200"/>
                  </a:lnTo>
                  <a:lnTo>
                    <a:pt x="18500" y="18500"/>
                  </a:lnTo>
                  <a:lnTo>
                    <a:pt x="6200" y="18500"/>
                  </a:lnTo>
                  <a:lnTo>
                    <a:pt x="620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333040" y="5334120"/>
              <a:ext cx="186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Validate 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rief Demonstr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62320" y="2514600"/>
            <a:ext cx="0" cy="2438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00800" y="2514600"/>
            <a:ext cx="0" cy="2438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62320" y="2514600"/>
            <a:ext cx="40384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4952880"/>
            <a:ext cx="762120" cy="30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19920" y="4952880"/>
            <a:ext cx="76176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62320" y="5867280"/>
            <a:ext cx="4038480" cy="0"/>
          </a:xfrm>
          <a:prstGeom prst="line">
            <a:avLst/>
          </a:prstGeom>
          <a:ln w="9360">
            <a:solidFill>
              <a:srgbClr val="00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10240" y="541008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4000 m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858000" y="2438280"/>
            <a:ext cx="0" cy="2438640"/>
          </a:xfrm>
          <a:prstGeom prst="line">
            <a:avLst/>
          </a:prstGeom>
          <a:ln w="9360">
            <a:solidFill>
              <a:srgbClr val="00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934680" y="342900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3000 m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93080" y="4343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64120" y="1905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945760" y="1905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3480" y="4267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1981080"/>
            <a:ext cx="2286000" cy="21160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48520" y="1981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text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6400800" y="4876920"/>
            <a:ext cx="1987200" cy="1014120"/>
            <a:chOff x="6400800" y="4876920"/>
            <a:chExt cx="1987200" cy="1014120"/>
          </a:xfrm>
        </p:grpSpPr>
        <p:pic>
          <p:nvPicPr>
            <p:cNvPr id="59" name="" descr=""/>
            <p:cNvPicPr/>
            <p:nvPr/>
          </p:nvPicPr>
          <p:blipFill>
            <a:blip r:embed="rId3"/>
            <a:stretch/>
          </p:blipFill>
          <p:spPr>
            <a:xfrm>
              <a:off x="640080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640116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689880" y="2362320"/>
            <a:ext cx="1400760" cy="1236600"/>
            <a:chOff x="6689880" y="2362320"/>
            <a:chExt cx="1400760" cy="1236600"/>
          </a:xfrm>
        </p:grpSpPr>
        <p:pic>
          <p:nvPicPr>
            <p:cNvPr id="62" name="" descr=""/>
            <p:cNvPicPr/>
            <p:nvPr/>
          </p:nvPicPr>
          <p:blipFill>
            <a:blip r:embed="rId4"/>
            <a:stretch/>
          </p:blipFill>
          <p:spPr>
            <a:xfrm>
              <a:off x="6689880" y="2362320"/>
              <a:ext cx="137124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669060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Expresso Tool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eloped by Peter Denno of N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ailable at no c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wnload from web 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.mel.nist.gov/msidstaff/denno/nist-expresso.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ndows 95 and 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tively stable and robu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ed (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xpresso Loading!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62120" y="1676520"/>
          <a:ext cx="754380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54380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o will ...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se an EXPRESS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detect (well) the presence of err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lk over the loaded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ing inspection of the EXP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ph EXPRESS subtype tre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and write Part 21 f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the validation and creation of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form EXPRESS-X mapp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o will not ...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lace a (commercial) STEP toolkit f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jor EXPRESS model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lator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mitations 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 and hungry (implemented in lisp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ited model error diagnost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API for program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ACS style EXPRESS edi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ttle docum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levance of Expresso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nspection and view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existing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EXPRESS mod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PM/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 long for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reation, editing and validation o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Part 21 f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eneration of CC long for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, and not sufficiently robust (?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ile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Load EXPRESS fil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lated with high fidelity into internal ob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rror reporting is not very inform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Save Translated schema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.lsp file for quicker re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Load Part 21 fil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Save Part 21 fil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dcterms:modified xsi:type="dcterms:W3CDTF">1999-06-24T06:42:49Z</dcterms:modified>
  <cp:revision>45</cp:revision>
  <dc:subject/>
  <dc:title>AISC CIS/2  Workshop #I</dc:title>
</cp:coreProperties>
</file>