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7E480-4934-420A-A89F-90BC29514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9D062-F811-403C-BECB-AA339F62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B8940-EEA6-4A88-A53A-27A85314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262C1-C1FB-4783-90C3-07BBF494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5CA08-AAF4-48A9-BE79-D143C57B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AC870-2983-4FCD-A324-8827A5FF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F7A01-E1DC-4A20-8EBD-1A8D30B6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709FF-78D4-4F2A-9D12-FDE3FF97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81016-E4A5-4D73-BE7F-C892C914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2A697-F2B5-4748-9023-F649E1DC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5E5BB-7451-40CD-B065-1B2C05F92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A2E25-3E75-41CF-8EA6-EE6D94DC3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4c2b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A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CIS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4c2b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imes New Roman"/>
              </a:rPr>
              <a:t>San Francisco</a:t>
            </a:r>
            <a:r>
              <a:rPr b="1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60199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78963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06668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34DF-F561-4EB3-90AF-1A206E26EB44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838080" y="2133720"/>
          <a:ext cx="6934320" cy="350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2133720"/>
                    <a:ext cx="693432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437040" y="303840"/>
            <a:ext cx="76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IS/2 Data Management - Case Tutori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1840" y="4266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manage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8560" y="434304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manage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4440" y="2514240"/>
            <a:ext cx="119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unmanage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7360" y="1294200"/>
            <a:ext cx="37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epared by Fried Augenbro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219320" y="1981080"/>
          <a:ext cx="2809800" cy="14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981080"/>
                    <a:ext cx="2809800" cy="14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5334120" y="4800600"/>
          <a:ext cx="1962000" cy="163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4120" y="4800600"/>
                    <a:ext cx="196200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533520" y="1293840"/>
            <a:ext cx="6705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STEP file 1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 is from a non-managed ‘upstream’ structural layout actor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the file describes an analysis model of a simple 2D frame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3385440"/>
            <a:ext cx="7619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STEP File 2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 the result of three managed data transactions by Organization 1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import of File 1 with a STEP file importe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creation of load data with a CIS/2 Data Management Compliant (DMC) application SoftX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export of STEP file 2 with managed data using the SoftX STEP file exporte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9720" y="357840"/>
            <a:ext cx="76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IS/2 Data Management - Case Tutori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352680" y="3352680"/>
          <a:ext cx="2028960" cy="138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3352680"/>
                    <a:ext cx="2028960" cy="13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533520" y="1286640"/>
            <a:ext cx="7924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STEP File 3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 contains the result of three managed data transactions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creation of new data: cross-sections of the two columns and the beam. This is done with the DMC application SoftY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modifications of the imported analysis model to allow the inclusion of the element cross sections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export of STEP File 3 with managed data using the SoftY STEP file exporte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93640" y="417960"/>
            <a:ext cx="58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IS/2 Data Management - Case Tutori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00:48:48Z</dcterms:created>
  <dc:creator>Administrator</dc:creator>
  <dc:description/>
  <dc:language>en-US</dc:language>
  <cp:lastModifiedBy>Eastman</cp:lastModifiedBy>
  <dcterms:modified xsi:type="dcterms:W3CDTF">2001-10-31T03:41:38Z</dcterms:modified>
  <cp:revision>5</cp:revision>
  <dc:subject/>
  <dc:title>No Slide Title</dc:title>
</cp:coreProperties>
</file>