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media/image8.jpeg" ContentType="image/jpeg"/>
  <Override PartName="/ppt/media/image9.png" ContentType="image/png"/>
  <Override PartName="/ppt/media/image17.wmf" ContentType="image/x-wmf"/>
  <Override PartName="/ppt/media/image11.png" ContentType="image/png"/>
  <Override PartName="/ppt/media/image6.wmf" ContentType="image/x-wmf"/>
  <Override PartName="/ppt/media/image7.jpeg" ContentType="image/jpeg"/>
  <Override PartName="/ppt/media/image23.jpeg" ContentType="image/jpeg"/>
  <Override PartName="/ppt/media/image22.png" ContentType="image/png"/>
  <Override PartName="/ppt/media/image10.png" ContentType="image/png"/>
  <Override PartName="/ppt/media/image21.png" ContentType="image/png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DFE6-FE8B-4635-A31C-1EB9CB4924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19240" y="711360"/>
            <a:ext cx="4545000" cy="34081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45720" y="4331880"/>
            <a:ext cx="4971960" cy="4118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C development includ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ding new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fining existing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IFC releases had different go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0 / 2.0 - increase in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5(.1) / 2x - quality assu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A4B7-B97E-4FC2-8C1A-67D3BA1C4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2530-C404-4953-8700-3FCBF006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D463-38B3-42E0-90BD-D055390C3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804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716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5892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804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716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F7E6-C12C-4DC4-A6EF-5D9224B03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58920" y="125280"/>
            <a:ext cx="75578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FAE7-A11C-4DD4-966B-64DDB15F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1804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716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5892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1804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716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56F8-0196-48D0-9F82-E1604B79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D9FC-CF98-40D2-ABAB-9D2733AA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193A-2CEB-4EDD-AC9F-C219C155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58920" y="125280"/>
            <a:ext cx="75578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A1ED-5883-4F29-9F96-C6F4FFFC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F2A4-2B6A-44EB-9753-8F9CF22B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C567-8FA4-4ED3-97F6-BA60DAE3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DA88-6969-4E38-9C6C-7A61B2F2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58560" y="6656040"/>
            <a:ext cx="143964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7391160" y="6656040"/>
            <a:ext cx="143964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894120" y="6656040"/>
            <a:ext cx="144000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BF28-D4DB-41B8-B119-06FC16459AD8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0" y="0"/>
            <a:ext cx="9149040" cy="90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898560"/>
            <a:ext cx="914400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976160" y="268200"/>
            <a:ext cx="927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EC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8680" cy="90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42920"/>
            <a:ext cx="9144000" cy="583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38200" y="3957120"/>
            <a:ext cx="5398920" cy="90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4"/>
          </p:nvPr>
        </p:nvSpPr>
        <p:spPr>
          <a:xfrm>
            <a:off x="3238200" y="6656040"/>
            <a:ext cx="5398920" cy="144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292720" y="133200"/>
            <a:ext cx="3462120" cy="777960"/>
            <a:chOff x="5292720" y="133200"/>
            <a:chExt cx="3462120" cy="777960"/>
          </a:xfrm>
        </p:grpSpPr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5292720" y="133200"/>
              <a:ext cx="3462120" cy="77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492520" y="568080"/>
              <a:ext cx="439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AEC</a:t>
              </a: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0" y="898560"/>
            <a:ext cx="914400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c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3c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jpeg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8000" y="3429000"/>
            <a:ext cx="6740640" cy="90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veiling IFC2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and Edition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249360" y="5181120"/>
            <a:ext cx="5398920" cy="127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r Thomas Liebich, AEC3 Germany</a:t>
            </a:r>
            <a:br>
              <a:rPr sz="2400"/>
            </a:b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AI International, MSG Lea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ertified applications and companie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2484360" y="1123920"/>
          <a:ext cx="6408720" cy="5614920"/>
        </p:xfrm>
        <a:graphic>
          <a:graphicData uri="http://schemas.openxmlformats.org/drawingml/2006/table">
            <a:tbl>
              <a:tblPr/>
              <a:tblGrid>
                <a:gridCol w="1909800"/>
                <a:gridCol w="1989000"/>
                <a:gridCol w="250992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t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Trifor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Archit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lectroPartner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HVACPart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Electrical and HVAC Engine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E.M. Team Solu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IFC2x-Interface for Autodesk </a:t>
                      </a: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D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C-Interface for CAD for Archit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so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rchiC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Archit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metsch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llplan 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(Allplan, Allplot, Allready, AllFEM, Allf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Architects, Structural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,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vil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HVAC-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ers, Contractors and Facility Manag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CA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apore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SPR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-Plan Check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mission checking and control to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of Gran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SPro/RIU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C middleware and energy sim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b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odel Check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Spell Checking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1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zel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Facility on 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VRML &amp; C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C-customized VRML viewer and CAD for facility manag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o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esti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3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IFC-Tree &amp; View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ual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39" name=""/>
          <p:cNvGrpSpPr/>
          <p:nvPr/>
        </p:nvGrpSpPr>
        <p:grpSpPr>
          <a:xfrm>
            <a:off x="395280" y="1123920"/>
            <a:ext cx="1752480" cy="5638680"/>
            <a:chOff x="395280" y="1123920"/>
            <a:chExt cx="1752480" cy="5638680"/>
          </a:xfrm>
        </p:grpSpPr>
        <p:sp>
          <p:nvSpPr>
            <p:cNvPr id="340" name=""/>
            <p:cNvSpPr/>
            <p:nvPr/>
          </p:nvSpPr>
          <p:spPr>
            <a:xfrm>
              <a:off x="395280" y="1123920"/>
              <a:ext cx="1752480" cy="563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1" name="" descr=""/>
            <p:cNvPicPr/>
            <p:nvPr/>
          </p:nvPicPr>
          <p:blipFill>
            <a:blip r:embed="rId1"/>
            <a:stretch/>
          </p:blipFill>
          <p:spPr>
            <a:xfrm>
              <a:off x="471600" y="1199880"/>
              <a:ext cx="129528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" descr=""/>
            <p:cNvPicPr/>
            <p:nvPr/>
          </p:nvPicPr>
          <p:blipFill>
            <a:blip r:embed="rId2"/>
            <a:stretch/>
          </p:blipFill>
          <p:spPr>
            <a:xfrm>
              <a:off x="471600" y="1714320"/>
              <a:ext cx="1523880" cy="3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3"/>
            <a:stretch/>
          </p:blipFill>
          <p:spPr>
            <a:xfrm>
              <a:off x="471600" y="2314440"/>
              <a:ext cx="140976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4"/>
            <a:stretch/>
          </p:blipFill>
          <p:spPr>
            <a:xfrm>
              <a:off x="471600" y="4049640"/>
              <a:ext cx="68580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5"/>
            <a:stretch/>
          </p:blipFill>
          <p:spPr>
            <a:xfrm>
              <a:off x="471600" y="3066840"/>
              <a:ext cx="14572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6"/>
            <a:stretch/>
          </p:blipFill>
          <p:spPr>
            <a:xfrm>
              <a:off x="471600" y="4654440"/>
              <a:ext cx="91440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" descr=""/>
            <p:cNvPicPr/>
            <p:nvPr/>
          </p:nvPicPr>
          <p:blipFill>
            <a:blip r:embed="rId7"/>
            <a:stretch/>
          </p:blipFill>
          <p:spPr>
            <a:xfrm>
              <a:off x="1720800" y="3520800"/>
              <a:ext cx="35100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" descr=""/>
            <p:cNvPicPr/>
            <p:nvPr/>
          </p:nvPicPr>
          <p:blipFill>
            <a:blip r:embed="rId8"/>
            <a:stretch/>
          </p:blipFill>
          <p:spPr>
            <a:xfrm>
              <a:off x="471600" y="3463920"/>
              <a:ext cx="121896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9"/>
            <a:stretch/>
          </p:blipFill>
          <p:spPr>
            <a:xfrm>
              <a:off x="471600" y="5238720"/>
              <a:ext cx="990360" cy="43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10"/>
            <a:stretch/>
          </p:blipFill>
          <p:spPr>
            <a:xfrm>
              <a:off x="471600" y="5695920"/>
              <a:ext cx="10666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" descr=""/>
            <p:cNvPicPr/>
            <p:nvPr/>
          </p:nvPicPr>
          <p:blipFill>
            <a:blip r:embed="rId11"/>
            <a:stretch/>
          </p:blipFill>
          <p:spPr>
            <a:xfrm>
              <a:off x="471600" y="2062080"/>
              <a:ext cx="4888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" descr=""/>
            <p:cNvPicPr/>
            <p:nvPr/>
          </p:nvPicPr>
          <p:blipFill>
            <a:blip r:embed="rId12"/>
            <a:stretch/>
          </p:blipFill>
          <p:spPr>
            <a:xfrm>
              <a:off x="471600" y="6305400"/>
              <a:ext cx="1357200" cy="3110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 development timeline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98720" y="5289480"/>
            <a:ext cx="1368360" cy="381240"/>
          </a:xfrm>
          <a:prstGeom prst="leftRightArrow">
            <a:avLst>
              <a:gd name="adj1" fmla="val 58333"/>
              <a:gd name="adj2" fmla="val 29977"/>
            </a:avLst>
          </a:prstGeom>
          <a:solidFill>
            <a:srgbClr val="33cc33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79800" y="5289480"/>
            <a:ext cx="1224000" cy="381240"/>
          </a:xfrm>
          <a:prstGeom prst="leftRightArrow">
            <a:avLst>
              <a:gd name="adj1" fmla="val 58333"/>
              <a:gd name="adj2" fmla="val 30812"/>
            </a:avLst>
          </a:prstGeom>
          <a:solidFill>
            <a:srgbClr val="33cc33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3440" y="5289480"/>
            <a:ext cx="935280" cy="381240"/>
          </a:xfrm>
          <a:prstGeom prst="leftRightArrow">
            <a:avLst>
              <a:gd name="adj1" fmla="val 58333"/>
              <a:gd name="adj2" fmla="val 29393"/>
            </a:avLst>
          </a:prstGeom>
          <a:solidFill>
            <a:srgbClr val="ff0000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67080" y="5289480"/>
            <a:ext cx="612720" cy="381240"/>
          </a:xfrm>
          <a:prstGeom prst="leftRightArrow">
            <a:avLst>
              <a:gd name="adj1" fmla="val 58333"/>
              <a:gd name="adj2" fmla="val 30811"/>
            </a:avLst>
          </a:prstGeom>
          <a:solidFill>
            <a:srgbClr val="ff0000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03800" y="5289480"/>
            <a:ext cx="4481280" cy="381240"/>
          </a:xfrm>
          <a:prstGeom prst="leftRightArrow">
            <a:avLst>
              <a:gd name="adj1" fmla="val 57500"/>
              <a:gd name="adj2" fmla="val 33250"/>
            </a:avLst>
          </a:prstGeom>
          <a:solidFill>
            <a:srgbClr val="ff9900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5080" y="4173480"/>
            <a:ext cx="863640" cy="612720"/>
          </a:xfrm>
          <a:custGeom>
            <a:avLst/>
            <a:gdLst/>
            <a:ahLst/>
            <a:rect l="l" t="t" r="r" b="b"/>
            <a:pathLst>
              <a:path w="544" h="386">
                <a:moveTo>
                  <a:pt x="0" y="386"/>
                </a:moveTo>
                <a:lnTo>
                  <a:pt x="544" y="386"/>
                </a:lnTo>
                <a:lnTo>
                  <a:pt x="544" y="0"/>
                </a:lnTo>
                <a:lnTo>
                  <a:pt x="0" y="386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98720" y="3994200"/>
            <a:ext cx="900000" cy="792000"/>
          </a:xfrm>
          <a:custGeom>
            <a:avLst/>
            <a:gdLst/>
            <a:ahLst/>
            <a:rect l="l" t="t" r="r" b="b"/>
            <a:pathLst>
              <a:path w="567" h="499">
                <a:moveTo>
                  <a:pt x="0" y="499"/>
                </a:moveTo>
                <a:lnTo>
                  <a:pt x="567" y="499"/>
                </a:lnTo>
                <a:lnTo>
                  <a:pt x="567" y="0"/>
                </a:lnTo>
                <a:lnTo>
                  <a:pt x="0" y="113"/>
                </a:lnTo>
                <a:lnTo>
                  <a:pt x="0" y="499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98720" y="3994200"/>
            <a:ext cx="468360" cy="792000"/>
          </a:xfrm>
          <a:custGeom>
            <a:avLst/>
            <a:gdLst/>
            <a:ahLst/>
            <a:rect l="l" t="t" r="r" b="b"/>
            <a:pathLst>
              <a:path w="295" h="499">
                <a:moveTo>
                  <a:pt x="0" y="499"/>
                </a:moveTo>
                <a:lnTo>
                  <a:pt x="295" y="499"/>
                </a:lnTo>
                <a:lnTo>
                  <a:pt x="295" y="0"/>
                </a:lnTo>
                <a:lnTo>
                  <a:pt x="0" y="0"/>
                </a:lnTo>
                <a:lnTo>
                  <a:pt x="0" y="499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67080" y="3597120"/>
            <a:ext cx="612720" cy="1189080"/>
          </a:xfrm>
          <a:custGeom>
            <a:avLst/>
            <a:gdLst/>
            <a:ahLst/>
            <a:rect l="l" t="t" r="r" b="b"/>
            <a:pathLst>
              <a:path w="386" h="749">
                <a:moveTo>
                  <a:pt x="0" y="749"/>
                </a:moveTo>
                <a:lnTo>
                  <a:pt x="386" y="749"/>
                </a:lnTo>
                <a:lnTo>
                  <a:pt x="386" y="0"/>
                </a:lnTo>
                <a:lnTo>
                  <a:pt x="0" y="250"/>
                </a:lnTo>
                <a:lnTo>
                  <a:pt x="0" y="749"/>
                </a:lnTo>
                <a:close/>
              </a:path>
            </a:pathLst>
          </a:custGeom>
          <a:solidFill>
            <a:srgbClr val="cc66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79800" y="3597120"/>
            <a:ext cx="1224000" cy="1189080"/>
          </a:xfrm>
          <a:custGeom>
            <a:avLst/>
            <a:gdLst/>
            <a:ahLst/>
            <a:rect l="l" t="t" r="r" b="b"/>
            <a:pathLst>
              <a:path w="771" h="749">
                <a:moveTo>
                  <a:pt x="771" y="749"/>
                </a:moveTo>
                <a:lnTo>
                  <a:pt x="0" y="749"/>
                </a:lnTo>
                <a:lnTo>
                  <a:pt x="0" y="0"/>
                </a:lnTo>
                <a:lnTo>
                  <a:pt x="771" y="0"/>
                </a:lnTo>
                <a:lnTo>
                  <a:pt x="771" y="227"/>
                </a:lnTo>
              </a:path>
            </a:pathLst>
          </a:custGeom>
          <a:solidFill>
            <a:srgbClr val="66cc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03800" y="3957480"/>
            <a:ext cx="4444920" cy="828720"/>
          </a:xfrm>
          <a:custGeom>
            <a:avLst/>
            <a:gdLst/>
            <a:ahLst/>
            <a:rect l="l" t="t" r="r" b="b"/>
            <a:pathLst>
              <a:path w="2381" h="522">
                <a:moveTo>
                  <a:pt x="0" y="522"/>
                </a:moveTo>
                <a:lnTo>
                  <a:pt x="2381" y="522"/>
                </a:lnTo>
                <a:lnTo>
                  <a:pt x="2381" y="0"/>
                </a:lnTo>
                <a:lnTo>
                  <a:pt x="0" y="0"/>
                </a:lnTo>
              </a:path>
            </a:pathLst>
          </a:custGeom>
          <a:solidFill>
            <a:srgbClr val="66cc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303800" y="2911320"/>
            <a:ext cx="4444920" cy="1046160"/>
            <a:chOff x="4303800" y="2911320"/>
            <a:chExt cx="4444920" cy="1046160"/>
          </a:xfrm>
        </p:grpSpPr>
        <p:sp>
          <p:nvSpPr>
            <p:cNvPr id="111" name=""/>
            <p:cNvSpPr/>
            <p:nvPr/>
          </p:nvSpPr>
          <p:spPr>
            <a:xfrm>
              <a:off x="4303800" y="3597120"/>
              <a:ext cx="915840" cy="36036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19640" y="2911320"/>
              <a:ext cx="3529080" cy="1046160"/>
            </a:xfrm>
            <a:custGeom>
              <a:avLst/>
              <a:gdLst/>
              <a:ahLst/>
              <a:rect l="l" t="t" r="r" b="b"/>
              <a:pathLst>
                <a:path w="2369" h="659">
                  <a:moveTo>
                    <a:pt x="0" y="432"/>
                  </a:moveTo>
                  <a:lnTo>
                    <a:pt x="835" y="0"/>
                  </a:lnTo>
                  <a:lnTo>
                    <a:pt x="2369" y="1"/>
                  </a:lnTo>
                  <a:lnTo>
                    <a:pt x="2369" y="659"/>
                  </a:lnTo>
                  <a:lnTo>
                    <a:pt x="0" y="659"/>
                  </a:lnTo>
                  <a:lnTo>
                    <a:pt x="0" y="432"/>
                  </a:lnTo>
                  <a:close/>
                </a:path>
              </a:pathLst>
            </a:custGeom>
            <a:solidFill>
              <a:srgbClr val="0099ff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303800" y="5697360"/>
            <a:ext cx="4480920" cy="384120"/>
            <a:chOff x="4303800" y="5697360"/>
            <a:chExt cx="4480920" cy="384120"/>
          </a:xfrm>
        </p:grpSpPr>
        <p:sp>
          <p:nvSpPr>
            <p:cNvPr id="114" name=""/>
            <p:cNvSpPr/>
            <p:nvPr/>
          </p:nvSpPr>
          <p:spPr>
            <a:xfrm>
              <a:off x="5202360" y="5700600"/>
              <a:ext cx="1280520" cy="380880"/>
            </a:xfrm>
            <a:prstGeom prst="leftRightArrow">
              <a:avLst>
                <a:gd name="adj1" fmla="val 58333"/>
                <a:gd name="adj2" fmla="val 30071"/>
              </a:avLst>
            </a:prstGeom>
            <a:solidFill>
              <a:srgbClr val="ff0000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velop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84680" y="5697360"/>
              <a:ext cx="2300040" cy="380880"/>
            </a:xfrm>
            <a:prstGeom prst="leftRightArrow">
              <a:avLst>
                <a:gd name="adj1" fmla="val 61667"/>
                <a:gd name="adj2" fmla="val 31647"/>
              </a:avLst>
            </a:prstGeom>
            <a:solidFill>
              <a:srgbClr val="33cc33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03800" y="5697360"/>
              <a:ext cx="898560" cy="380880"/>
            </a:xfrm>
            <a:prstGeom prst="leftRightArrow">
              <a:avLst>
                <a:gd name="adj1" fmla="val 61667"/>
                <a:gd name="adj2" fmla="val 33640"/>
              </a:avLst>
            </a:prstGeom>
            <a:solidFill>
              <a:srgbClr val="33cc33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877680" y="1808280"/>
            <a:ext cx="5976000" cy="3154320"/>
            <a:chOff x="877680" y="1808280"/>
            <a:chExt cx="5976000" cy="3154320"/>
          </a:xfrm>
        </p:grpSpPr>
        <p:grpSp>
          <p:nvGrpSpPr>
            <p:cNvPr id="118" name=""/>
            <p:cNvGrpSpPr/>
            <p:nvPr/>
          </p:nvGrpSpPr>
          <p:grpSpPr>
            <a:xfrm>
              <a:off x="877680" y="1808280"/>
              <a:ext cx="447480" cy="3154320"/>
              <a:chOff x="877680" y="1808280"/>
              <a:chExt cx="447480" cy="3154320"/>
            </a:xfrm>
          </p:grpSpPr>
          <p:sp>
            <p:nvSpPr>
              <p:cNvPr id="119" name=""/>
              <p:cNvSpPr/>
              <p:nvPr/>
            </p:nvSpPr>
            <p:spPr>
              <a:xfrm>
                <a:off x="877680" y="1808280"/>
                <a:ext cx="447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1087200" y="2384640"/>
                <a:ext cx="11160" cy="2577960"/>
                <a:chOff x="1087200" y="2384640"/>
                <a:chExt cx="11160" cy="257796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109836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08720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" name=""/>
            <p:cNvGrpSpPr/>
            <p:nvPr/>
          </p:nvGrpSpPr>
          <p:grpSpPr>
            <a:xfrm>
              <a:off x="1771560" y="1808280"/>
              <a:ext cx="447480" cy="3154320"/>
              <a:chOff x="1771560" y="1808280"/>
              <a:chExt cx="447480" cy="3154320"/>
            </a:xfrm>
          </p:grpSpPr>
          <p:sp>
            <p:nvSpPr>
              <p:cNvPr id="124" name=""/>
              <p:cNvSpPr/>
              <p:nvPr/>
            </p:nvSpPr>
            <p:spPr>
              <a:xfrm>
                <a:off x="1771560" y="1808280"/>
                <a:ext cx="447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" name=""/>
              <p:cNvGrpSpPr/>
              <p:nvPr/>
            </p:nvGrpSpPr>
            <p:grpSpPr>
              <a:xfrm>
                <a:off x="1992240" y="2384640"/>
                <a:ext cx="11160" cy="2577960"/>
                <a:chOff x="1992240" y="2384640"/>
                <a:chExt cx="11160" cy="257796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200340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99224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8" name=""/>
            <p:cNvGrpSpPr/>
            <p:nvPr/>
          </p:nvGrpSpPr>
          <p:grpSpPr>
            <a:xfrm>
              <a:off x="2181600" y="1808280"/>
              <a:ext cx="581400" cy="3154320"/>
              <a:chOff x="2181600" y="1808280"/>
              <a:chExt cx="581400" cy="3154320"/>
            </a:xfrm>
          </p:grpSpPr>
          <p:sp>
            <p:nvSpPr>
              <p:cNvPr id="129" name=""/>
              <p:cNvSpPr/>
              <p:nvPr/>
            </p:nvSpPr>
            <p:spPr>
              <a:xfrm>
                <a:off x="2181600" y="1808280"/>
                <a:ext cx="581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.5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2466720" y="2384640"/>
                <a:ext cx="11160" cy="2577960"/>
                <a:chOff x="2466720" y="2384640"/>
                <a:chExt cx="11160" cy="257796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47788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46672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2895480" y="1808280"/>
              <a:ext cx="447480" cy="3154320"/>
              <a:chOff x="2895480" y="1808280"/>
              <a:chExt cx="447480" cy="3154320"/>
            </a:xfrm>
          </p:grpSpPr>
          <p:sp>
            <p:nvSpPr>
              <p:cNvPr id="134" name=""/>
              <p:cNvSpPr/>
              <p:nvPr/>
            </p:nvSpPr>
            <p:spPr>
              <a:xfrm>
                <a:off x="2895480" y="1808280"/>
                <a:ext cx="447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2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3079800" y="2384640"/>
                <a:ext cx="11160" cy="2577960"/>
                <a:chOff x="3079800" y="2384640"/>
                <a:chExt cx="11160" cy="257796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309096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7980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3996000" y="1808280"/>
              <a:ext cx="644040" cy="3154320"/>
              <a:chOff x="3996000" y="1808280"/>
              <a:chExt cx="644040" cy="3154320"/>
            </a:xfrm>
          </p:grpSpPr>
          <p:sp>
            <p:nvSpPr>
              <p:cNvPr id="139" name=""/>
              <p:cNvSpPr/>
              <p:nvPr/>
            </p:nvSpPr>
            <p:spPr>
              <a:xfrm>
                <a:off x="3996000" y="1808280"/>
                <a:ext cx="644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2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314600" y="2384640"/>
                <a:ext cx="10800" cy="2577960"/>
                <a:chOff x="4314600" y="2384640"/>
                <a:chExt cx="10800" cy="257796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32540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31460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081480" y="1808280"/>
              <a:ext cx="772200" cy="3154320"/>
              <a:chOff x="6081480" y="1808280"/>
              <a:chExt cx="772200" cy="3154320"/>
            </a:xfrm>
          </p:grpSpPr>
          <p:sp>
            <p:nvSpPr>
              <p:cNvPr id="144" name=""/>
              <p:cNvSpPr/>
              <p:nvPr/>
            </p:nvSpPr>
            <p:spPr>
              <a:xfrm>
                <a:off x="6081480" y="1808280"/>
                <a:ext cx="772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2x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(2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 Black"/>
                  </a:rPr>
                  <a:t>nd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 Ed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423120" y="2384640"/>
                <a:ext cx="11160" cy="2577960"/>
                <a:chOff x="6423120" y="2384640"/>
                <a:chExt cx="11160" cy="257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43428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42312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4833720" y="1808280"/>
              <a:ext cx="750960" cy="3154320"/>
              <a:chOff x="4833720" y="1808280"/>
              <a:chExt cx="750960" cy="3154320"/>
            </a:xfrm>
          </p:grpSpPr>
          <p:sp>
            <p:nvSpPr>
              <p:cNvPr id="149" name=""/>
              <p:cNvSpPr/>
              <p:nvPr/>
            </p:nvSpPr>
            <p:spPr>
              <a:xfrm>
                <a:off x="4833720" y="1808280"/>
                <a:ext cx="750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2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 Black"/>
                  </a:rPr>
                  <a:t>st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 Ad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5205240" y="2384640"/>
                <a:ext cx="10800" cy="2577960"/>
                <a:chOff x="5205240" y="2384640"/>
                <a:chExt cx="10800" cy="257796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521604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20524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3" name=""/>
          <p:cNvSpPr/>
          <p:nvPr/>
        </p:nvSpPr>
        <p:spPr>
          <a:xfrm>
            <a:off x="666720" y="3465360"/>
            <a:ext cx="792360" cy="484200"/>
          </a:xfrm>
          <a:prstGeom prst="downArrowCallout">
            <a:avLst>
              <a:gd name="adj1" fmla="val 40915"/>
              <a:gd name="adj2" fmla="val 40911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03440" y="3465360"/>
            <a:ext cx="792000" cy="484200"/>
          </a:xfrm>
          <a:prstGeom prst="downArrowCallout">
            <a:avLst>
              <a:gd name="adj1" fmla="val 40896"/>
              <a:gd name="adj2" fmla="val 40892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ai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71800" y="3465360"/>
            <a:ext cx="1222560" cy="484200"/>
          </a:xfrm>
          <a:prstGeom prst="downArrowCallout">
            <a:avLst>
              <a:gd name="adj1" fmla="val 63128"/>
              <a:gd name="adj2" fmla="val 63123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rv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91080" y="2949480"/>
            <a:ext cx="1225440" cy="479520"/>
          </a:xfrm>
          <a:prstGeom prst="downArrowCallout">
            <a:avLst>
              <a:gd name="adj1" fmla="val 63895"/>
              <a:gd name="adj2" fmla="val 63889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54720" y="2409840"/>
            <a:ext cx="1222200" cy="479520"/>
          </a:xfrm>
          <a:prstGeom prst="downArrowCallout">
            <a:avLst>
              <a:gd name="adj1" fmla="val 63726"/>
              <a:gd name="adj2" fmla="val 63720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O/P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1680" y="1808280"/>
            <a:ext cx="9080640" cy="3389400"/>
            <a:chOff x="31680" y="1808280"/>
            <a:chExt cx="9080640" cy="3389400"/>
          </a:xfrm>
        </p:grpSpPr>
        <p:grpSp>
          <p:nvGrpSpPr>
            <p:cNvPr id="159" name=""/>
            <p:cNvGrpSpPr/>
            <p:nvPr/>
          </p:nvGrpSpPr>
          <p:grpSpPr>
            <a:xfrm>
              <a:off x="31680" y="1808280"/>
              <a:ext cx="9059760" cy="3389400"/>
              <a:chOff x="31680" y="1808280"/>
              <a:chExt cx="9059760" cy="3389400"/>
            </a:xfrm>
          </p:grpSpPr>
          <p:sp>
            <p:nvSpPr>
              <p:cNvPr id="160" name=""/>
              <p:cNvSpPr/>
              <p:nvPr/>
            </p:nvSpPr>
            <p:spPr>
              <a:xfrm flipV="1">
                <a:off x="235080" y="4849200"/>
                <a:ext cx="8856360" cy="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63440" y="2409840"/>
                <a:ext cx="0" cy="237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1680" y="4921200"/>
                <a:ext cx="378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188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70136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57904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45852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33656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604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97320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09372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85268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6360" y="1808280"/>
                <a:ext cx="755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COP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8734320" y="4921200"/>
              <a:ext cx="37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629760" y="2409840"/>
            <a:ext cx="2479320" cy="479520"/>
            <a:chOff x="6629760" y="2409840"/>
            <a:chExt cx="2479320" cy="479520"/>
          </a:xfrm>
        </p:grpSpPr>
        <p:sp>
          <p:nvSpPr>
            <p:cNvPr id="175" name=""/>
            <p:cNvSpPr/>
            <p:nvPr/>
          </p:nvSpPr>
          <p:spPr>
            <a:xfrm>
              <a:off x="8388360" y="2409840"/>
              <a:ext cx="720720" cy="479520"/>
            </a:xfrm>
            <a:prstGeom prst="downArrowCallout">
              <a:avLst>
                <a:gd name="adj1" fmla="val 37578"/>
                <a:gd name="adj2" fmla="val 37575"/>
                <a:gd name="adj3" fmla="val 16667"/>
                <a:gd name="adj4" fmla="val 66667"/>
              </a:avLst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S/IS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67560" y="2565360"/>
              <a:ext cx="17208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629760" y="2529000"/>
              <a:ext cx="1805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 years time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4303800" y="4210200"/>
            <a:ext cx="4444920" cy="380880"/>
          </a:xfrm>
          <a:prstGeom prst="leftRightArrow">
            <a:avLst>
              <a:gd name="adj1" fmla="val 58333"/>
              <a:gd name="adj2" fmla="val 35767"/>
            </a:avLst>
          </a:prstGeom>
          <a:solidFill>
            <a:srgbClr val="ff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! platform con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checker dir="horz"/>
      </p:transition>
    </mc:Choice>
    <mc:Fallback>
      <p:transition spd="slow">
        <p:checker dir="horz"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dition 2 – truly international req.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Drafting Extension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XM-4] - IFC drafting extension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Korea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HVAC Extension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BS-7] - HVAC Performance Validation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inland/Germany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BS-8] - HVAC Modelling and Simulation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SA/Finland/Germany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CS-4] - Code Compliance Support 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Singapore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EL-1] - Electrical Extension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Norway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Structural Extension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1] - Steel Frame Structures 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inland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2] - Reinforced Concrete Structures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Japan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3] - Precast Concrete Construction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inland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4] - Structural Analysis + Steel Structures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Germany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Facilities Management Extension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FM-1] - Engineering Maintenance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K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FM-8] - Costs, Accounts and Financial in FM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SA/UK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PM-3] - Project Specifications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SA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ample – structural engineering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635280" y="2347920"/>
            <a:ext cx="2160720" cy="21607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  <a:ea typeface="굴림"/>
              </a:rPr>
              <a:t>IFC2</a:t>
            </a:r>
            <a:r>
              <a:rPr b="1" lang="en-GB" sz="2400" spc="-1" strike="noStrike">
                <a:solidFill>
                  <a:srgbClr val="ff0000"/>
                </a:solidFill>
                <a:latin typeface="Arial Black"/>
                <a:ea typeface="굴림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987640" y="3537000"/>
            <a:ext cx="1300320" cy="1303200"/>
          </a:xfrm>
          <a:prstGeom prst="ellipse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Black"/>
                <a:ea typeface="굴림"/>
              </a:rPr>
              <a:t>ST-4/2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Steel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IFC2x2/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122720" y="5445000"/>
            <a:ext cx="1184400" cy="941400"/>
            <a:chOff x="4122720" y="5445000"/>
            <a:chExt cx="1184400" cy="941400"/>
          </a:xfrm>
        </p:grpSpPr>
        <p:grpSp>
          <p:nvGrpSpPr>
            <p:cNvPr id="185" name=""/>
            <p:cNvGrpSpPr/>
            <p:nvPr/>
          </p:nvGrpSpPr>
          <p:grpSpPr>
            <a:xfrm>
              <a:off x="4122720" y="5913360"/>
              <a:ext cx="1184400" cy="473040"/>
              <a:chOff x="4122720" y="5913360"/>
              <a:chExt cx="1184400" cy="473040"/>
            </a:xfrm>
          </p:grpSpPr>
          <p:sp>
            <p:nvSpPr>
              <p:cNvPr id="186" name=""/>
              <p:cNvSpPr/>
              <p:nvPr/>
            </p:nvSpPr>
            <p:spPr>
              <a:xfrm>
                <a:off x="4122720" y="5950440"/>
                <a:ext cx="1184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 Rounded MT Bold"/>
                    <a:ea typeface="바탕"/>
                  </a:rPr>
                  <a:t>Structural</a:t>
                </a:r>
                <a:br>
                  <a:rPr sz="1000"/>
                </a:br>
                <a:r>
                  <a:rPr b="1" lang="en-GB" sz="1000" spc="-1" strike="noStrike">
                    <a:solidFill>
                      <a:srgbClr val="000000"/>
                    </a:solidFill>
                    <a:latin typeface="Arial Rounded MT Bold"/>
                    <a:ea typeface="바탕"/>
                  </a:rPr>
                  <a:t>Engine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122720" y="5913360"/>
                <a:ext cx="1184400" cy="473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4716360" y="5445000"/>
              <a:ext cx="0" cy="46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1211400" y="2968560"/>
            <a:ext cx="2923920" cy="2795760"/>
            <a:chOff x="1211400" y="2968560"/>
            <a:chExt cx="2923920" cy="2795760"/>
          </a:xfrm>
        </p:grpSpPr>
        <p:grpSp>
          <p:nvGrpSpPr>
            <p:cNvPr id="190" name=""/>
            <p:cNvGrpSpPr/>
            <p:nvPr/>
          </p:nvGrpSpPr>
          <p:grpSpPr>
            <a:xfrm>
              <a:off x="1581120" y="2968560"/>
              <a:ext cx="1536840" cy="776520"/>
              <a:chOff x="1581120" y="2968560"/>
              <a:chExt cx="1536840" cy="77652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1581120" y="2968560"/>
                <a:ext cx="1182600" cy="474840"/>
                <a:chOff x="1581120" y="2968560"/>
                <a:chExt cx="1182600" cy="47484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1582200" y="3005640"/>
                  <a:ext cx="118116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heck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Engine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581120" y="2968560"/>
                  <a:ext cx="118260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" name=""/>
              <p:cNvSpPr/>
              <p:nvPr/>
            </p:nvSpPr>
            <p:spPr>
              <a:xfrm>
                <a:off x="2674800" y="3367080"/>
                <a:ext cx="443160" cy="37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1211400" y="3639960"/>
              <a:ext cx="1752480" cy="473400"/>
              <a:chOff x="1211400" y="3639960"/>
              <a:chExt cx="1752480" cy="4734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1211400" y="3639960"/>
                <a:ext cx="1184040" cy="473400"/>
                <a:chOff x="1211400" y="3639960"/>
                <a:chExt cx="1184040" cy="47340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1211400" y="367704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         </a:t>
                  </a: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Desig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 (Steel)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211400" y="3639960"/>
                  <a:ext cx="1184040" cy="4734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9" name=""/>
              <p:cNvSpPr/>
              <p:nvPr/>
            </p:nvSpPr>
            <p:spPr>
              <a:xfrm>
                <a:off x="2416320" y="3921120"/>
                <a:ext cx="547560" cy="16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1300320" y="4359240"/>
              <a:ext cx="1677960" cy="474840"/>
              <a:chOff x="1300320" y="4359240"/>
              <a:chExt cx="1677960" cy="47484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1300320" y="4359240"/>
                <a:ext cx="1184040" cy="474840"/>
                <a:chOff x="1300320" y="4359240"/>
                <a:chExt cx="1184040" cy="47484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1300320" y="439632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Detail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 (Steel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300320" y="4359240"/>
                  <a:ext cx="118296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" name=""/>
              <p:cNvSpPr/>
              <p:nvPr/>
            </p:nvSpPr>
            <p:spPr>
              <a:xfrm flipV="1">
                <a:off x="2505240" y="4395960"/>
                <a:ext cx="473040" cy="14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1692360" y="4684320"/>
              <a:ext cx="1469880" cy="775080"/>
              <a:chOff x="1692360" y="4684320"/>
              <a:chExt cx="1469880" cy="77508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1692360" y="4987800"/>
                <a:ext cx="1184040" cy="471600"/>
                <a:chOff x="1692360" y="4987800"/>
                <a:chExt cx="1184040" cy="47160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1692360" y="502452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nstructio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Manag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692360" y="4987800"/>
                  <a:ext cx="1182960" cy="4716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" name=""/>
              <p:cNvSpPr/>
              <p:nvPr/>
            </p:nvSpPr>
            <p:spPr>
              <a:xfrm flipV="1">
                <a:off x="2787480" y="4684320"/>
                <a:ext cx="374760" cy="392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2951280" y="4890960"/>
              <a:ext cx="1184040" cy="873360"/>
              <a:chOff x="2951280" y="4890960"/>
              <a:chExt cx="1184040" cy="873360"/>
            </a:xfrm>
          </p:grpSpPr>
          <p:sp>
            <p:nvSpPr>
              <p:cNvPr id="211" name=""/>
              <p:cNvSpPr/>
              <p:nvPr/>
            </p:nvSpPr>
            <p:spPr>
              <a:xfrm flipV="1">
                <a:off x="3522600" y="4890960"/>
                <a:ext cx="26640" cy="37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2951280" y="5291280"/>
                <a:ext cx="1184040" cy="473040"/>
                <a:chOff x="2951280" y="5291280"/>
                <a:chExt cx="1184040" cy="47304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2951280" y="532836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st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alcul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2951280" y="5291280"/>
                  <a:ext cx="1182960" cy="4730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5" name=""/>
          <p:cNvGrpSpPr/>
          <p:nvPr/>
        </p:nvGrpSpPr>
        <p:grpSpPr>
          <a:xfrm>
            <a:off x="2416320" y="1468440"/>
            <a:ext cx="4600440" cy="1456920"/>
            <a:chOff x="2416320" y="1468440"/>
            <a:chExt cx="4600440" cy="1456920"/>
          </a:xfrm>
        </p:grpSpPr>
        <p:grpSp>
          <p:nvGrpSpPr>
            <p:cNvPr id="216" name=""/>
            <p:cNvGrpSpPr/>
            <p:nvPr/>
          </p:nvGrpSpPr>
          <p:grpSpPr>
            <a:xfrm>
              <a:off x="4124160" y="1468440"/>
              <a:ext cx="1184400" cy="880920"/>
              <a:chOff x="4124160" y="1468440"/>
              <a:chExt cx="1184400" cy="880920"/>
            </a:xfrm>
          </p:grpSpPr>
          <p:sp>
            <p:nvSpPr>
              <p:cNvPr id="217" name=""/>
              <p:cNvSpPr/>
              <p:nvPr/>
            </p:nvSpPr>
            <p:spPr>
              <a:xfrm>
                <a:off x="4124160" y="1468440"/>
                <a:ext cx="1184400" cy="473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Archit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716360" y="1952640"/>
                <a:ext cx="0" cy="396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5224320" y="1773360"/>
              <a:ext cx="1184400" cy="755640"/>
              <a:chOff x="5224320" y="1773360"/>
              <a:chExt cx="1184400" cy="755640"/>
            </a:xfrm>
          </p:grpSpPr>
          <p:sp>
            <p:nvSpPr>
              <p:cNvPr id="220" name=""/>
              <p:cNvSpPr/>
              <p:nvPr/>
            </p:nvSpPr>
            <p:spPr>
              <a:xfrm>
                <a:off x="5224320" y="1773360"/>
                <a:ext cx="1184400" cy="476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Facility</a:t>
                </a:r>
                <a:br>
                  <a:rPr sz="1200"/>
                </a:b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Manag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5292720" y="2205000"/>
                <a:ext cx="216000" cy="32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5688000" y="2313000"/>
              <a:ext cx="1328760" cy="612360"/>
              <a:chOff x="5688000" y="2313000"/>
              <a:chExt cx="1328760" cy="612360"/>
            </a:xfrm>
          </p:grpSpPr>
          <p:sp>
            <p:nvSpPr>
              <p:cNvPr id="223" name=""/>
              <p:cNvSpPr/>
              <p:nvPr/>
            </p:nvSpPr>
            <p:spPr>
              <a:xfrm>
                <a:off x="5832360" y="2313000"/>
                <a:ext cx="1184400" cy="476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other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disciplin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5688000" y="2744280"/>
                <a:ext cx="36036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024360" y="1773360"/>
              <a:ext cx="1184040" cy="755640"/>
              <a:chOff x="3024360" y="1773360"/>
              <a:chExt cx="1184040" cy="755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024360" y="1773360"/>
                <a:ext cx="1184040" cy="473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Project</a:t>
                </a:r>
                <a:br>
                  <a:rPr sz="1200"/>
                </a:b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Manag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 flipV="1">
                <a:off x="3887640" y="2205000"/>
                <a:ext cx="216000" cy="32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2416320" y="2313000"/>
              <a:ext cx="1326600" cy="612360"/>
              <a:chOff x="2416320" y="2313000"/>
              <a:chExt cx="1326600" cy="612360"/>
            </a:xfrm>
          </p:grpSpPr>
          <p:sp>
            <p:nvSpPr>
              <p:cNvPr id="229" name=""/>
              <p:cNvSpPr/>
              <p:nvPr/>
            </p:nvSpPr>
            <p:spPr>
              <a:xfrm>
                <a:off x="2416320" y="2313000"/>
                <a:ext cx="1184040" cy="476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HVAC</a:t>
                </a:r>
                <a:br>
                  <a:rPr sz="1200"/>
                </a:b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Designer*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 flipV="1">
                <a:off x="3382560" y="2744280"/>
                <a:ext cx="36036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1" name=""/>
          <p:cNvSpPr/>
          <p:nvPr/>
        </p:nvSpPr>
        <p:spPr>
          <a:xfrm flipH="1">
            <a:off x="5111640" y="3537000"/>
            <a:ext cx="1300320" cy="1303200"/>
          </a:xfrm>
          <a:prstGeom prst="ellipse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Black"/>
                <a:ea typeface="굴림"/>
              </a:rPr>
              <a:t>ST-3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R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IFC2x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259240" y="2968560"/>
            <a:ext cx="2928600" cy="2795760"/>
            <a:chOff x="5259240" y="2968560"/>
            <a:chExt cx="2928600" cy="2795760"/>
          </a:xfrm>
        </p:grpSpPr>
        <p:grpSp>
          <p:nvGrpSpPr>
            <p:cNvPr id="233" name=""/>
            <p:cNvGrpSpPr/>
            <p:nvPr/>
          </p:nvGrpSpPr>
          <p:grpSpPr>
            <a:xfrm>
              <a:off x="6281280" y="2968560"/>
              <a:ext cx="1536840" cy="776520"/>
              <a:chOff x="6281280" y="2968560"/>
              <a:chExt cx="1536840" cy="77652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35520" y="2968560"/>
                <a:ext cx="1182600" cy="474840"/>
                <a:chOff x="6635520" y="2968560"/>
                <a:chExt cx="1182600" cy="474840"/>
              </a:xfrm>
            </p:grpSpPr>
            <p:sp>
              <p:nvSpPr>
                <p:cNvPr id="235" name=""/>
                <p:cNvSpPr/>
                <p:nvPr/>
              </p:nvSpPr>
              <p:spPr>
                <a:xfrm flipH="1">
                  <a:off x="6635520" y="3005640"/>
                  <a:ext cx="118116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heck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Engine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>
                  <a:off x="6635160" y="2968560"/>
                  <a:ext cx="118260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7" name=""/>
              <p:cNvSpPr/>
              <p:nvPr/>
            </p:nvSpPr>
            <p:spPr>
              <a:xfrm flipH="1">
                <a:off x="6281280" y="3367080"/>
                <a:ext cx="443160" cy="37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6435360" y="3639960"/>
              <a:ext cx="1752480" cy="473400"/>
              <a:chOff x="6435360" y="3639960"/>
              <a:chExt cx="1752480" cy="47340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6997320" y="3639960"/>
                <a:ext cx="1190520" cy="473400"/>
                <a:chOff x="6997320" y="3639960"/>
                <a:chExt cx="1190520" cy="473400"/>
              </a:xfrm>
            </p:grpSpPr>
            <p:sp>
              <p:nvSpPr>
                <p:cNvPr id="240" name=""/>
                <p:cNvSpPr/>
                <p:nvPr/>
              </p:nvSpPr>
              <p:spPr>
                <a:xfrm flipH="1">
                  <a:off x="6997320" y="3677040"/>
                  <a:ext cx="11844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Detail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(RC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H="1">
                  <a:off x="7004160" y="3639960"/>
                  <a:ext cx="1183320" cy="4734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2" name=""/>
              <p:cNvSpPr/>
              <p:nvPr/>
            </p:nvSpPr>
            <p:spPr>
              <a:xfrm flipH="1">
                <a:off x="6435360" y="3921120"/>
                <a:ext cx="547560" cy="16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6421320" y="4359240"/>
              <a:ext cx="1677960" cy="474840"/>
              <a:chOff x="6421320" y="4359240"/>
              <a:chExt cx="1677960" cy="474840"/>
            </a:xfrm>
          </p:grpSpPr>
          <p:grpSp>
            <p:nvGrpSpPr>
              <p:cNvPr id="244" name=""/>
              <p:cNvGrpSpPr/>
              <p:nvPr/>
            </p:nvGrpSpPr>
            <p:grpSpPr>
              <a:xfrm>
                <a:off x="6905880" y="4359240"/>
                <a:ext cx="1193400" cy="474840"/>
                <a:chOff x="6905880" y="4359240"/>
                <a:chExt cx="1193400" cy="474840"/>
              </a:xfrm>
            </p:grpSpPr>
            <p:sp>
              <p:nvSpPr>
                <p:cNvPr id="245" name=""/>
                <p:cNvSpPr/>
                <p:nvPr/>
              </p:nvSpPr>
              <p:spPr>
                <a:xfrm flipH="1">
                  <a:off x="6905880" y="4396320"/>
                  <a:ext cx="118368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Fabricatio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(RC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>
                  <a:off x="6917760" y="4359240"/>
                  <a:ext cx="118152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7" name=""/>
              <p:cNvSpPr/>
              <p:nvPr/>
            </p:nvSpPr>
            <p:spPr>
              <a:xfrm flipH="1" flipV="1">
                <a:off x="6421320" y="4395960"/>
                <a:ext cx="473040" cy="14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6237360" y="4684320"/>
              <a:ext cx="1469520" cy="775080"/>
              <a:chOff x="6237360" y="4684320"/>
              <a:chExt cx="1469520" cy="775080"/>
            </a:xfrm>
          </p:grpSpPr>
          <p:grpSp>
            <p:nvGrpSpPr>
              <p:cNvPr id="249" name=""/>
              <p:cNvGrpSpPr/>
              <p:nvPr/>
            </p:nvGrpSpPr>
            <p:grpSpPr>
              <a:xfrm>
                <a:off x="6522840" y="4987800"/>
                <a:ext cx="1184040" cy="471600"/>
                <a:chOff x="6522840" y="4987800"/>
                <a:chExt cx="1184040" cy="471600"/>
              </a:xfrm>
            </p:grpSpPr>
            <p:sp>
              <p:nvSpPr>
                <p:cNvPr id="250" name=""/>
                <p:cNvSpPr/>
                <p:nvPr/>
              </p:nvSpPr>
              <p:spPr>
                <a:xfrm flipH="1">
                  <a:off x="6522480" y="502452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nstructio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Manag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>
                  <a:off x="6523920" y="4987800"/>
                  <a:ext cx="1182960" cy="4716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2" name=""/>
              <p:cNvSpPr/>
              <p:nvPr/>
            </p:nvSpPr>
            <p:spPr>
              <a:xfrm flipH="1" flipV="1">
                <a:off x="6237360" y="4684320"/>
                <a:ext cx="374400" cy="392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5259240" y="4890960"/>
              <a:ext cx="1184400" cy="873360"/>
              <a:chOff x="5259240" y="4890960"/>
              <a:chExt cx="1184400" cy="873360"/>
            </a:xfrm>
          </p:grpSpPr>
          <p:sp>
            <p:nvSpPr>
              <p:cNvPr id="254" name=""/>
              <p:cNvSpPr/>
              <p:nvPr/>
            </p:nvSpPr>
            <p:spPr>
              <a:xfrm flipH="1" flipV="1">
                <a:off x="5844600" y="4890960"/>
                <a:ext cx="27000" cy="37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5" name=""/>
              <p:cNvGrpSpPr/>
              <p:nvPr/>
            </p:nvGrpSpPr>
            <p:grpSpPr>
              <a:xfrm>
                <a:off x="5259240" y="5291280"/>
                <a:ext cx="1184400" cy="473040"/>
                <a:chOff x="5259240" y="5291280"/>
                <a:chExt cx="1184400" cy="473040"/>
              </a:xfrm>
            </p:grpSpPr>
            <p:sp>
              <p:nvSpPr>
                <p:cNvPr id="256" name=""/>
                <p:cNvSpPr/>
                <p:nvPr/>
              </p:nvSpPr>
              <p:spPr>
                <a:xfrm flipH="1">
                  <a:off x="5259240" y="5328360"/>
                  <a:ext cx="11844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st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alcul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H="1">
                  <a:off x="5259960" y="5291280"/>
                  <a:ext cx="1183320" cy="4730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58" name=""/>
          <p:cNvSpPr/>
          <p:nvPr/>
        </p:nvSpPr>
        <p:spPr>
          <a:xfrm>
            <a:off x="4065480" y="4105440"/>
            <a:ext cx="1300320" cy="1303200"/>
          </a:xfrm>
          <a:prstGeom prst="ellipse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ST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C2x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0" y="1028880"/>
            <a:ext cx="3076560" cy="2794680"/>
            <a:chOff x="0" y="1028880"/>
            <a:chExt cx="3076560" cy="2794680"/>
          </a:xfrm>
        </p:grpSpPr>
        <p:sp>
          <p:nvSpPr>
            <p:cNvPr id="260" name=""/>
            <p:cNvSpPr/>
            <p:nvPr/>
          </p:nvSpPr>
          <p:spPr>
            <a:xfrm>
              <a:off x="1776240" y="1596960"/>
              <a:ext cx="1300320" cy="1303560"/>
            </a:xfrm>
            <a:prstGeom prst="ellipse">
              <a:avLst/>
            </a:prstGeom>
            <a:solidFill>
              <a:srgbClr val="ff99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Black"/>
                  <a:ea typeface="굴림"/>
                </a:rPr>
                <a:t>ST-5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imber 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IFC2x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0" y="1028880"/>
              <a:ext cx="2923920" cy="2794680"/>
              <a:chOff x="0" y="1028880"/>
              <a:chExt cx="2923920" cy="279468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369720" y="1028880"/>
                <a:ext cx="1536840" cy="775800"/>
                <a:chOff x="369720" y="1028880"/>
                <a:chExt cx="1536840" cy="775800"/>
              </a:xfrm>
            </p:grpSpPr>
            <p:grpSp>
              <p:nvGrpSpPr>
                <p:cNvPr id="263" name=""/>
                <p:cNvGrpSpPr/>
                <p:nvPr/>
              </p:nvGrpSpPr>
              <p:grpSpPr>
                <a:xfrm>
                  <a:off x="369720" y="1028880"/>
                  <a:ext cx="1182600" cy="474480"/>
                  <a:chOff x="369720" y="1028880"/>
                  <a:chExt cx="1182600" cy="47448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370800" y="1065960"/>
                    <a:ext cx="118116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hecking</a:t>
                    </a: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Engineer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369720" y="1028880"/>
                    <a:ext cx="1182600" cy="47448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6" name=""/>
                <p:cNvSpPr/>
                <p:nvPr/>
              </p:nvSpPr>
              <p:spPr>
                <a:xfrm>
                  <a:off x="1463400" y="1427040"/>
                  <a:ext cx="443160" cy="377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0" y="1699920"/>
                <a:ext cx="1752480" cy="473040"/>
                <a:chOff x="0" y="1699920"/>
                <a:chExt cx="1752480" cy="473040"/>
              </a:xfrm>
            </p:grpSpPr>
            <p:grpSp>
              <p:nvGrpSpPr>
                <p:cNvPr id="268" name=""/>
                <p:cNvGrpSpPr/>
                <p:nvPr/>
              </p:nvGrpSpPr>
              <p:grpSpPr>
                <a:xfrm>
                  <a:off x="0" y="1699920"/>
                  <a:ext cx="1184040" cy="473040"/>
                  <a:chOff x="0" y="1699920"/>
                  <a:chExt cx="1184040" cy="47304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>
                    <a:off x="0" y="173700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(Timber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0" y="1699920"/>
                    <a:ext cx="1184040" cy="47304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1" name=""/>
                <p:cNvSpPr/>
                <p:nvPr/>
              </p:nvSpPr>
              <p:spPr>
                <a:xfrm>
                  <a:off x="1204920" y="1980720"/>
                  <a:ext cx="547560" cy="161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88920" y="2419200"/>
                <a:ext cx="1677960" cy="474480"/>
                <a:chOff x="88920" y="2419200"/>
                <a:chExt cx="1677960" cy="474480"/>
              </a:xfrm>
            </p:grpSpPr>
            <p:grpSp>
              <p:nvGrpSpPr>
                <p:cNvPr id="273" name=""/>
                <p:cNvGrpSpPr/>
                <p:nvPr/>
              </p:nvGrpSpPr>
              <p:grpSpPr>
                <a:xfrm>
                  <a:off x="88920" y="2419200"/>
                  <a:ext cx="1184040" cy="474480"/>
                  <a:chOff x="88920" y="2419200"/>
                  <a:chExt cx="1184040" cy="47448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>
                    <a:off x="88920" y="245628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(Timber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88920" y="2419200"/>
                    <a:ext cx="1182960" cy="47448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6" name=""/>
                <p:cNvSpPr/>
                <p:nvPr/>
              </p:nvSpPr>
              <p:spPr>
                <a:xfrm flipV="1">
                  <a:off x="1293840" y="2455200"/>
                  <a:ext cx="473040" cy="147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480960" y="2744640"/>
                <a:ext cx="1469880" cy="774000"/>
                <a:chOff x="480960" y="2744640"/>
                <a:chExt cx="1469880" cy="774000"/>
              </a:xfrm>
            </p:grpSpPr>
            <p:grpSp>
              <p:nvGrpSpPr>
                <p:cNvPr id="278" name=""/>
                <p:cNvGrpSpPr/>
                <p:nvPr/>
              </p:nvGrpSpPr>
              <p:grpSpPr>
                <a:xfrm>
                  <a:off x="480960" y="3047400"/>
                  <a:ext cx="1184040" cy="471240"/>
                  <a:chOff x="480960" y="3047400"/>
                  <a:chExt cx="1184040" cy="47124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>
                    <a:off x="480960" y="308412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onstruction</a:t>
                    </a: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Manager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480960" y="3047400"/>
                    <a:ext cx="1182960" cy="47124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1" name=""/>
                <p:cNvSpPr/>
                <p:nvPr/>
              </p:nvSpPr>
              <p:spPr>
                <a:xfrm flipV="1">
                  <a:off x="1576080" y="2744640"/>
                  <a:ext cx="374760" cy="391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1739880" y="2950560"/>
                <a:ext cx="1184040" cy="873000"/>
                <a:chOff x="1739880" y="2950560"/>
                <a:chExt cx="1184040" cy="873000"/>
              </a:xfrm>
            </p:grpSpPr>
            <p:sp>
              <p:nvSpPr>
                <p:cNvPr id="283" name=""/>
                <p:cNvSpPr/>
                <p:nvPr/>
              </p:nvSpPr>
              <p:spPr>
                <a:xfrm flipV="1">
                  <a:off x="2311200" y="2950560"/>
                  <a:ext cx="26640" cy="369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4" name=""/>
                <p:cNvGrpSpPr/>
                <p:nvPr/>
              </p:nvGrpSpPr>
              <p:grpSpPr>
                <a:xfrm>
                  <a:off x="1739880" y="3350880"/>
                  <a:ext cx="1184040" cy="472680"/>
                  <a:chOff x="1739880" y="3350880"/>
                  <a:chExt cx="1184040" cy="47268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>
                    <a:off x="1739880" y="338796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ost</a:t>
                    </a: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alculatio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1739880" y="3350880"/>
                    <a:ext cx="1182960" cy="47268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8.14815E-006 L 0.13229 0.28473 E">
                                      <p:cBhvr>
                                        <p:cTn id="200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dition 2 - background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457280" y="882720"/>
            <a:ext cx="6229440" cy="59752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2195640" y="2671920"/>
            <a:ext cx="4752720" cy="3528720"/>
          </a:xfrm>
          <a:custGeom>
            <a:avLst/>
            <a:gdLst/>
            <a:ahLst/>
            <a:rect l="l" t="t" r="r" b="b"/>
            <a:pathLst>
              <a:path w="2994" h="2223">
                <a:moveTo>
                  <a:pt x="0" y="1452"/>
                </a:moveTo>
                <a:lnTo>
                  <a:pt x="0" y="2223"/>
                </a:lnTo>
                <a:lnTo>
                  <a:pt x="2994" y="2223"/>
                </a:lnTo>
                <a:lnTo>
                  <a:pt x="2994" y="1452"/>
                </a:lnTo>
                <a:lnTo>
                  <a:pt x="1815" y="1452"/>
                </a:lnTo>
                <a:lnTo>
                  <a:pt x="1815" y="0"/>
                </a:lnTo>
                <a:lnTo>
                  <a:pt x="1179" y="0"/>
                </a:lnTo>
                <a:lnTo>
                  <a:pt x="1179" y="1452"/>
                </a:lnTo>
                <a:lnTo>
                  <a:pt x="0" y="1452"/>
                </a:lnTo>
                <a:close/>
              </a:path>
            </a:pathLst>
          </a:custGeom>
          <a:solidFill>
            <a:srgbClr val="6699ff">
              <a:alpha val="25000"/>
            </a:srgbClr>
          </a:solidFill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7219800" y="1052640"/>
            <a:ext cx="1924200" cy="3024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91" name=""/>
          <p:cNvSpPr/>
          <p:nvPr/>
        </p:nvSpPr>
        <p:spPr>
          <a:xfrm rot="2722200">
            <a:off x="2122920" y="3933000"/>
            <a:ext cx="1834920" cy="468360"/>
          </a:xfrm>
          <a:prstGeom prst="rightArrow">
            <a:avLst>
              <a:gd name="adj1" fmla="val 50000"/>
              <a:gd name="adj2" fmla="val 97944"/>
            </a:avLst>
          </a:prstGeom>
          <a:solidFill>
            <a:srgbClr val="6699ff">
              <a:alpha val="49000"/>
            </a:srgbClr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 rot="18877800">
            <a:off x="5148000" y="3933000"/>
            <a:ext cx="1834920" cy="468360"/>
          </a:xfrm>
          <a:prstGeom prst="rightArrow">
            <a:avLst>
              <a:gd name="adj1" fmla="val 50000"/>
              <a:gd name="adj2" fmla="val 97944"/>
            </a:avLst>
          </a:prstGeom>
          <a:solidFill>
            <a:srgbClr val="6699ff">
              <a:alpha val="49000"/>
            </a:srgbClr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7640" y="1052640"/>
            <a:ext cx="2124000" cy="2130840"/>
            <a:chOff x="17640" y="1052640"/>
            <a:chExt cx="2124000" cy="2130840"/>
          </a:xfrm>
        </p:grpSpPr>
        <p:pic>
          <p:nvPicPr>
            <p:cNvPr id="294" name="" descr=""/>
            <p:cNvPicPr/>
            <p:nvPr/>
          </p:nvPicPr>
          <p:blipFill>
            <a:blip r:embed="rId3"/>
            <a:stretch/>
          </p:blipFill>
          <p:spPr>
            <a:xfrm>
              <a:off x="17640" y="1052640"/>
              <a:ext cx="2124000" cy="21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86040" y="2784600"/>
              <a:ext cx="198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3333cc"/>
                  </a:solidFill>
                  <a:latin typeface="Arial"/>
                </a:rPr>
                <a:t>ISO/PAS 1673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512800" y="1052640"/>
            <a:ext cx="4118040" cy="1758600"/>
            <a:chOff x="2512800" y="1052640"/>
            <a:chExt cx="4118040" cy="1758600"/>
          </a:xfrm>
        </p:grpSpPr>
        <p:sp>
          <p:nvSpPr>
            <p:cNvPr id="297" name=""/>
            <p:cNvSpPr/>
            <p:nvPr/>
          </p:nvSpPr>
          <p:spPr>
            <a:xfrm rot="12112200">
              <a:off x="2555640" y="2133360"/>
              <a:ext cx="1224000" cy="466560"/>
            </a:xfrm>
            <a:custGeom>
              <a:avLst/>
              <a:gdLst>
                <a:gd name="textAreaLeft" fmla="*/ 191160 w 1224000"/>
                <a:gd name="textAreaRight" fmla="*/ 1071000 w 1224000"/>
                <a:gd name="textAreaTop" fmla="*/ 116640 h 466560"/>
                <a:gd name="textAreaBottom" fmla="*/ 349920 h 46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3950600">
              <a:off x="3150000" y="1646640"/>
              <a:ext cx="1224000" cy="466560"/>
            </a:xfrm>
            <a:custGeom>
              <a:avLst/>
              <a:gdLst>
                <a:gd name="textAreaLeft" fmla="*/ 191160 w 1224000"/>
                <a:gd name="textAreaRight" fmla="*/ 1071000 w 1224000"/>
                <a:gd name="textAreaTop" fmla="*/ 116640 h 466560"/>
                <a:gd name="textAreaBottom" fmla="*/ 349920 h 46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16200000">
              <a:off x="3942360" y="1431000"/>
              <a:ext cx="1224000" cy="466920"/>
            </a:xfrm>
            <a:custGeom>
              <a:avLst/>
              <a:gdLst>
                <a:gd name="textAreaLeft" fmla="*/ 191160 w 1224000"/>
                <a:gd name="textAreaRight" fmla="*/ 1071000 w 1224000"/>
                <a:gd name="textAreaTop" fmla="*/ 116640 h 466920"/>
                <a:gd name="textAreaBottom" fmla="*/ 350280 h 46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4824000" y="1252440"/>
              <a:ext cx="1806840" cy="1558800"/>
              <a:chOff x="4824000" y="1252440"/>
              <a:chExt cx="1806840" cy="1558800"/>
            </a:xfrm>
          </p:grpSpPr>
          <p:sp>
            <p:nvSpPr>
              <p:cNvPr id="301" name=""/>
              <p:cNvSpPr/>
              <p:nvPr/>
            </p:nvSpPr>
            <p:spPr>
              <a:xfrm flipH="1" rot="9487800">
                <a:off x="5364000" y="2133360"/>
                <a:ext cx="1224000" cy="466560"/>
              </a:xfrm>
              <a:custGeom>
                <a:avLst/>
                <a:gdLst>
                  <a:gd name="textAreaLeft" fmla="*/ 191160 w 1224000"/>
                  <a:gd name="textAreaRight" fmla="*/ 1071000 w 1224000"/>
                  <a:gd name="textAreaTop" fmla="*/ 116640 h 466560"/>
                  <a:gd name="textAreaBottom" fmla="*/ 349920 h 46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ff00">
                  <a:alpha val="50000"/>
                </a:srgbClr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rot="7649400">
                <a:off x="4768920" y="1646640"/>
                <a:ext cx="1224000" cy="466560"/>
              </a:xfrm>
              <a:custGeom>
                <a:avLst/>
                <a:gdLst>
                  <a:gd name="textAreaLeft" fmla="*/ 191160 w 1224000"/>
                  <a:gd name="textAreaRight" fmla="*/ 1071000 w 1224000"/>
                  <a:gd name="textAreaTop" fmla="*/ 116640 h 466560"/>
                  <a:gd name="textAreaBottom" fmla="*/ 349920 h 46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ff00">
                  <a:alpha val="50000"/>
                </a:srgbClr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dition 2 - scope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666880" y="6134040"/>
            <a:ext cx="533520" cy="800280"/>
          </a:xfrm>
          <a:custGeom>
            <a:avLst/>
            <a:gdLst/>
            <a:ahLst/>
            <a:rect l="l" t="t" r="r" b="b"/>
            <a:pathLst>
              <a:path w="336" h="504">
                <a:moveTo>
                  <a:pt x="48" y="504"/>
                </a:moveTo>
                <a:cubicBezTo>
                  <a:pt x="24" y="324"/>
                  <a:pt x="0" y="144"/>
                  <a:pt x="48" y="72"/>
                </a:cubicBezTo>
                <a:cubicBezTo>
                  <a:pt x="96" y="0"/>
                  <a:pt x="304" y="72"/>
                  <a:pt x="336" y="72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920" y="1268280"/>
            <a:ext cx="273672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jor ad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2D Draf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HVAC spatial and functional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duc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pi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drainage / se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Structural engine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steel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reinforced concr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Facilities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425680" y="1052640"/>
            <a:ext cx="6718320" cy="4113000"/>
            <a:chOff x="2425680" y="1052640"/>
            <a:chExt cx="6718320" cy="4113000"/>
          </a:xfrm>
        </p:grpSpPr>
        <p:graphicFrame>
          <p:nvGraphicFramePr>
            <p:cNvPr id="307" name=""/>
            <p:cNvGraphicFramePr/>
            <p:nvPr/>
          </p:nvGraphicFramePr>
          <p:xfrm>
            <a:off x="2425680" y="1052640"/>
            <a:ext cx="6718320" cy="38862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30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25680" y="1052640"/>
                      <a:ext cx="671832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9" name=""/>
            <p:cNvSpPr/>
            <p:nvPr/>
          </p:nvSpPr>
          <p:spPr>
            <a:xfrm>
              <a:off x="6012720" y="4797360"/>
              <a:ext cx="288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umber of classes in IF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IFC2x Edition 2 - completenes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979640" y="1020960"/>
            <a:ext cx="6193440" cy="2404800"/>
            <a:chOff x="1979640" y="1020960"/>
            <a:chExt cx="6193440" cy="2404800"/>
          </a:xfrm>
        </p:grpSpPr>
        <p:sp>
          <p:nvSpPr>
            <p:cNvPr id="312" name=""/>
            <p:cNvSpPr/>
            <p:nvPr/>
          </p:nvSpPr>
          <p:spPr>
            <a:xfrm rot="16200000">
              <a:off x="1461240" y="2570040"/>
              <a:ext cx="137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rchitec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6200000">
              <a:off x="1939320" y="2279160"/>
              <a:ext cx="188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uilding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6200000">
              <a:off x="2637720" y="2246040"/>
              <a:ext cx="194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uilding Electr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16200000">
              <a:off x="3161520" y="2034360"/>
              <a:ext cx="236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ructural Enginee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4248000" y="2393280"/>
              <a:ext cx="165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de Check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16200000">
              <a:off x="4789440" y="2199600"/>
              <a:ext cx="203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struction Mgm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6200000">
              <a:off x="5717160" y="2395800"/>
              <a:ext cx="164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acilities Mgm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16200000">
              <a:off x="6752520" y="2702520"/>
              <a:ext cx="103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ibra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16200000">
              <a:off x="7526160" y="274176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raf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21" name=""/>
          <p:cNvGraphicFramePr/>
          <p:nvPr/>
        </p:nvGraphicFramePr>
        <p:xfrm>
          <a:off x="179280" y="2841480"/>
          <a:ext cx="8748720" cy="398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841480"/>
                    <a:ext cx="8748720" cy="39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Certifica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Stage Certification</a:t>
            </a:r>
            <a:endParaRPr b="1" lang="en-US" sz="24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1</a:t>
            </a:r>
            <a:r>
              <a:rPr b="1" lang="en-US" sz="2000" spc="-1" strike="noStrike" baseline="30000">
                <a:solidFill>
                  <a:srgbClr val="00003c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 Step requirement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Certification Workshop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Based on artificial test cases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st Certification Workshop : 24 Oct 2002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7010280" y="1371600"/>
            <a:ext cx="1909800" cy="3000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227640" y="2876400"/>
            <a:ext cx="1908360" cy="3000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27" name=""/>
          <p:cNvSpPr/>
          <p:nvPr/>
        </p:nvSpPr>
        <p:spPr>
          <a:xfrm>
            <a:off x="358920" y="3500280"/>
            <a:ext cx="8456400" cy="29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00003c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 Step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Beta customers to use IFC2x-Interface </a:t>
            </a:r>
            <a:br>
              <a:rPr sz="1800"/>
            </a:b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or 6 months in real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Based on full size 3D project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Approval by these end-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nd Certification Workshop: 7 May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nd-user projects for certifica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0920" y="1258920"/>
            <a:ext cx="420984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Genzentrum (Hospital)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CAD-Stelle Bayern, Building Authority of State of Bavaria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ALLPLAN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4643280" y="1052640"/>
            <a:ext cx="4500720" cy="337500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4500720" cy="295272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4643280" y="2565360"/>
            <a:ext cx="4500720" cy="344952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4"/>
          <a:stretch/>
        </p:blipFill>
        <p:spPr>
          <a:xfrm>
            <a:off x="4643280" y="3303720"/>
            <a:ext cx="4500720" cy="35542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250920" y="4097160"/>
            <a:ext cx="42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Greenwich Union Vill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Taylor Woodrow (constru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Trifo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0920" y="2678040"/>
            <a:ext cx="4209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Munkerud House (Apart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Selvaagbygg (constru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ArchiC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0920" y="5516640"/>
            <a:ext cx="4209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Semidetached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bermeyer Planen+Ber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A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22:38:50Z</dcterms:created>
  <dc:creator>Thomas Liebich</dc:creator>
  <dc:description/>
  <dc:language>en-US</dc:language>
  <cp:lastModifiedBy>User</cp:lastModifiedBy>
  <dcterms:modified xsi:type="dcterms:W3CDTF">2005-03-02T22:31:27Z</dcterms:modified>
  <cp:revision>71</cp:revision>
  <dc:subject/>
  <dc:title>IFC2x Implementation and IFC2x2 Specification</dc:title>
</cp:coreProperties>
</file>